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E66-CE6A-40DB-BE01-26EBBE13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4F9-2137-42E3-BD67-B1A082EF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046-B928-4CD0-9A9E-7082B33F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417-EE1A-4A28-A2BD-B0641E86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FD7B-2712-41E4-8D06-AAF1DB95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1327-6589-4D61-8A61-3083C89E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4382-77A2-4533-B3CB-5CF35839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2BC5-CD90-42BC-B095-E79BDF1E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9799-3437-496E-AC45-416D3EEC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527F-15B8-4DE4-B4AA-723062CC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AB12-78AE-48B2-AFFC-A0625D1D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FD1-4F34-4113-905D-953E27D0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F508-D1D7-491E-A6F2-A79F6AF7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F13C-F0DC-4468-A9DD-9486F8CE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9927-4D77-4F78-9FA5-231A22C0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2D43-B6A1-41FB-ACE8-56F2643E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E36F-43E1-4388-897C-98E8B34B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FC5-488D-4DB1-A7CC-11E80179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E08-2995-4654-8E1F-FE10FA55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D25-A985-4B8C-8974-7871F448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B78-93C6-462D-A211-48A45341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B82-195B-4DE7-95C6-9D31DC85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7F3-223B-409E-9640-545EB38D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D37-5109-4667-AACB-56DB5B24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7A1D-472D-4EB6-9A49-470BE4D36A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Z:\newtek\_backgrounds_1.02\Tim\powerpoint templates\41-60\worldwide_marketplace\elements\worldwide_marketplace_map.gif"/>
          <p:cNvPicPr/>
          <p:nvPr/>
        </p:nvPicPr>
        <p:blipFill>
          <a:blip r:embed="rId3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652B-418A-4410-AD8A-A871E8883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390600" y="1127160"/>
            <a:ext cx="821700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административно-территориального деления в России</a:t>
            </a: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320" y="1341000"/>
            <a:ext cx="8888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лишком большое количество субъектов Федерации, их разноуровневый статус и большие диспропорции в численности населения и площади;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путанная система национально-территориальных образований, лишь весьма отдалённо соответствующая расселению народов России;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гнорирование ряда реальных экономических, транспортных и культурных центров, к которым тяготеют значительные по площади и населению территории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еудобное положение границ между субъектами Федерации, когда территория, тяготеющая к одному субъекту, приписана к другому 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нелогичность системы городских округов (ГО)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отсутствие единообразия в системе районного деления 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нелогичность системы местного самоуправления — она вводится только в сельской местности.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79280" y="259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: 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85 субъектов федерации.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областей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республика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краёв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орода федерального значения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втономная область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автономных округа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files.school-collection.edu.ru/dlrstore/00000c51-1000-4ddd-517d-3600483aebf5/objects/07-1-2/vidy-rajonir-2.jpg"/>
          <p:cNvPicPr/>
          <p:nvPr/>
        </p:nvPicPr>
        <p:blipFill>
          <a:blip r:embed="rId1"/>
          <a:stretch/>
        </p:blipFill>
        <p:spPr>
          <a:xfrm>
            <a:off x="100080" y="549360"/>
            <a:ext cx="90201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45"/>
          <a:stretch/>
        </p:blipFill>
        <p:spPr>
          <a:xfrm>
            <a:off x="0" y="271440"/>
            <a:ext cx="914400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Однородное районирование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83628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единицы административно-территориального деления, по которым собираются и публикуются усредненные статистические данные.</a:t>
            </a:r>
            <a:endParaRPr b="1" lang="en-US" sz="28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9" name="Схема 3" descr=""/>
          <p:cNvPicPr/>
          <p:nvPr/>
        </p:nvPicPr>
        <p:blipFill>
          <a:blip r:embed="rId1"/>
          <a:stretch/>
        </p:blipFill>
        <p:spPr>
          <a:xfrm>
            <a:off x="-73080" y="2487600"/>
            <a:ext cx="9302760" cy="407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Узловое районирование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960" y="685440"/>
            <a:ext cx="831204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 выделение районов в зависимости  от интенсивности хозяйственной деятельности внутри них.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0" t="0" r="44" b="-18"/>
          <a:stretch/>
        </p:blipFill>
        <p:spPr>
          <a:xfrm>
            <a:off x="2948040" y="2133720"/>
            <a:ext cx="6195960" cy="38462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108000" y="1989000"/>
            <a:ext cx="316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выявляет сферы влияния городов, транспортных узлов, предприятий. Каждый узловой район имеет ядро, где отчетливо проявляются все показатели и явления. Интенсивность явления падает от ядра к периферии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Принципы районирования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32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йонов должна распространятся на  объекты одинаковой природы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ирование должно служить конкретной цели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58840" y="981000"/>
          <a:ext cx="8712000" cy="5307120"/>
        </p:xfrm>
        <a:graphic>
          <a:graphicData uri="http://schemas.openxmlformats.org/drawingml/2006/table">
            <a:tbl>
              <a:tblPr/>
              <a:tblGrid>
                <a:gridCol w="453960"/>
                <a:gridCol w="2349360"/>
                <a:gridCol w="5908680"/>
              </a:tblGrid>
              <a:tr h="397800"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федер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нституции 1993 г.: 89 (49 областей, 6 краев, 21 республика, 10 автономных округов, 1 автономная область, 2 города федерального подчинения — Москва, Санкт-Петербур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6 штатов, 2 территории, в т. ч. столич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тивные  Штаты Микронез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шт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(28 штатов и 7 союзных территор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13 штатов и 2 федеральных террит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9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ьян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7 штатов и 7 административных территор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эмира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иста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4 провинции, 2 территории, в т. ч. столич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Прямоугольник 5"/>
          <p:cNvSpPr/>
          <p:nvPr/>
        </p:nvSpPr>
        <p:spPr>
          <a:xfrm>
            <a:off x="108000" y="176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раны с федеративным административно-территориальным устройством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79280" y="1197000"/>
          <a:ext cx="8713800" cy="4280040"/>
        </p:xfrm>
        <a:graphic>
          <a:graphicData uri="http://schemas.openxmlformats.org/drawingml/2006/table">
            <a:tbl>
              <a:tblPr/>
              <a:tblGrid>
                <a:gridCol w="453960"/>
                <a:gridCol w="2349720"/>
                <a:gridCol w="5910120"/>
              </a:tblGrid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федер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ер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ен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23 провинции, 1 федеральный округ — Буэнос-Айрес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(26 штатов,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80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(23 штата, 1 федеральный округ, 1 территория федерального подчинения, состоящая из 72 острово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10 провинций и 3 террит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кс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(31 штат,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(50 штатов и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оп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федеральных кантон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Прямоугольник 5"/>
          <p:cNvSpPr/>
          <p:nvPr/>
        </p:nvSpPr>
        <p:spPr>
          <a:xfrm>
            <a:off x="108000" y="176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раны с федеративным административно-территориальным устройством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00" y="40464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административно-территориальные единицы должны быть:</a:t>
            </a: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41300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крупными, чтобы местные административные службы не поглощали слишком много бюджетных средств;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определенное внутреннее единство, чтобы отражать интересы своих жителей и участвовать в политической жизни страны;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можности тесно следовать прежней сетке АТД для сохранения уже сложившихся общественных связей,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административные единицы должны создаваться с учетом развивающихся экономических центров.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6:09:28Z</dcterms:created>
  <dc:creator>Пользователь Windows</dc:creator>
  <dc:description/>
  <dc:language>en-US</dc:language>
  <cp:lastModifiedBy>Admin</cp:lastModifiedBy>
  <dcterms:modified xsi:type="dcterms:W3CDTF">2020-05-12T22:04:44Z</dcterms:modified>
  <cp:revision>13</cp:revision>
  <dc:subject/>
  <dc:title>Районирование и административно-территориальное де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90000000000010243100207f6000400038000</vt:lpwstr>
  </property>
</Properties>
</file>