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AF8B-BBD1-4B98-9BB8-A941DE508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320" y="3511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3BAB-9E13-4126-B86D-9B115775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9336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2B57-4253-4B98-8BDA-BADD76E0D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5876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4120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32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5876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4120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3AC9-A0F6-401C-9B7D-778192819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A807-B87B-4CBF-B5F0-99E44454F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439C-AD3B-486A-94A8-1F733344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D4D5-AD1C-48E5-A0F2-30B47315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4792-8104-4FC9-B444-87B26123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ACC4-F803-4BE4-A6E3-3AB277AC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320" y="-360"/>
            <a:ext cx="81532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BB7B-76B6-4EDB-8CF3-D6B066DE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2995-7FD1-41D3-8402-F0CBBE3A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82A0-601C-410F-97E9-116228FA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29336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6413-2C7C-4747-89C3-E678F3A5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9DD8-E0BA-4122-9ED7-0BCAC45B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320" y="3511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2599-4D7E-4F44-8CDC-3C745B27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29336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7AF8-D935-46F6-AA0E-E9331E27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85876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4120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32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85876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4120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F6FE-22A3-4C1E-97C5-211F5DDCC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582E-C2EA-4D3B-9E27-C8B91D52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C6B8-8757-4053-82C6-F6C10A7C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196B-5E34-4C2A-B75A-2C0EB8D3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-360"/>
            <a:ext cx="81532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91C9-0196-437C-BFF6-CFDE161B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F239-A2CC-43D1-8F49-B8E3BE18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9336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A9E5-0B91-4785-88F4-6B5B675A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C5B2-AC0E-43C4-B792-0EA9C6B6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Click to edit the outline text format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1" marL="743040" indent="-28584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Second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2" marL="1143000" indent="-22860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Third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3" marL="1600200" indent="-22860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Fourth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4" marL="2057400" indent="-22860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Fifth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Sixth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Seventh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0CDF-1CE1-4C70-B032-8B7A1871D4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Z:\newtek\_backgrounds_1.02\Tim\powerpoint templates\41-60\worldwide_marketplace\elements\worldwide_marketplace_map.gif"/>
          <p:cNvPicPr/>
          <p:nvPr/>
        </p:nvPicPr>
        <p:blipFill>
          <a:blip r:embed="rId3"/>
          <a:stretch/>
        </p:blipFill>
        <p:spPr>
          <a:xfrm>
            <a:off x="6400800" y="4827600"/>
            <a:ext cx="2743200" cy="129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Click to edit the outline text format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1" marL="743040" indent="-28584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Second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2" marL="1143000" indent="-22860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Third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3" marL="1600200" indent="-22860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Fourth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4" marL="2057400" indent="-22860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Fifth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Sixth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Seventh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D479-CF51-4EC8-B5E1-A3315D07C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390600" y="1127160"/>
            <a:ext cx="8217000" cy="345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административно-территориального деления в России</a:t>
            </a:r>
            <a:endParaRPr b="0" lang="en-US" sz="32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6320" y="1341000"/>
            <a:ext cx="8888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слишком большое количество субъектов Федерации, их разноуровневый статус и большие диспропорции в численности населения и площади;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запутанная система национально-территориальных образований, лишь весьма отдалённо соответствующая расселению народов России;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игнорирование ряда реальных экономических, транспортных и культурных центров, к которым тяготеют значительные по площади и населению территории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неудобное положение границ между субъектами Федерации, когда территория, тяготеющая к одному субъекту, приписана к другому 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нелогичность системы городских округов (ГО)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отсутствие единообразия в системе районного деления 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нелогичность системы местного самоуправления — она вводится только в сельской местности.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79280" y="259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0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: 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и 85 субъектов федерации.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</a:t>
            </a:r>
            <a:endParaRPr b="1" lang="en-US" sz="32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 областей, </a:t>
            </a:r>
            <a:endParaRPr b="1" lang="en-US" sz="32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 республика, </a:t>
            </a:r>
            <a:endParaRPr b="1" lang="en-US" sz="32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краёв, </a:t>
            </a:r>
            <a:endParaRPr b="1" lang="en-US" sz="32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города федерального значения, </a:t>
            </a:r>
            <a:endParaRPr b="1" lang="en-US" sz="32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автономная область, </a:t>
            </a:r>
            <a:endParaRPr b="1" lang="en-US" sz="32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автономных округа</a:t>
            </a:r>
            <a:endParaRPr b="1" lang="en-US" sz="3200" spc="-1" strike="noStrike">
              <a:solidFill>
                <a:srgbClr val="4d4d4d"/>
              </a:solidFill>
              <a:latin typeface="Franklin Gothic Dem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files.school-collection.edu.ru/dlrstore/00000c51-1000-4ddd-517d-3600483aebf5/objects/07-1-2/vidy-rajonir-2.jpg"/>
          <p:cNvPicPr/>
          <p:nvPr/>
        </p:nvPicPr>
        <p:blipFill>
          <a:blip r:embed="rId1"/>
          <a:stretch/>
        </p:blipFill>
        <p:spPr>
          <a:xfrm>
            <a:off x="100080" y="549360"/>
            <a:ext cx="9020160" cy="424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rcRect l="0" t="0" r="0" b="45"/>
          <a:stretch/>
        </p:blipFill>
        <p:spPr>
          <a:xfrm>
            <a:off x="0" y="271440"/>
            <a:ext cx="9144000" cy="448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Haettenschweiler"/>
              </a:rPr>
              <a:t>Однородное районирование</a:t>
            </a: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0" y="836280"/>
            <a:ext cx="822960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ъект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единицы административно-территориального деления, по которым собираются и публикуются усредненные статистические данные.</a:t>
            </a:r>
            <a:endParaRPr b="1" lang="en-US" sz="2800" spc="-1" strike="noStrike">
              <a:solidFill>
                <a:srgbClr val="4d4d4d"/>
              </a:solidFill>
              <a:latin typeface="Franklin Gothic Demi"/>
            </a:endParaRPr>
          </a:p>
        </p:txBody>
      </p:sp>
      <p:pic>
        <p:nvPicPr>
          <p:cNvPr id="89" name="Схема 3" descr=""/>
          <p:cNvPicPr/>
          <p:nvPr/>
        </p:nvPicPr>
        <p:blipFill>
          <a:blip r:embed="rId1"/>
          <a:stretch/>
        </p:blipFill>
        <p:spPr>
          <a:xfrm>
            <a:off x="-73080" y="2487600"/>
            <a:ext cx="9302760" cy="4078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Haettenschweiler"/>
              </a:rPr>
              <a:t>Узловое районирование</a:t>
            </a: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5960" y="685440"/>
            <a:ext cx="8312040" cy="115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т  выделение районов в зависимости  от интенсивности хозяйственной деятельности внутри них.</a:t>
            </a:r>
            <a:endParaRPr b="1" lang="en-US" sz="2400" spc="-1" strike="noStrike">
              <a:solidFill>
                <a:srgbClr val="4d4d4d"/>
              </a:solidFill>
              <a:latin typeface="Franklin Gothic Dem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rcRect l="0" t="0" r="44" b="-18"/>
          <a:stretch/>
        </p:blipFill>
        <p:spPr>
          <a:xfrm>
            <a:off x="2948040" y="2133720"/>
            <a:ext cx="6195960" cy="384624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3"/>
          <p:cNvSpPr/>
          <p:nvPr/>
        </p:nvSpPr>
        <p:spPr>
          <a:xfrm>
            <a:off x="108000" y="1989000"/>
            <a:ext cx="316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 выявляет сферы влияния городов, транспортных узлов, предприятий. Каждый узловой район имеет ядро, где отчетливо проявляются все показатели и явления. Интенсивность явления падает от ядра к периферии.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Haettenschweiler"/>
              </a:rPr>
              <a:t>Принципы районирования</a:t>
            </a: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6320" y="90756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ерывность,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районов должна распространятся на  объекты одинаковой природы,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йонирование должно служить конкретной цели,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258840" y="981000"/>
          <a:ext cx="8712000" cy="5307120"/>
        </p:xfrm>
        <a:graphic>
          <a:graphicData uri="http://schemas.openxmlformats.org/drawingml/2006/table">
            <a:tbl>
              <a:tblPr/>
              <a:tblGrid>
                <a:gridCol w="453960"/>
                <a:gridCol w="2349360"/>
                <a:gridCol w="5908680"/>
              </a:tblGrid>
              <a:tr h="397800"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ц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убъектов федера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17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йская Федерац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онституции 1993 г.: 89 (49 областей, 6 краев, 21 республика, 10 автономных округов, 1 автономная область, 2 города федерального подчинения — Москва, Санкт-Петербург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88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 и Океани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(6 штатов, 2 территории, в т. ч. столичная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88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тивные  Штаты Микронез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шта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и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(28 штатов и 7 союзных территорий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айз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(13 штатов и 2 федеральных территории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09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ьян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(7 штатов и 7 административных территорий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АЭ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эмират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киста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(4 провинции, 2 территории, в т. ч. столичная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Прямоугольник 5"/>
          <p:cNvSpPr/>
          <p:nvPr/>
        </p:nvSpPr>
        <p:spPr>
          <a:xfrm>
            <a:off x="108000" y="17640"/>
            <a:ext cx="88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Demi"/>
              </a:rPr>
              <a:t>Страны с федеративным административно-территориальным устройством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79280" y="1197000"/>
          <a:ext cx="8713800" cy="4280040"/>
        </p:xfrm>
        <a:graphic>
          <a:graphicData uri="http://schemas.openxmlformats.org/drawingml/2006/table">
            <a:tbl>
              <a:tblPr/>
              <a:tblGrid>
                <a:gridCol w="453960"/>
                <a:gridCol w="2349720"/>
                <a:gridCol w="5910120"/>
              </a:tblGrid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ц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убъектов федера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ерик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88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гентин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(23 провинции, 1 федеральный округ — Буэнос-Айрес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зил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(26 штатов, 1 федеральный округ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680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несуэл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(23 штата, 1 федеральный округ, 1 территория федерального подчинения, состоящая из 72 островов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(10 провинций и 3 территории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кси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(31 штат, 1 федеральный округ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 (50 штатов и 1 федеральный округ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вроп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федеральных кантон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Прямоугольник 5"/>
          <p:cNvSpPr/>
          <p:nvPr/>
        </p:nvSpPr>
        <p:spPr>
          <a:xfrm>
            <a:off x="108000" y="17640"/>
            <a:ext cx="88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Demi"/>
              </a:rPr>
              <a:t>Страны с федеративным административно-территориальным устройством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00" y="40464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административно-территориальные единицы должны быть:</a:t>
            </a:r>
            <a:endParaRPr b="0" lang="en-US" sz="32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24000" y="141300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точно крупными, чтобы местные административные службы не поглощали слишком много бюджетных средств;</a:t>
            </a:r>
            <a:endParaRPr b="1" lang="en-US" sz="2400" spc="-1" strike="noStrike">
              <a:solidFill>
                <a:srgbClr val="4d4d4d"/>
              </a:solidFill>
              <a:latin typeface="Franklin Gothic Dem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ть определенное внутреннее единство, чтобы отражать интересы своих жителей и участвовать в политической жизни страны;</a:t>
            </a:r>
            <a:endParaRPr b="1" lang="en-US" sz="2400" spc="-1" strike="noStrike">
              <a:solidFill>
                <a:srgbClr val="4d4d4d"/>
              </a:solidFill>
              <a:latin typeface="Franklin Gothic Dem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зможности тесно следовать прежней сетке АТД для сохранения уже сложившихся общественных связей,</a:t>
            </a:r>
            <a:endParaRPr b="1" lang="en-US" sz="2400" spc="-1" strike="noStrike">
              <a:solidFill>
                <a:srgbClr val="4d4d4d"/>
              </a:solidFill>
              <a:latin typeface="Franklin Gothic Dem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административные единицы должны создаваться с учетом развивающихся экономических центров.</a:t>
            </a:r>
            <a:endParaRPr b="1" lang="en-US" sz="2400" spc="-1" strike="noStrike">
              <a:solidFill>
                <a:srgbClr val="4d4d4d"/>
              </a:solidFill>
              <a:latin typeface="Franklin Gothic Dem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9T16:09:28Z</dcterms:created>
  <dc:creator>Пользователь Windows</dc:creator>
  <dc:description/>
  <dc:language>en-US</dc:language>
  <cp:lastModifiedBy>Admin</cp:lastModifiedBy>
  <dcterms:modified xsi:type="dcterms:W3CDTF">2020-05-12T22:04:44Z</dcterms:modified>
  <cp:revision>13</cp:revision>
  <dc:subject/>
  <dc:title>Районирование и административно-территориальное дел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90000000000010243100207f6000400038000</vt:lpwstr>
  </property>
</Properties>
</file>