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DCF-7AE4-4B81-939A-A1595E71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517-16C7-4059-B3DE-11487115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FEE-D313-41E4-BF37-89EA15C4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8A1-EE88-48AA-88EA-5CFE0B46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1EBD-D9D4-4BCF-AB9D-5C8AFE09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6E66-B550-42A9-B128-F232E002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4EB-3EAF-4D03-AD72-305B9704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C9CA-33CB-417C-8699-DE79C72A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8494-294E-400F-BCCD-B1AE4165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CDAB-9535-4B02-B825-970E5CE7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FCD2-B356-4F65-9A22-ECFEB8DC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D5B-2167-4971-B64E-AD1F1DDF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A794-5E7D-403A-A36A-CEEA0A56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0338-327B-42F5-8620-3FA99EA8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8358-E867-4E5F-845A-8C756019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E2C9-453B-4D9C-9DAD-AD906EC4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389E-AB56-4FE3-9353-D838F106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189-9288-4C42-91F5-41F7F0B1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9E0-E12D-43FB-BFEA-BE821C05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3C9-51D9-4366-8E0E-4352038A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CEF-9802-4359-AD0C-D298AD7B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F06-ECD9-43B8-BC59-65999DC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A88-3ECB-4866-BEA8-A2B40071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-108000"/>
            <a:ext cx="81532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D22-8BDA-44BF-9901-611B3AC4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36FE-A2A7-4050-AF70-7059E9E89F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Z:\newtek\_backgrounds_1.02\Tim\powerpoint templates\41-60\worldwide_marketplace\elements\worldwide_marketplace_map.gif"/>
          <p:cNvPicPr/>
          <p:nvPr/>
        </p:nvPicPr>
        <p:blipFill>
          <a:blip r:embed="rId3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2B83-B3B0-4CCE-A679-4EAE433CE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390600" y="1127160"/>
            <a:ext cx="821700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административно-территориального деления в России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320" y="1341000"/>
            <a:ext cx="8888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лишком большое количество субъектов Федерации, их разноуровневый статус и большие диспропорции в численности населения и площад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путанная система национально-территориальных образований, лишь весьма отдалённо соответствующая расселению народов России;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гнорирование ряда реальных экономических, транспортных и культурных центров, к которым тяготеют значительные по площади и населению территории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еудобное положение границ между субъектами Федерации, когда территория, тяготеющая к одному субъекту, приписана к другому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елогичность системы городских округов (ГО)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отсутствие единообразия в системе районного деления 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нелогичность системы местного самоуправления — она вводится только в сельской местности.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259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: 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85 субъектов федерации.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областей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республика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раёв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орода федерального значения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втономная область, 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автономных округа</a:t>
            </a:r>
            <a:endParaRPr b="1" lang="en-US" sz="32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files.school-collection.edu.ru/dlrstore/00000c51-1000-4ddd-517d-3600483aebf5/objects/07-1-2/vidy-rajonir-2.jpg"/>
          <p:cNvPicPr/>
          <p:nvPr/>
        </p:nvPicPr>
        <p:blipFill>
          <a:blip r:embed="rId1"/>
          <a:stretch/>
        </p:blipFill>
        <p:spPr>
          <a:xfrm>
            <a:off x="100080" y="549360"/>
            <a:ext cx="90201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45"/>
          <a:stretch/>
        </p:blipFill>
        <p:spPr>
          <a:xfrm>
            <a:off x="0" y="271440"/>
            <a:ext cx="914400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Однородн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83628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диницы административно-территориального деления, по которым собираются и публикуются усредненные статистические данные.</a:t>
            </a:r>
            <a:endParaRPr b="1" lang="en-US" sz="28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9" name="Схема 3" descr=""/>
          <p:cNvPicPr/>
          <p:nvPr/>
        </p:nvPicPr>
        <p:blipFill>
          <a:blip r:embed="rId1"/>
          <a:stretch/>
        </p:blipFill>
        <p:spPr>
          <a:xfrm>
            <a:off x="-73080" y="2487600"/>
            <a:ext cx="930276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Узловое районирование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960" y="685440"/>
            <a:ext cx="831204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 выделение районов в зависимости  от интенсивности хозяйственной деятельности внутри них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0" r="44" b="-18"/>
          <a:stretch/>
        </p:blipFill>
        <p:spPr>
          <a:xfrm>
            <a:off x="2948040" y="2133720"/>
            <a:ext cx="6195960" cy="38462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08000" y="1989000"/>
            <a:ext cx="316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ыявляет сферы влияния городов, транспортных узлов, предприятий. Каждый узловой район имеет ядро, где отчетливо проявляются все показатели и явления. Интенсивность явления падает от ядра к периферии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Haettenschweiler"/>
              </a:rPr>
              <a:t>Принципы районирования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32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йонов должна распространятся на  объекты одинаковой природы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ирование должно служить конкретной цели,</a:t>
            </a: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58840" y="981000"/>
          <a:ext cx="8712000" cy="5307120"/>
        </p:xfrm>
        <a:graphic>
          <a:graphicData uri="http://schemas.openxmlformats.org/drawingml/2006/table">
            <a:tbl>
              <a:tblPr/>
              <a:tblGrid>
                <a:gridCol w="453960"/>
                <a:gridCol w="2349360"/>
                <a:gridCol w="5908680"/>
              </a:tblGrid>
              <a:tr h="39780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итуции 1993 г.: 89 (49 областей, 6 краев, 21 республика, 10 автономных округов, 1 автономная область, 2 города федерального подчинения — Москва, Санкт-Петербур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6 штатов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тивные  Штаты Микронез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шта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(28 штатов и 7 союз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3 штатов и 2 федеральных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ьян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7 штатов и 7 административных территор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эмира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иста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4 провинции, 2 территории, в т. ч. столич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79280" y="1197000"/>
          <a:ext cx="8713800" cy="4280040"/>
        </p:xfrm>
        <a:graphic>
          <a:graphicData uri="http://schemas.openxmlformats.org/drawingml/2006/table">
            <a:tbl>
              <a:tblPr/>
              <a:tblGrid>
                <a:gridCol w="453960"/>
                <a:gridCol w="2349720"/>
                <a:gridCol w="5910120"/>
              </a:tblGrid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убъектов федер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ер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8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енти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23 провинции, 1 федеральный округ — Буэнос-Айрес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(26 штатов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80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(23 штата, 1 федеральный округ, 1 территория федерального подчинения, состоящая из 72 острово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0 провинций и 3 террит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с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(31 штат,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(50 штатов и 1 федеральный округ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оп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9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федеральных кантон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ctr" marL="31680" marR="31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Прямоугольник 5"/>
          <p:cNvSpPr/>
          <p:nvPr/>
        </p:nvSpPr>
        <p:spPr>
          <a:xfrm>
            <a:off x="108000" y="17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Demi"/>
              </a:rPr>
              <a:t>Страны с федеративным административно-территориальным устройством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00" y="40464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о-территориальные единицы должны быть:</a:t>
            </a:r>
            <a:endParaRPr b="0" lang="en-US" sz="32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41300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крупными, чтобы местные административные службы не поглощали слишком много бюджетных средств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определенное внутреннее единство, чтобы отражать интересы своих жителей и участвовать в политической жизни страны;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можности тесно следовать прежней сетке АТД для сохранения уже сложившихся общественных связей,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административные единицы должны создаваться с учетом развивающихся экономических центров.</a:t>
            </a:r>
            <a:endParaRPr b="1" lang="en-US" sz="2400" spc="-1" strike="noStrike">
              <a:solidFill>
                <a:srgbClr val="4d4d4d"/>
              </a:solidFill>
              <a:latin typeface="Franklin Gothic Dem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6:09:28Z</dcterms:created>
  <dc:creator>Пользователь Windows</dc:creator>
  <dc:description/>
  <dc:language>en-US</dc:language>
  <cp:lastModifiedBy>Admin</cp:lastModifiedBy>
  <dcterms:modified xsi:type="dcterms:W3CDTF">2020-05-12T22:04:44Z</dcterms:modified>
  <cp:revision>13</cp:revision>
  <dc:subject/>
  <dc:title>Районирование и административно-территориальное де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90000000000010243100207f6000400038000</vt:lpwstr>
  </property>
</Properties>
</file>