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2ACF-6E1F-4D38-91FF-C4D3CF22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F948-EF0A-479B-8E49-690EC889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3643-6AC6-4FE1-863F-A597E8ECF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4EB5-8731-461B-B905-7F97A678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FE6D-6E82-4ABE-A757-2089025B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B3AA-9ABB-46A8-9AC3-98DAA6E9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945C-2877-4EF1-BB7F-BE29514B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31E-C214-4589-AFA7-6D5ED9BF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4638-36D6-4CEB-90BB-FC941602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03C9-2C08-4E55-848F-959B6E64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ABE1-2AC8-478D-86D0-1A646B20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441A-6F79-4168-B039-C1EA44A1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201C-9F92-4A42-828A-C273A1F8A2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DanishWindTurbine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90;&#1088;&#1086;&#1075;&#1077;&#1085;&#1077;&#1088;&#1072;&#1090;&#1086;&#1088;" TargetMode="External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&#1048;&#1079;&#1086;&#1073;&#1088;&#1072;&#1078;&#1077;&#1085;&#1080;&#1077;:Wind_farm_near_Aina&#382;i,_Latvia.JPG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ИСПОЛЬЗОВАНИЕ ЭНЕРГИИ ДВИЖУЩЕЙСЯ ВОДЫ И ВЕТ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Энергия вет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400px-DanishWindTurbin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924280"/>
            <a:ext cx="75628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062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последнее время многие страны расширяют использование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троэнергетических установо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ВЭУ). Больше всего их в странах Западной Европы (Дания, ФРГ, Великобритания, Нидерланды), в США(Калифорния), в Индии, Кита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тряная электростан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несколько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етрогенератор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обранных в одном, или нескольких местах. Крупные ветряные электростанции могут состоять из 100 и более ветрогенераторов. Иногда ветряные электростанции называют ветряными фермами (от англ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Wind far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00px-Wind_farm_near_Aina%C5%BEi%2C_Latvi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476280"/>
            <a:ext cx="237492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5"/>
          <a:srcRect l="24606" t="11461" r="45100" b="76607"/>
          <a:stretch/>
        </p:blipFill>
        <p:spPr>
          <a:xfrm>
            <a:off x="5076720" y="461880"/>
            <a:ext cx="31672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распространённый в настоящее время тип ветряных электростанций. Ветрогенераторы устанавливаются на холмах или возвышенност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rcRect l="33734" t="27340" r="45692" b="50511"/>
          <a:stretch/>
        </p:blipFill>
        <p:spPr>
          <a:xfrm>
            <a:off x="5796000" y="549360"/>
            <a:ext cx="2286000" cy="345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2"/>
          <a:srcRect l="61832" t="16119" r="4945" b="69680"/>
          <a:stretch/>
        </p:blipFill>
        <p:spPr>
          <a:xfrm>
            <a:off x="4716360" y="4292640"/>
            <a:ext cx="33847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ачалу 2008 года крупнейшей ветряной электростанцией США была Horse Hollow Wind Energy Center в Техасе. Она состояла из 421 ветрогенератора суммарной мощностью 735,5 МВт. Электростанция расположилась на площади 190 км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300px-Lktrwnpck"/>
          <p:cNvPicPr/>
          <p:nvPr/>
        </p:nvPicPr>
        <p:blipFill>
          <a:blip r:embed="rId1"/>
          <a:stretch/>
        </p:blipFill>
        <p:spPr>
          <a:xfrm>
            <a:off x="571680" y="1969920"/>
            <a:ext cx="380988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ономия топли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тряные генераторы практически не потребляют ископаемого топлива. Работа ветрогенератора мощностью 1 МВт за 20 лет эксплуатации позволяет сэкономить примерно 29 тыс. тонн угля или 92 тыс. баррелей неф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300px-EnerconE70-Magedeburg_2005-Steinkopfinsel01"/>
          <p:cNvPicPr/>
          <p:nvPr/>
        </p:nvPicPr>
        <p:blipFill>
          <a:blip r:embed="rId1"/>
          <a:stretch/>
        </p:blipFill>
        <p:spPr>
          <a:xfrm>
            <a:off x="4932360" y="1413000"/>
            <a:ext cx="361332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риливная электростанц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ли́вная электроста́нция (ПЭС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особый вид гидроэлектростанции, использующий энергию приливов, а фактически кинетическую энергию вращения Земли. Приливные электростанции строят на берегах морей, где гравитационные силы Луны и Солнца дважды в сутки изменяют уровень воды. Колебания уровня воды у берега могут достигать 13 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300px-Rance_tidal_power_plant"/>
          <p:cNvPicPr/>
          <p:nvPr/>
        </p:nvPicPr>
        <p:blipFill>
          <a:blip r:embed="rId1"/>
          <a:stretch/>
        </p:blipFill>
        <p:spPr>
          <a:xfrm>
            <a:off x="468360" y="17002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826920" y="486900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ая в мире приливная электростанция Ля Ранс, 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олучения энергии залив или устье реки перекрывают плотиной, в которой установлены гидроагрегаты, которые могут работать как в режиме генератора, так и в режиме насоса (для перекачки воды в водохранилище для последующей работы в отсутствие приливов и отливов). В последнем случае они называются гидроаккумулирующая электростан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114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оссии c 1968 года действует экспери-ментальная ПЭС в Кислой губе на побе-режье Баренцева мо-ря мощностью 0,4 МВт.  ПЭС в Мезенской губе (мощность 15 200 МВт) на Белом море. Высота её плотины  6м длина 93 м 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250px-Coupebarrage_Rance"/>
          <p:cNvPicPr/>
          <p:nvPr/>
        </p:nvPicPr>
        <p:blipFill>
          <a:blip r:embed="rId1"/>
          <a:stretch/>
        </p:blipFill>
        <p:spPr>
          <a:xfrm>
            <a:off x="4500720" y="1916280"/>
            <a:ext cx="4316400" cy="2987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4788000" y="530064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ет приливной электро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Энергия падающей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1 М</a:t>
            </a:r>
            <a:r>
              <a:rPr b="1" lang="ru-RU" sz="4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  воды обладает потенциальной энергией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32130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высоте   124 м – 1000*9,8*124=1215200 Д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Красноярская ГЭС – Росси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дроэлектроста́нция (ГЭС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лектростанция, в качестве источника энергии использующая энергию водного потока. Гидроэлектростанции обычно строят на реках, сооружая плотины и водохранили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шушенская ГЭС"/>
          <p:cNvPicPr/>
          <p:nvPr/>
        </p:nvPicPr>
        <p:blipFill>
          <a:blip r:embed="rId1"/>
          <a:stretch/>
        </p:blipFill>
        <p:spPr>
          <a:xfrm>
            <a:off x="5580000" y="3645000"/>
            <a:ext cx="2664000" cy="1770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братская"/>
          <p:cNvPicPr/>
          <p:nvPr/>
        </p:nvPicPr>
        <p:blipFill>
          <a:blip r:embed="rId2"/>
          <a:stretch/>
        </p:blipFill>
        <p:spPr>
          <a:xfrm>
            <a:off x="900000" y="3860640"/>
            <a:ext cx="3745080" cy="1273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971640" y="5373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атская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5651640" y="551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яно-шушенская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Особ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бестоимость электроэнергии на ГЭС существенно ниже, чем на всех иных видах электростан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ераторы ГЭС можно достаточно быстро включать и выключать в зависимости от потребления энер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Ингури ГЭс"/>
          <p:cNvPicPr/>
          <p:nvPr/>
        </p:nvPicPr>
        <p:blipFill>
          <a:blip r:embed="rId1"/>
          <a:stretch/>
        </p:blipFill>
        <p:spPr>
          <a:xfrm>
            <a:off x="5940360" y="4749840"/>
            <a:ext cx="2160720" cy="1627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284720" y="59500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гури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Гидроэнергетика в ми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2005 год гидроэнергетика обеспечивает производство до 63 % возобновимой и до 19 % всей электроэнергии в мире, установленная гидроэнергетическая мощность достигает 715 ГВ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крупнейшая в ябразилии"/>
          <p:cNvPicPr/>
          <p:nvPr/>
        </p:nvPicPr>
        <p:blipFill>
          <a:blip r:embed="rId1"/>
          <a:stretch/>
        </p:blipFill>
        <p:spPr>
          <a:xfrm>
            <a:off x="1187280" y="4275000"/>
            <a:ext cx="2305080" cy="1733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3635280" y="5589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ая ГЭС в Брази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стройство ГЭ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 003"/>
          <p:cNvPicPr/>
          <p:nvPr/>
        </p:nvPicPr>
        <p:blipFill>
          <a:blip r:embed="rId1"/>
          <a:srcRect l="11167" t="12940" r="45640" b="56281"/>
          <a:stretch/>
        </p:blipFill>
        <p:spPr>
          <a:xfrm>
            <a:off x="468360" y="1628640"/>
            <a:ext cx="4390920" cy="439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RCABAG3OPCAMYDGAHCATIZTP1CA78TVT0CAY833RVCAVRF1DLCA3RZAPYCA2ORLTZCA5XKNS0CAEZQJ6OCAPNECDVCAQQB2OXCA2CL2R8CAA64D5WCAHBO9V5CAGXWRI2CAPQYZRNCAMHV5YZCA80FKLVCAJS7S7O"/>
          <p:cNvPicPr/>
          <p:nvPr/>
        </p:nvPicPr>
        <p:blipFill>
          <a:blip r:embed="rId2"/>
          <a:stretch/>
        </p:blipFill>
        <p:spPr>
          <a:xfrm>
            <a:off x="5076720" y="1268280"/>
            <a:ext cx="3167280" cy="220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Рисунок1"/>
          <p:cNvPicPr/>
          <p:nvPr/>
        </p:nvPicPr>
        <p:blipFill>
          <a:blip r:embed="rId3"/>
          <a:stretch/>
        </p:blipFill>
        <p:spPr>
          <a:xfrm>
            <a:off x="5435640" y="3860640"/>
            <a:ext cx="2473200" cy="2751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6372360" y="2924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урбина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Крупнейшие ГЭС в мир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51973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3290760"/>
                <a:gridCol w="16462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щность,ГВ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годовая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ботка,млрд кВт·ч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н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айп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зилия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гв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р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несуэ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куру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зи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рупнейшие гидроэлектростанции Росс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1233360"/>
          <a:ext cx="8820000" cy="5724720"/>
        </p:xfrm>
        <a:graphic>
          <a:graphicData uri="http://schemas.openxmlformats.org/drawingml/2006/table">
            <a:tbl>
              <a:tblPr/>
              <a:tblGrid>
                <a:gridCol w="2319480"/>
                <a:gridCol w="1460520"/>
                <a:gridCol w="3024000"/>
                <a:gridCol w="2016000"/>
              </a:tblGrid>
              <a:tr h="15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щ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ть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В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годовая выработка, млрд кВт·ч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-ф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яно-Шушен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Енис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Саяногор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аснояр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Енис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Дивногор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рат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Анга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Брат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ть-Илимская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Анга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Усть-Илим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58:36Z</dcterms:created>
  <dc:creator>Алёна</dc:creator>
  <dc:description/>
  <dc:language>en-US</dc:language>
  <cp:lastModifiedBy>Owner</cp:lastModifiedBy>
  <dcterms:modified xsi:type="dcterms:W3CDTF">2015-12-20T02:02:29Z</dcterms:modified>
  <cp:revision>6</cp:revision>
  <dc:subject/>
  <dc:title>Использование энергии движущейся воды и ветра</dc:title>
</cp:coreProperties>
</file>