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1B5B7-B149-488C-B478-4842B4D85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D9FC7-7FD3-4DAA-95CF-33C49792D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91097-EBF1-4796-B066-B957E76EB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B0CF2-F92B-4AE6-BCED-55CE5D2A9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315C8-6606-47C0-A108-8FDB55C1B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A47F2-BE1E-431A-8B02-77C8160D6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A9F63-BD36-4D88-A31A-268228D44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0F8D1-A63B-4DC8-9E20-0FDDF99A3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89A18-9E00-43BE-BFA8-474E9EECE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27954-8CCB-458B-9432-72A8C97FD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2550C-F7F1-4FB4-BD85-54E38EC84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A91F9-649A-43C7-AD53-AE78A3EF8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50000">
              <a:srgbClr val="bbe0e3"/>
            </a:gs>
            <a:gs pos="100000">
              <a:srgbClr val="3399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464D7-121E-484A-857A-DCC38FCC749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8;&#1079;&#1086;&#1073;&#1088;&#1072;&#1078;&#1077;&#1085;&#1080;&#1077;:DanishWindTurbines.jpg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2;&#1077;&#1090;&#1088;&#1086;&#1075;&#1077;&#1085;&#1077;&#1088;&#1072;&#1090;&#1086;&#1088;" TargetMode="External"/><Relationship Id="rId2" Type="http://schemas.openxmlformats.org/officeDocument/2006/relationships/hyperlink" Target="http://ru.wikipedia.org/wiki/&#1040;&#1085;&#1075;&#1083;&#1080;&#1081;&#1089;&#1082;&#1080;&#1081;_&#1103;&#1079;&#1099;&#1082;" TargetMode="External"/><Relationship Id="rId3" Type="http://schemas.openxmlformats.org/officeDocument/2006/relationships/hyperlink" Target="http://ru.wikipedia.org/wiki/&#1048;&#1079;&#1086;&#1073;&#1088;&#1072;&#1078;&#1077;&#1085;&#1080;&#1077;:Wind_farm_near_Aina&#382;i,_Latvia.JPG" TargetMode="External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Arial"/>
              </a:rPr>
              <a:t>ИСПОЛЬЗОВАНИЕ ЭНЕРГИИ ДВИЖУЩЕЙСЯ ВОДЫ И ВЕТР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55640" y="981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Энергия вет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6" descr="400px-DanishWindTurbine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55640" y="2924280"/>
            <a:ext cx="7562880" cy="26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4920" y="2130120"/>
            <a:ext cx="80629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 последнее время многие страны расширяют использование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етроэнергетических установок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(ВЭУ). Больше всего их в странах Западной Европы (Дания, ФРГ, Великобритания, Нидерланды), в США(Калифорния), в Индии, Кита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32400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етряная электростанци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— несколько </a:t>
            </a: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ветрогенераторов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собранных в одном, или нескольких местах. Крупные ветряные электростанции могут состоять из 100 и более ветрогенераторов. Иногда ветряные электростанции называют ветряными фермами (от англ</a:t>
            </a: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Wind farm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200px-Wind_farm_near_Aina%C5%BEi%2C_Latvia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900000" y="476280"/>
            <a:ext cx="2374920" cy="17812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5" descr=""/>
          <p:cNvPicPr/>
          <p:nvPr/>
        </p:nvPicPr>
        <p:blipFill>
          <a:blip r:embed="rId5"/>
          <a:srcRect l="24606" t="11461" r="45100" b="76607"/>
          <a:stretch/>
        </p:blipFill>
        <p:spPr>
          <a:xfrm>
            <a:off x="5076720" y="461880"/>
            <a:ext cx="3167280" cy="17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мый распространённый в настоящее время тип ветряных электростанций. Ветрогенераторы устанавливаются на холмах или возвышенностя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7" descr=""/>
          <p:cNvPicPr/>
          <p:nvPr/>
        </p:nvPicPr>
        <p:blipFill>
          <a:blip r:embed="rId1"/>
          <a:srcRect l="33734" t="27340" r="45692" b="50511"/>
          <a:stretch/>
        </p:blipFill>
        <p:spPr>
          <a:xfrm>
            <a:off x="5796000" y="549360"/>
            <a:ext cx="2286000" cy="34560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8" descr=""/>
          <p:cNvPicPr/>
          <p:nvPr/>
        </p:nvPicPr>
        <p:blipFill>
          <a:blip r:embed="rId2"/>
          <a:srcRect l="61832" t="16119" r="4945" b="69680"/>
          <a:stretch/>
        </p:blipFill>
        <p:spPr>
          <a:xfrm>
            <a:off x="4716360" y="4292640"/>
            <a:ext cx="3384720" cy="20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 началу 2008 года крупнейшей ветряной электростанцией США была Horse Hollow Wind Energy Center в Техасе. Она состояла из 421 ветрогенератора суммарной мощностью 735,5 МВт. Электростанция расположилась на площади 190 км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7" descr="300px-Lktrwnpck"/>
          <p:cNvPicPr/>
          <p:nvPr/>
        </p:nvPicPr>
        <p:blipFill>
          <a:blip r:embed="rId1"/>
          <a:stretch/>
        </p:blipFill>
        <p:spPr>
          <a:xfrm>
            <a:off x="571680" y="1969920"/>
            <a:ext cx="3809880" cy="37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Экономия топли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тряные генераторы практически не потребляют ископаемого топлива. Работа ветрогенератора мощностью 1 МВт за 20 лет эксплуатации позволяет сэкономить примерно 29 тыс. тонн угля или 92 тыс. баррелей неф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300px-EnerconE70-Magedeburg_2005-Steinkopfinsel01"/>
          <p:cNvPicPr/>
          <p:nvPr/>
        </p:nvPicPr>
        <p:blipFill>
          <a:blip r:embed="rId1"/>
          <a:stretch/>
        </p:blipFill>
        <p:spPr>
          <a:xfrm>
            <a:off x="4932360" y="1413000"/>
            <a:ext cx="3613320" cy="48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Приливная электростанция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00720" y="1052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ли́вная электроста́нция (ПЭС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— особый вид гидроэлектростанции, использующий энергию приливов, а фактически кинетическую энергию вращения Земли. Приливные электростанции строят на берегах морей, где гравитационные силы Луны и Солнца дважды в сутки изменяют уровень воды. Колебания уровня воды у берега могут достигать 13 метр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7" descr="300px-Rance_tidal_power_plant"/>
          <p:cNvPicPr/>
          <p:nvPr/>
        </p:nvPicPr>
        <p:blipFill>
          <a:blip r:embed="rId1"/>
          <a:stretch/>
        </p:blipFill>
        <p:spPr>
          <a:xfrm>
            <a:off x="468360" y="1700280"/>
            <a:ext cx="3809880" cy="2857320"/>
          </a:xfrm>
          <a:prstGeom prst="rect">
            <a:avLst/>
          </a:prstGeom>
          <a:ln w="0">
            <a:noFill/>
          </a:ln>
        </p:spPr>
      </p:pic>
      <p:sp>
        <p:nvSpPr>
          <p:cNvPr id="85" name="Text Box 8"/>
          <p:cNvSpPr/>
          <p:nvPr/>
        </p:nvSpPr>
        <p:spPr>
          <a:xfrm>
            <a:off x="826920" y="4869000"/>
            <a:ext cx="302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рупнейшая в мире приливная электростанция Ля Ранс, Фран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ля получения энергии залив или устье реки перекрывают плотиной, в которой установлены гидроагрегаты, которые могут работать как в режиме генератора, так и в режиме насоса (для перекачки воды в водохранилище для последующей работы в отсутствие приливов и отливов). В последнем случае они называются гидроаккумулирующая электростанц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41148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России c 1968 года действует экспери-ментальная ПЭС в Кислой губе на побе-режье Баренцева мо-ря мощностью 0,4 МВт.  ПЭС в Мезенской губе (мощность 15 200 МВт) на Белом море. Высота её плотины  6м длина 93 м .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7" descr="250px-Coupebarrage_Rance"/>
          <p:cNvPicPr/>
          <p:nvPr/>
        </p:nvPicPr>
        <p:blipFill>
          <a:blip r:embed="rId1"/>
          <a:stretch/>
        </p:blipFill>
        <p:spPr>
          <a:xfrm>
            <a:off x="4500720" y="1916280"/>
            <a:ext cx="4316400" cy="2987640"/>
          </a:xfrm>
          <a:prstGeom prst="rect">
            <a:avLst/>
          </a:prstGeom>
          <a:ln w="0">
            <a:noFill/>
          </a:ln>
        </p:spPr>
      </p:pic>
      <p:sp>
        <p:nvSpPr>
          <p:cNvPr id="89" name="Text Box 8"/>
          <p:cNvSpPr/>
          <p:nvPr/>
        </p:nvSpPr>
        <p:spPr>
          <a:xfrm>
            <a:off x="4788000" y="5300640"/>
            <a:ext cx="41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кет приливной электростан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Энергия падающей вод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Arial"/>
              </a:rPr>
              <a:t>1 М</a:t>
            </a:r>
            <a:r>
              <a:rPr b="1" lang="ru-RU" sz="4800" spc="-1" strike="noStrike" baseline="30000">
                <a:solidFill>
                  <a:srgbClr val="0000ff"/>
                </a:solidFill>
                <a:latin typeface="Arial"/>
              </a:rPr>
              <a:t>3</a:t>
            </a:r>
            <a:r>
              <a:rPr b="1" lang="ru-RU" sz="4800" spc="-1" strike="noStrike">
                <a:solidFill>
                  <a:srgbClr val="0000ff"/>
                </a:solidFill>
                <a:latin typeface="Arial"/>
              </a:rPr>
              <a:t>  воды обладает потенциальной энергией</a:t>
            </a:r>
            <a:r>
              <a:rPr b="0" lang="ru-RU" sz="4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360" y="3213000"/>
            <a:ext cx="8229600" cy="21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а высоте   124 м – 1000*9,8*124=1215200 Д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(Красноярская ГЭС – Россия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250920" y="47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идроэлектроста́нция (ГЭС)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— электростанция, в качестве источника энергии использующая энергию водного потока. Гидроэлектростанции обычно строят на реках, сооружая плотины и водохранилищ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шушенская ГЭС"/>
          <p:cNvPicPr/>
          <p:nvPr/>
        </p:nvPicPr>
        <p:blipFill>
          <a:blip r:embed="rId1"/>
          <a:stretch/>
        </p:blipFill>
        <p:spPr>
          <a:xfrm>
            <a:off x="5580000" y="3645000"/>
            <a:ext cx="2664000" cy="17701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" descr="братская"/>
          <p:cNvPicPr/>
          <p:nvPr/>
        </p:nvPicPr>
        <p:blipFill>
          <a:blip r:embed="rId2"/>
          <a:stretch/>
        </p:blipFill>
        <p:spPr>
          <a:xfrm>
            <a:off x="900000" y="3860640"/>
            <a:ext cx="3745080" cy="1273320"/>
          </a:xfrm>
          <a:prstGeom prst="rect">
            <a:avLst/>
          </a:prstGeom>
          <a:ln w="0">
            <a:noFill/>
          </a:ln>
        </p:spPr>
      </p:pic>
      <p:sp>
        <p:nvSpPr>
          <p:cNvPr id="48" name="Text Box 6"/>
          <p:cNvSpPr/>
          <p:nvPr/>
        </p:nvSpPr>
        <p:spPr>
          <a:xfrm>
            <a:off x="971640" y="537372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ратская ГЭ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7"/>
          <p:cNvSpPr/>
          <p:nvPr/>
        </p:nvSpPr>
        <p:spPr>
          <a:xfrm>
            <a:off x="5651640" y="551664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аяно-шушенская ГЭ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Arial"/>
              </a:rPr>
              <a:t>Особеннос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ебестоимость электроэнергии на ГЭС существенно ниже, чем на всех иных видах электростанци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енераторы ГЭС можно достаточно быстро включать и выключать в зависимости от потребления энерги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Ингури ГЭс"/>
          <p:cNvPicPr/>
          <p:nvPr/>
        </p:nvPicPr>
        <p:blipFill>
          <a:blip r:embed="rId1"/>
          <a:stretch/>
        </p:blipFill>
        <p:spPr>
          <a:xfrm>
            <a:off x="5940360" y="4749840"/>
            <a:ext cx="2160720" cy="1627200"/>
          </a:xfrm>
          <a:prstGeom prst="rect">
            <a:avLst/>
          </a:prstGeom>
          <a:ln w="0">
            <a:noFill/>
          </a:ln>
        </p:spPr>
      </p:pic>
      <p:sp>
        <p:nvSpPr>
          <p:cNvPr id="53" name="Text Box 5"/>
          <p:cNvSpPr/>
          <p:nvPr/>
        </p:nvSpPr>
        <p:spPr>
          <a:xfrm>
            <a:off x="4284720" y="595008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гури ГЭ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Гидроэнергетика в мире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 2005 год гидроэнергетика обеспечивает производство до 63 % возобновимой и до 19 % всей электроэнергии в мире, установленная гидроэнергетическая мощность достигает 715 ГВ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крупнейшая в ябразилии"/>
          <p:cNvPicPr/>
          <p:nvPr/>
        </p:nvPicPr>
        <p:blipFill>
          <a:blip r:embed="rId1"/>
          <a:stretch/>
        </p:blipFill>
        <p:spPr>
          <a:xfrm>
            <a:off x="1187280" y="4275000"/>
            <a:ext cx="2305080" cy="1733760"/>
          </a:xfrm>
          <a:prstGeom prst="rect">
            <a:avLst/>
          </a:prstGeom>
          <a:ln w="0">
            <a:noFill/>
          </a:ln>
        </p:spPr>
      </p:pic>
      <p:sp>
        <p:nvSpPr>
          <p:cNvPr id="57" name="Text Box 5"/>
          <p:cNvSpPr/>
          <p:nvPr/>
        </p:nvSpPr>
        <p:spPr>
          <a:xfrm>
            <a:off x="3635280" y="558972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рупнейшая ГЭС в Бразил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Arial"/>
              </a:rPr>
              <a:t>Устройство ГЭ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1 003"/>
          <p:cNvPicPr/>
          <p:nvPr/>
        </p:nvPicPr>
        <p:blipFill>
          <a:blip r:embed="rId1"/>
          <a:srcRect l="11167" t="12940" r="45640" b="56281"/>
          <a:stretch/>
        </p:blipFill>
        <p:spPr>
          <a:xfrm>
            <a:off x="468360" y="1628640"/>
            <a:ext cx="4390920" cy="43927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" descr="RCABAG3OPCAMYDGAHCATIZTP1CA78TVT0CAY833RVCAVRF1DLCA3RZAPYCA2ORLTZCA5XKNS0CAEZQJ6OCAPNECDVCAQQB2OXCA2CL2R8CAA64D5WCAHBO9V5CAGXWRI2CAPQYZRNCAMHV5YZCA80FKLVCAJS7S7O"/>
          <p:cNvPicPr/>
          <p:nvPr/>
        </p:nvPicPr>
        <p:blipFill>
          <a:blip r:embed="rId2"/>
          <a:stretch/>
        </p:blipFill>
        <p:spPr>
          <a:xfrm>
            <a:off x="5076720" y="1268280"/>
            <a:ext cx="3167280" cy="22035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7" descr="Рисунок1"/>
          <p:cNvPicPr/>
          <p:nvPr/>
        </p:nvPicPr>
        <p:blipFill>
          <a:blip r:embed="rId3"/>
          <a:stretch/>
        </p:blipFill>
        <p:spPr>
          <a:xfrm>
            <a:off x="5435640" y="3860640"/>
            <a:ext cx="2473200" cy="2751120"/>
          </a:xfrm>
          <a:prstGeom prst="rect">
            <a:avLst/>
          </a:prstGeom>
          <a:ln w="0">
            <a:noFill/>
          </a:ln>
        </p:spPr>
      </p:pic>
      <p:sp>
        <p:nvSpPr>
          <p:cNvPr id="62" name="Text Box 8"/>
          <p:cNvSpPr/>
          <p:nvPr/>
        </p:nvSpPr>
        <p:spPr>
          <a:xfrm>
            <a:off x="6372360" y="292428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урбина ГЭ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Крупнейшие ГЭС в мире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457200" y="1600200"/>
          <a:ext cx="8229600" cy="5197320"/>
        </p:xfrm>
        <a:graphic>
          <a:graphicData uri="http://schemas.openxmlformats.org/drawingml/2006/table">
            <a:tbl>
              <a:tblPr/>
              <a:tblGrid>
                <a:gridCol w="1646280"/>
                <a:gridCol w="1646280"/>
                <a:gridCol w="3290760"/>
                <a:gridCol w="1646280"/>
              </a:tblGrid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именование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щность,ГВт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еднегодовая</a:t>
                      </a:r>
                      <a:br>
                        <a:rPr sz="2800"/>
                      </a:b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работка,млрд кВт·ч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еография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аньс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,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,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ита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тайп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,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,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разилия/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арагва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ур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,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енесуэл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укуру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,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разил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Крупнейшие гидроэлектростанции России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0" y="1233360"/>
          <a:ext cx="8820000" cy="5724720"/>
        </p:xfrm>
        <a:graphic>
          <a:graphicData uri="http://schemas.openxmlformats.org/drawingml/2006/table">
            <a:tbl>
              <a:tblPr/>
              <a:tblGrid>
                <a:gridCol w="2319480"/>
                <a:gridCol w="1460520"/>
                <a:gridCol w="3024000"/>
                <a:gridCol w="2016000"/>
              </a:tblGrid>
              <a:tr h="157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именование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щ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ость,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Вт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еднегодовая выработка, млрд кВт·ч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еогра-фия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аяно-Шушенская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,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. Енисе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г. Саяногорск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расноярская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,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. Енисе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г. Дивногорск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ратская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,6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. Ангар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г. Братск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сть-Илимская</a:t>
                      </a: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3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,7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. Ангар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г. Усть-Илимск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8T16:58:36Z</dcterms:created>
  <dc:creator>Алёна</dc:creator>
  <dc:description/>
  <dc:language>en-US</dc:language>
  <cp:lastModifiedBy>Owner</cp:lastModifiedBy>
  <dcterms:modified xsi:type="dcterms:W3CDTF">2015-12-20T02:02:29Z</dcterms:modified>
  <cp:revision>6</cp:revision>
  <dc:subject/>
  <dc:title>Использование энергии движущейся воды и ветра</dc:title>
</cp:coreProperties>
</file>