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851D-B2BF-45E6-BEAE-1FCF3B4B8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D866-DF87-4D29-81CD-0916D415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2CD1-6462-49DF-95BA-BDD7376EB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D3F6-8A3E-4361-99AD-C98056F1A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A935-E7D0-456D-879F-524C5DA6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792E-EBC2-4B23-B18D-B8F41E54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132B-028E-43F7-A0FD-8F11D690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E3CB-C235-4A74-B4E0-942EB6A4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2677-7E0D-4E2E-B8CF-145631C6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193E-BB3D-40E9-9EF8-84967AF6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0F95-DDA9-45EC-90C2-6B52F139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61D1-6863-42DC-87AB-FC9836CC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bbe0e3"/>
            </a:gs>
            <a:gs pos="100000">
              <a:srgbClr val="3399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2F14-39DB-47C2-95E5-9A86229760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DanishWindTurbines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77;&#1090;&#1088;&#1086;&#1075;&#1077;&#1085;&#1077;&#1088;&#1072;&#1090;&#1086;&#1088;" TargetMode="External"/><Relationship Id="rId2" Type="http://schemas.openxmlformats.org/officeDocument/2006/relationships/hyperlink" Target="http://ru.wikipedia.org/wiki/&#1040;&#1085;&#1075;&#1083;&#1080;&#1081;&#1089;&#1082;&#1080;&#1081;_&#1103;&#1079;&#1099;&#1082;" TargetMode="External"/><Relationship Id="rId3" Type="http://schemas.openxmlformats.org/officeDocument/2006/relationships/hyperlink" Target="http://ru.wikipedia.org/wiki/&#1048;&#1079;&#1086;&#1073;&#1088;&#1072;&#1078;&#1077;&#1085;&#1080;&#1077;:Wind_farm_near_Aina&#382;i,_Latvia.JPG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ИСПОЛЬЗОВАНИЕ ЭНЕРГИИ ДВИЖУЩЕЙСЯ ВОДЫ И ВЕТ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Энергия вет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400px-DanishWindTurbin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2924280"/>
            <a:ext cx="756288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2130120"/>
            <a:ext cx="8062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последнее время многие страны расширяют использование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етроэнергетических установок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ВЭУ). Больше всего их в странах Западной Европы (Дания, ФРГ, Великобритания, Нидерланды), в США(Калифорния), в Индии, Кита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тряная электростан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несколько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ветрогенератор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обранных в одном, или нескольких местах. Крупные ветряные электростанции могут состоять из 100 и более ветрогенераторов. Иногда ветряные электростанции называют ветряными фермами (от англ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Wind far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200px-Wind_farm_near_Aina%C5%BEi%2C_Latvi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00000" y="476280"/>
            <a:ext cx="2374920" cy="1781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5"/>
          <a:srcRect l="24606" t="11461" r="45100" b="76607"/>
          <a:stretch/>
        </p:blipFill>
        <p:spPr>
          <a:xfrm>
            <a:off x="5076720" y="461880"/>
            <a:ext cx="31672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й распространённый в настоящее время тип ветряных электростанций. Ветрогенераторы устанавливаются на холмах или возвышенност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rcRect l="33734" t="27340" r="45692" b="50511"/>
          <a:stretch/>
        </p:blipFill>
        <p:spPr>
          <a:xfrm>
            <a:off x="5796000" y="549360"/>
            <a:ext cx="2286000" cy="3456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2"/>
          <a:srcRect l="61832" t="16119" r="4945" b="69680"/>
          <a:stretch/>
        </p:blipFill>
        <p:spPr>
          <a:xfrm>
            <a:off x="4716360" y="4292640"/>
            <a:ext cx="338472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началу 2008 года крупнейшей ветряной электростанцией США была Horse Hollow Wind Energy Center в Техасе. Она состояла из 421 ветрогенератора суммарной мощностью 735,5 МВт. Электростанция расположилась на площади 190 км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300px-Lktrwnpck"/>
          <p:cNvPicPr/>
          <p:nvPr/>
        </p:nvPicPr>
        <p:blipFill>
          <a:blip r:embed="rId1"/>
          <a:stretch/>
        </p:blipFill>
        <p:spPr>
          <a:xfrm>
            <a:off x="571680" y="1969920"/>
            <a:ext cx="380988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кономия топли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тряные генераторы практически не потребляют ископаемого топлива. Работа ветрогенератора мощностью 1 МВт за 20 лет эксплуатации позволяет сэкономить примерно 29 тыс. тонн угля или 92 тыс. баррелей неф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300px-EnerconE70-Magedeburg_2005-Steinkopfinsel01"/>
          <p:cNvPicPr/>
          <p:nvPr/>
        </p:nvPicPr>
        <p:blipFill>
          <a:blip r:embed="rId1"/>
          <a:stretch/>
        </p:blipFill>
        <p:spPr>
          <a:xfrm>
            <a:off x="4932360" y="1413000"/>
            <a:ext cx="3613320" cy="48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риливная электростанц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00720" y="1052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ли́вная электроста́нция (ПЭС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особый вид гидроэлектростанции, использующий энергию приливов, а фактически кинетическую энергию вращения Земли. Приливные электростанции строят на берегах морей, где гравитационные силы Луны и Солнца дважды в сутки изменяют уровень воды. Колебания уровня воды у берега могут достигать 13 мет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300px-Rance_tidal_power_plant"/>
          <p:cNvPicPr/>
          <p:nvPr/>
        </p:nvPicPr>
        <p:blipFill>
          <a:blip r:embed="rId1"/>
          <a:stretch/>
        </p:blipFill>
        <p:spPr>
          <a:xfrm>
            <a:off x="468360" y="17002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8"/>
          <p:cNvSpPr/>
          <p:nvPr/>
        </p:nvSpPr>
        <p:spPr>
          <a:xfrm>
            <a:off x="826920" y="4869000"/>
            <a:ext cx="30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пнейшая в мире приливная электростанция Ля Ранс, Фра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получения энергии залив или устье реки перекрывают плотиной, в которой установлены гидроагрегаты, которые могут работать как в режиме генератора, так и в режиме насоса (для перекачки воды в водохранилище для последующей работы в отсутствие приливов и отливов). В последнем случае они называются гидроаккумулирующая электростан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1148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оссии c 1968 года действует экспери-ментальная ПЭС в Кислой губе на побе-режье Баренцева мо-ря мощностью 0,4 МВт.  ПЭС в Мезенской губе (мощность 15 200 МВт) на Белом море. Высота её плотины  6м длина 93 м 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250px-Coupebarrage_Rance"/>
          <p:cNvPicPr/>
          <p:nvPr/>
        </p:nvPicPr>
        <p:blipFill>
          <a:blip r:embed="rId1"/>
          <a:stretch/>
        </p:blipFill>
        <p:spPr>
          <a:xfrm>
            <a:off x="4500720" y="1916280"/>
            <a:ext cx="4316400" cy="2987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4788000" y="530064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ет приливной электростан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Энергия падающей 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1 М</a:t>
            </a:r>
            <a:r>
              <a:rPr b="1" lang="ru-RU" sz="48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  воды обладает потенциальной энергией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32130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высоте   124 м – 1000*9,8*124=1215200 Д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Красноярская ГЭС – Россия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идроэлектроста́нция (ГЭС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электростанция, в качестве источника энергии использующая энергию водного потока. Гидроэлектростанции обычно строят на реках, сооружая плотины и водохранилищ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шушенская ГЭС"/>
          <p:cNvPicPr/>
          <p:nvPr/>
        </p:nvPicPr>
        <p:blipFill>
          <a:blip r:embed="rId1"/>
          <a:stretch/>
        </p:blipFill>
        <p:spPr>
          <a:xfrm>
            <a:off x="5580000" y="3645000"/>
            <a:ext cx="2664000" cy="1770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братская"/>
          <p:cNvPicPr/>
          <p:nvPr/>
        </p:nvPicPr>
        <p:blipFill>
          <a:blip r:embed="rId2"/>
          <a:stretch/>
        </p:blipFill>
        <p:spPr>
          <a:xfrm>
            <a:off x="900000" y="3860640"/>
            <a:ext cx="3745080" cy="12733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971640" y="537372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атская ГЭ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5651640" y="5516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яно-шушенская ГЭ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Особ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бестоимость электроэнергии на ГЭС существенно ниже, чем на всех иных видах электростанц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ераторы ГЭС можно достаточно быстро включать и выключать в зависимости от потребления энерг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Ингури ГЭс"/>
          <p:cNvPicPr/>
          <p:nvPr/>
        </p:nvPicPr>
        <p:blipFill>
          <a:blip r:embed="rId1"/>
          <a:stretch/>
        </p:blipFill>
        <p:spPr>
          <a:xfrm>
            <a:off x="5940360" y="4749840"/>
            <a:ext cx="2160720" cy="16272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4284720" y="59500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гури ГЭ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Гидроэнергетика в мир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2005 год гидроэнергетика обеспечивает производство до 63 % возобновимой и до 19 % всей электроэнергии в мире, установленная гидроэнергетическая мощность достигает 715 ГВ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крупнейшая в ябразилии"/>
          <p:cNvPicPr/>
          <p:nvPr/>
        </p:nvPicPr>
        <p:blipFill>
          <a:blip r:embed="rId1"/>
          <a:stretch/>
        </p:blipFill>
        <p:spPr>
          <a:xfrm>
            <a:off x="1187280" y="4275000"/>
            <a:ext cx="2305080" cy="17337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3635280" y="5589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пнейшая ГЭС в Бразил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Устройство ГЭ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1 003"/>
          <p:cNvPicPr/>
          <p:nvPr/>
        </p:nvPicPr>
        <p:blipFill>
          <a:blip r:embed="rId1"/>
          <a:srcRect l="11167" t="12940" r="45640" b="56281"/>
          <a:stretch/>
        </p:blipFill>
        <p:spPr>
          <a:xfrm>
            <a:off x="468360" y="1628640"/>
            <a:ext cx="4390920" cy="4392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RCABAG3OPCAMYDGAHCATIZTP1CA78TVT0CAY833RVCAVRF1DLCA3RZAPYCA2ORLTZCA5XKNS0CAEZQJ6OCAPNECDVCAQQB2OXCA2CL2R8CAA64D5WCAHBO9V5CAGXWRI2CAPQYZRNCAMHV5YZCA80FKLVCAJS7S7O"/>
          <p:cNvPicPr/>
          <p:nvPr/>
        </p:nvPicPr>
        <p:blipFill>
          <a:blip r:embed="rId2"/>
          <a:stretch/>
        </p:blipFill>
        <p:spPr>
          <a:xfrm>
            <a:off x="5076720" y="1268280"/>
            <a:ext cx="3167280" cy="2203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Рисунок1"/>
          <p:cNvPicPr/>
          <p:nvPr/>
        </p:nvPicPr>
        <p:blipFill>
          <a:blip r:embed="rId3"/>
          <a:stretch/>
        </p:blipFill>
        <p:spPr>
          <a:xfrm>
            <a:off x="5435640" y="3860640"/>
            <a:ext cx="2473200" cy="27511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6372360" y="2924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урбина ГЭ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Крупнейшие ГЭС в мир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8229600" cy="51973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3290760"/>
                <a:gridCol w="164628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щность,ГВт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годовая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аботка,млрд кВт·ч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нь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та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айп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азилия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агва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ур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несуэ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куру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азил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Крупнейшие гидроэлектростанции Росс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0" y="1233360"/>
          <a:ext cx="8820000" cy="5724720"/>
        </p:xfrm>
        <a:graphic>
          <a:graphicData uri="http://schemas.openxmlformats.org/drawingml/2006/table">
            <a:tbl>
              <a:tblPr/>
              <a:tblGrid>
                <a:gridCol w="2319480"/>
                <a:gridCol w="1460520"/>
                <a:gridCol w="3024000"/>
                <a:gridCol w="2016000"/>
              </a:tblGrid>
              <a:tr h="15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щ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ть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Вт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годовая выработка, млрд кВт·ч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-ф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яно-Шушенска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Енис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г. Саяногорс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асноярска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Енис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г. Дивногорс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ратска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Анга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г. Братс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ть-Илимская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Анга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г. Усть-Илимс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6:58:36Z</dcterms:created>
  <dc:creator>Алёна</dc:creator>
  <dc:description/>
  <dc:language>en-US</dc:language>
  <cp:lastModifiedBy>Owner</cp:lastModifiedBy>
  <dcterms:modified xsi:type="dcterms:W3CDTF">2015-12-20T02:02:29Z</dcterms:modified>
  <cp:revision>6</cp:revision>
  <dc:subject/>
  <dc:title>Использование энергии движущейся воды и ветра</dc:title>
</cp:coreProperties>
</file>