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B104-6241-41F3-B17F-812BADC5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9A2-3650-43A1-B302-AE70F69A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E0A-FE94-4D3F-B7FD-55823E73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FF8-D860-44C2-88BF-ECB7FF65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A186-C7B4-464B-880C-DE556770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EA1-25B3-4172-B11A-2F6F7CE6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F6E-9310-4978-B9E9-A18A54EC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29F-5CD4-46CC-B986-4DA0CB7A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C69-B5AE-494F-8E49-EC8C82F4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FC8-1E64-40CC-8D81-6C313762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6728-26F6-49F2-A647-EFE6B54B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75D-601E-4EAB-B2DA-4BE4C9F2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bbe0e3"/>
            </a:gs>
            <a:gs pos="100000">
              <a:srgbClr val="33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AC05-6927-4AE2-8407-B2C727B5EE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DanishWindTurbine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90;&#1088;&#1086;&#1075;&#1077;&#1085;&#1077;&#1088;&#1072;&#1090;&#1086;&#1088;" TargetMode="External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48;&#1079;&#1086;&#1073;&#1088;&#1072;&#1078;&#1077;&#1085;&#1080;&#1077;:Wind_farm_near_Aina&#382;i,_Latvia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ИСПОЛЬЗОВАНИЕ ЭНЕРГИИ ДВИЖУЩЕЙСЯ ВОДЫ И ВЕТ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нергия ве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400px-DanishWindTurbi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924280"/>
            <a:ext cx="75628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062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оследнее время многие страны расширяют использовани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троэнергетических установо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ВЭУ). Больше всего их в странах Западной Европы (Дания, ФРГ, Великобритания, Нидерланды), в США(Калифорния), в Индии, Кита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ряная электростан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несколько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етрогенера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обранных в одном, или нескольких местах. Крупные ветряные электростанции могут состоять из 100 и более ветрогенераторов. Иногда ветряные электростанции называют ветряными фермами (от англ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Wind far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0px-Wind_farm_near_Aina%C5%BEi%2C_Latvi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47628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5"/>
          <a:srcRect l="24606" t="11461" r="45100" b="76607"/>
          <a:stretch/>
        </p:blipFill>
        <p:spPr>
          <a:xfrm>
            <a:off x="5076720" y="461880"/>
            <a:ext cx="31672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распространённый в настоящее время тип ветряных электростанций. Ветрогенераторы устанавливаются на холмах или возвышенност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rcRect l="33734" t="27340" r="45692" b="50511"/>
          <a:stretch/>
        </p:blipFill>
        <p:spPr>
          <a:xfrm>
            <a:off x="5796000" y="549360"/>
            <a:ext cx="2286000" cy="345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rcRect l="61832" t="16119" r="4945" b="69680"/>
          <a:stretch/>
        </p:blipFill>
        <p:spPr>
          <a:xfrm>
            <a:off x="4716360" y="4292640"/>
            <a:ext cx="33847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ачалу 2008 года крупнейшей ветряной электростанцией США была Horse Hollow Wind Energy Center в Техасе. Она состояла из 421 ветрогенератора суммарной мощностью 735,5 МВт. Электростанция расположилась на площади 190 км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300px-Lktrwnpck"/>
          <p:cNvPicPr/>
          <p:nvPr/>
        </p:nvPicPr>
        <p:blipFill>
          <a:blip r:embed="rId1"/>
          <a:stretch/>
        </p:blipFill>
        <p:spPr>
          <a:xfrm>
            <a:off x="571680" y="1969920"/>
            <a:ext cx="38098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номия топл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тряные генераторы практически не потребляют ископаемого топлива. Работа ветрогенератора мощностью 1 МВт за 20 лет эксплуатации позволяет сэкономить примерно 29 тыс. тонн угля или 92 тыс. баррелей неф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300px-EnerconE70-Magedeburg_2005-Steinkopfinsel01"/>
          <p:cNvPicPr/>
          <p:nvPr/>
        </p:nvPicPr>
        <p:blipFill>
          <a:blip r:embed="rId1"/>
          <a:stretch/>
        </p:blipFill>
        <p:spPr>
          <a:xfrm>
            <a:off x="4932360" y="1413000"/>
            <a:ext cx="361332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иливная электростан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и́вная электроста́нция (ПЭС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собый вид гидроэлектростанции, использующий энергию приливов, а фактически кинетическую энергию вращения Земли. Приливные электростанции строят на берегах морей, где гравитационные силы Луны и Солнца дважды в сутки изменяют уровень воды. Колебания уровня воды у берега могут достигать 13 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300px-Rance_tidal_power_plant"/>
          <p:cNvPicPr/>
          <p:nvPr/>
        </p:nvPicPr>
        <p:blipFill>
          <a:blip r:embed="rId1"/>
          <a:stretch/>
        </p:blipFill>
        <p:spPr>
          <a:xfrm>
            <a:off x="468360" y="1700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826920" y="486900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ая в мире приливная электростанция Ля Ранс, 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лучения энергии залив или устье реки перекрывают плотиной, в которой установлены гидроагрегаты, которые могут работать как в режиме генератора, так и в режиме насоса (для перекачки воды в водохранилище для последующей работы в отсутствие приливов и отливов). В последнем случае они называются гидроаккумулирующая электростан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114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сии c 1968 года действует экспери-ментальная ПЭС в Кислой губе на побе-режье Баренцева мо-ря мощностью 0,4 МВт.  ПЭС в Мезенской губе (мощность 15 200 МВт) на Белом море. Высота её плотины  6м длина 93 м 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250px-Coupebarrage_Rance"/>
          <p:cNvPicPr/>
          <p:nvPr/>
        </p:nvPicPr>
        <p:blipFill>
          <a:blip r:embed="rId1"/>
          <a:stretch/>
        </p:blipFill>
        <p:spPr>
          <a:xfrm>
            <a:off x="4500720" y="1916280"/>
            <a:ext cx="4316400" cy="2987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4788000" y="5300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ет приливной электро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нергия падающей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1 М</a:t>
            </a:r>
            <a:r>
              <a:rPr b="1" lang="ru-RU" sz="48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 воды обладает потенциальной энергией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3213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высоте   124 м – 1000*9,8*124=1215200 Д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Красноярская ГЭС – Росс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дроэлектроста́нция (ГЭС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лектростанция, в качестве источника энергии использующая энергию водного потока. Гидроэлектростанции обычно строят на реках, сооружая плотины и водохранил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шушенская ГЭС"/>
          <p:cNvPicPr/>
          <p:nvPr/>
        </p:nvPicPr>
        <p:blipFill>
          <a:blip r:embed="rId1"/>
          <a:stretch/>
        </p:blipFill>
        <p:spPr>
          <a:xfrm>
            <a:off x="5580000" y="3645000"/>
            <a:ext cx="2664000" cy="177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братская"/>
          <p:cNvPicPr/>
          <p:nvPr/>
        </p:nvPicPr>
        <p:blipFill>
          <a:blip r:embed="rId2"/>
          <a:stretch/>
        </p:blipFill>
        <p:spPr>
          <a:xfrm>
            <a:off x="900000" y="3860640"/>
            <a:ext cx="3745080" cy="1273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971640" y="537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т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651640" y="551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яно-шушен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Особ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бестоимость электроэнергии на ГЭС существенно ниже, чем на всех иных видах электростан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ераторы ГЭС можно достаточно быстро включать и выключать в зависимости от потребления энер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Ингури ГЭс"/>
          <p:cNvPicPr/>
          <p:nvPr/>
        </p:nvPicPr>
        <p:blipFill>
          <a:blip r:embed="rId1"/>
          <a:stretch/>
        </p:blipFill>
        <p:spPr>
          <a:xfrm>
            <a:off x="5940360" y="4749840"/>
            <a:ext cx="2160720" cy="1627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28472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гури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Гидроэнергетика в ми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2005 год гидроэнергетика обеспечивает производство до 63 % возобновимой и до 19 % всей электроэнергии в мире, установленная гидроэнергетическая мощность достигает 715 ГВ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крупнейшая в ябразилии"/>
          <p:cNvPicPr/>
          <p:nvPr/>
        </p:nvPicPr>
        <p:blipFill>
          <a:blip r:embed="rId1"/>
          <a:stretch/>
        </p:blipFill>
        <p:spPr>
          <a:xfrm>
            <a:off x="1187280" y="4275000"/>
            <a:ext cx="2305080" cy="1733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635280" y="5589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ая ГЭС в Брази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стройство Г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 003"/>
          <p:cNvPicPr/>
          <p:nvPr/>
        </p:nvPicPr>
        <p:blipFill>
          <a:blip r:embed="rId1"/>
          <a:srcRect l="11167" t="12940" r="45640" b="56281"/>
          <a:stretch/>
        </p:blipFill>
        <p:spPr>
          <a:xfrm>
            <a:off x="468360" y="1628640"/>
            <a:ext cx="4390920" cy="439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RCABAG3OPCAMYDGAHCATIZTP1CA78TVT0CAY833RVCAVRF1DLCA3RZAPYCA2ORLTZCA5XKNS0CAEZQJ6OCAPNECDVCAQQB2OXCA2CL2R8CAA64D5WCAHBO9V5CAGXWRI2CAPQYZRNCAMHV5YZCA80FKLVCAJS7S7O"/>
          <p:cNvPicPr/>
          <p:nvPr/>
        </p:nvPicPr>
        <p:blipFill>
          <a:blip r:embed="rId2"/>
          <a:stretch/>
        </p:blipFill>
        <p:spPr>
          <a:xfrm>
            <a:off x="5076720" y="1268280"/>
            <a:ext cx="3167280" cy="220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Рисунок1"/>
          <p:cNvPicPr/>
          <p:nvPr/>
        </p:nvPicPr>
        <p:blipFill>
          <a:blip r:embed="rId3"/>
          <a:stretch/>
        </p:blipFill>
        <p:spPr>
          <a:xfrm>
            <a:off x="5435640" y="3860640"/>
            <a:ext cx="2473200" cy="2751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372360" y="292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рбина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Крупнейшие ГЭС в мир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1973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3290760"/>
                <a:gridCol w="1646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ность,ГВ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довая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ка,млрд кВт·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йп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гв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уру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рупнейшие гидроэлектростанции Росс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233360"/>
          <a:ext cx="8820000" cy="5724720"/>
        </p:xfrm>
        <a:graphic>
          <a:graphicData uri="http://schemas.openxmlformats.org/drawingml/2006/table">
            <a:tbl>
              <a:tblPr/>
              <a:tblGrid>
                <a:gridCol w="2319480"/>
                <a:gridCol w="1460520"/>
                <a:gridCol w="3024000"/>
                <a:gridCol w="2016000"/>
              </a:tblGrid>
              <a:tr h="15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ь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В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довая выработка, млрд кВт·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-ф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яно-Шушен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Саяногор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ояр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Енис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Дивногор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ат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нг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Брат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ть-Илимская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Анга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Усть-Илимс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58:36Z</dcterms:created>
  <dc:creator>Алёна</dc:creator>
  <dc:description/>
  <dc:language>en-US</dc:language>
  <cp:lastModifiedBy>Owner</cp:lastModifiedBy>
  <dcterms:modified xsi:type="dcterms:W3CDTF">2015-12-20T02:02:29Z</dcterms:modified>
  <cp:revision>6</cp:revision>
  <dc:subject/>
  <dc:title>Использование энергии движущейся воды и ветра</dc:title>
</cp:coreProperties>
</file>