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B6DA-097B-4E18-BB84-5D39B6999F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4AB3-9E95-4C13-86F6-5A2C1AF1D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2AE-2900-4811-8BA0-D1E6E7C3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C28-F1FE-4411-8EA1-667C44DC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BE9-A9DE-4A7A-886D-B2DBAF7C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EBC-773E-4173-8EE9-4FB4DBA1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638C-9449-4AFD-A903-5BCD90AB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144B-7685-4384-84E8-3A61EAAD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AF01-E046-4B70-984A-31CD16A8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33B0-67CB-42E0-84E9-C8E47FB6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1707-5AF5-490E-B4D6-BB6B6F3F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69E8-4681-458B-8BF3-314CDB30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7FA7-337F-4AF0-B7CF-877918E0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C23-EE83-4A72-8BC9-4733E62A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271D-5356-497D-8738-B7201EC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D1C2-79A9-400C-B682-CD017792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DA1C-1637-42B3-A480-5BE87A78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14C5-0325-4A53-9120-2A45B557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998C-BF5C-4A86-A9F2-EBF6EE4C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EF9B3-BDE9-4142-8893-D29DF24E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6C8FD-3EA8-4299-ACB9-FF8F6192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1793-D40A-4D4D-BFEC-AC62B61F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827DC-C4FE-4EC8-8C68-DDE3A78E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76A54-FAA9-41DA-B1EE-73BC715F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3D8-3762-4D42-855E-A057EF07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73D9-FAD3-4CC7-BB58-76344926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A0B8-8DCE-45F9-B637-F7E92AC0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8F805-511B-438A-BF4F-37B7413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EAB6-5955-4406-AED8-C2927020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3C40-A35D-489A-91FA-0799ED8C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20D4F-83F1-4329-890C-C3F6DE71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C491-5737-49F0-91B1-A54F30D6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8416-FD50-4D7D-B2AB-A88BFE0E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870F3-C735-480F-9BE9-5DBEB8B3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546EC-6B14-4471-AB7B-FDFD0B56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4AD-81C9-4621-A5EB-49DE1CCB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F9A8C-9797-4B73-885F-CAE65A52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D4DE-1B8A-45A4-A3A0-D557548E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F3010-A18F-47C2-A42F-53ACF18D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D28E7-08E8-4E1B-89AB-762C40CD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215B-C644-4C21-998E-53AA71B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D1CC5-9570-4293-8185-2E797434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95BA-A418-4319-A865-1A8903E6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CEDC1-C981-4A2C-BC29-B1AAB19D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CA4E-2AB6-48B4-A199-3DF929C4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7B4DD-4918-440A-A59D-95FDC176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530-12AA-424D-9E19-597D2CF5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355A3-5FF5-45A0-8BD1-8B3C41DD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B385C-5094-4CEC-8933-4BC7E9A2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2F12E-DE77-4F28-B5AB-0912D80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71BF8-54BE-4D15-B781-691C54D0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FCCB3-6CE1-4A23-8E21-28C1BA43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041C3-B5A7-4D4C-9279-FA1B8503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00843-08E7-4336-B371-B923E8D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9E4D1-0E86-4AF8-9C84-6289C815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2051D-12DF-484C-94EC-5867A73A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82095-6E8B-434E-93B3-D9B90D93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064-379A-493C-A0C4-63E2FD2B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99F91-CC04-4017-89D5-68E7C847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CB61C-19E0-438E-8EA6-1DAA25EA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ACF77-200D-4D16-8604-6976B5F7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472B2-10A6-412F-9347-58AEA3E6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6BCD8-650B-4B37-B93F-452A4C89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8F897-93EF-4817-A97D-880827F8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1B941-11A7-4CEC-8D89-8EFDDAF3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44EAC-BC6D-4EB3-A60B-8C98583F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BD19D-6C81-49C9-99F7-F538EAB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29F7E-3689-46D4-8D94-7F8BAAED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E4F-8EF6-46DC-BFCF-11582D37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DCA47-CBB7-488A-B505-1A26AE70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6898D-8945-48DB-9854-7AAC10B0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D50EF-A88E-41D7-A57A-04B72A6A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EE06C-7BBD-4E92-AF07-E55E99E1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7B95A-4A03-482B-85E7-AAEC26F3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C51C4-769B-4FD7-AB30-85A1E6A9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57C7A-DE3F-4228-A9F2-966ECE59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645AF-C964-4F20-9844-DE8720D5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8EBB9-1223-42D9-B13F-18597E77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FA84C-0EE4-405F-937B-98358840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5F8-E3AF-4922-A4D6-D1A03E8D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C041B-1D9C-46B1-96A3-15A59C5A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1D3E9-99CE-4816-90CD-A0A8EE1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463C3-6633-4633-B07D-340A28AA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15CF3-52BB-4EB6-B750-7829203A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150D4-46F6-4BED-9128-4B565D63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5024A-1F2D-4807-844B-ABCC3F06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818DB-0A36-460D-B4F9-0999397E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283DF-E664-4AB2-9EDE-F91450B3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BFC87-C603-41F4-83B4-BE384DAE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38F1C-FF76-48B9-852A-D527F106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DB0-4483-47B7-8EF5-8E4D78A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606F1-9456-437F-93EE-6F1B3A9D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DBCD4-CB8A-4702-B253-7066899D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69749-BAFE-47D4-B881-F1C3DCCA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161E9-BE1E-44A0-A829-8DC8CCE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30014-2C83-4CB1-A52D-6C8B3BC8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07644-F86C-4153-8F37-2BF75C4B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1C18B-38B3-4DEC-BA0C-FD34F36C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3EDD-9235-40B4-9129-713C864580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5AA-6D13-4203-B6FC-5397A22E5D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3C20-9A19-4E0D-8846-49D10E646A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8804-AD7C-4E6F-81D3-BA8B4D74A3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FF89-11E0-411A-874B-3A37D32CB7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EBCE-FC78-47F1-9B38-D7F5E5BD4F8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A947-D86B-4FA2-B538-DCDC8242B3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09A6-8043-4E9A-9539-A4AF5C4DAE5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9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4646"/>
                </a:solidFill>
                <a:latin typeface="Lucida Sans Unicode"/>
              </a:rPr>
              <a:t>НЕ ПОГИБНЕТ ЛИ ЧЕЛОВЕЧЕСТВО ОТ РАЗУМА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20464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дустриальное обществ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. Арон, Д. Белл, Е. Масуда; коне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6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 не следует сокращать темпы экономического развития, «никаких ограничений» ПРОГРЕСС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КА – непосредственная производительная сила обще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712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индустриальное общество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, Белл, З. Бжезинский, Э. Тоффлер, 50-60-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ка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ТП ведёт к всеобщему благоденствию и процветанию, новый виток НТР («третья волна») создаст единую социокультурную общность без существенного изменения системы политической власти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дея передачи власти людям науки и техники (технократия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ория конвергенции (сближен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-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 А. Сорокин, А. Д. Сахаро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0-9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: сближение двух систем- капиталистической и социалистической;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ретные программы борьбы с голодо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. Леонтьев – модель «мирового хозяйств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глобальной катастроф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Римский клуб,60-е годы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века (в результате НТП произойдёт обострение экологических и других глобальных проблем, что приведёт к катастрофе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ва подход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первы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«пределы роста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Дж. Форрестер, Дж. Медоуз): необходимость экономического равновесия, ограничения роста населения, контроль за загрязнением окружающей среды; человечество – регулятор жизни на планет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торой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ия культурно-исторических тип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А. Тойнби): упадок и разложение цивилизации в результате исчерпания ресурсов, не позволяющих давать ответы на вызовы Логос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нотехнологическая катастроф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коне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ека - настоящее врем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ценарий «серая слизь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стория человечества – история его гибе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. С. Шкловский, наш современник), человечество одиноко во Вселенной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ука деформирует человека, он утрачивает цели своего существования, не реализует себя как личность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. Пиччеи: «истинная проблема человеческого вида на данной ступени его эволюции состоит в том, что он оказался полностью неспособным в культурном отношении идти в ногу и полностью приспособиться к тем изменениям, которые сам внес в этот мир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наш современник, и соотечественник  М. Моисеев как бы продолжает: «Умение искать компромиссы, уважение к чужим жизненным стандартам, умение ценить природу, подавлять собственную агрессию, ... обретение чувства общепланетарной общности - это те же атрибуты нравственности, которые необходимы уже в самом ближайшем будущем»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смическая, «ноосферная» модел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-40-е год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ек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. Ф. Фёдоров, К. Э. Циолковский, В. И. Вернадский, А. Л. Чижевски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русский космизм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Т. де Шарден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иосфера с помощью человека (науки) преобразов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феру разум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возникает планетарное мышле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р вступил в XXI век. Вступил радостно, но и с тревогой. Научно-технические достижения ушедшего века существенно изменили образ жизни людей, сделали его более комфортным и свободным. Новые технологии, новые материалы, новые средства связи - физической и информационной - быстро становились повседневными, привычными, обыденным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Х и уже в XXI веках одна единая научная мысль охватила всю поверхность планеты, все на ней находящиеся государства. Всюду создались многочисленные центры научной мысли и научного искания. Это - первая основная предпосылка перехода биосферы в ноосфер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 биосфере, сформированное русским ученым В.И.Вернадским и уходящее своими корнями к Жану Ламарку (Жан Батист Пьер Антуан де Моне), В.В.Докучаеву и Эдуарду Зюссу, определяет биосферу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к «наружная оболочка Земли, область распространения жизни»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сферу в соответствии с законом незаменимости (биосферы) нельзя заменить ничем иным, т.к. она для всех существующих ныне видов на Земле единственная среда обита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Платон (428 – 358 г. г. до н. э.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деальное государств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дрые правител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ин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мледельцы и ремесленни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циальная справедлив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платон.bmp"/>
          <p:cNvPicPr/>
          <p:nvPr/>
        </p:nvPicPr>
        <p:blipFill>
          <a:blip r:embed="rId2"/>
          <a:stretch/>
        </p:blipFill>
        <p:spPr>
          <a:xfrm>
            <a:off x="5786280" y="2571840"/>
            <a:ext cx="302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Вернадский понимал, что человеку придется принять на себя ответственность за судьбу биосферы. Это необходимое условие цивилизаци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сфера должна поддерживать принципы организации биосферы, дополнять биосферу и взаимодействовать с ней как часть единой динамической систем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Симбиоз» техносферы и биосферы позволяет говорить о принципиально новом планетарном явлении - проблеме ноосфе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6" name="Заголовок 1"/>
          <p:cNvSpPr/>
          <p:nvPr/>
        </p:nvSpPr>
        <p:spPr>
          <a:xfrm>
            <a:off x="826920" y="1700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 Unicode"/>
              </a:rPr>
              <a:t>Будущее нельзя предвидеть, но его можно изобрести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8" name="Заголовок 1"/>
          <p:cNvSpPr/>
          <p:nvPr/>
        </p:nvSpPr>
        <p:spPr>
          <a:xfrm>
            <a:off x="324000" y="333360"/>
            <a:ext cx="85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2a4a7"/>
                </a:solidFill>
                <a:latin typeface="Arial"/>
                <a:ea typeface="Arial"/>
              </a:rPr>
              <a:t>«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  <a:ea typeface="Arial"/>
              </a:rPr>
              <a:t>Вращается весь мир вкруг человека, ужель недвижим будет он…»  (</a:t>
            </a:r>
            <a:r>
              <a:rPr b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А.С. Пушкин)</a:t>
            </a:r>
            <a:r>
              <a:rPr b="1" i="1" lang="ru-RU" sz="2200" spc="-1" strike="noStrike">
                <a:solidFill>
                  <a:srgbClr val="f2a4a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Жизнь сама по себе – ни благо, ни зло: она вместилище и блага, и зла, смотря по тому, во что мы сами превратим ее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Монтень)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Если хочешь победить  – выбирай поле битвы»            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Чингиз хан)</a:t>
            </a:r>
            <a:r>
              <a:rPr b="0" lang="ru-RU" sz="2000" spc="-1" strike="noStrike">
                <a:solidFill>
                  <a:srgbClr val="f2a4a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Только в словарях слово «победа» стоит перед словом «работа» (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Кристи Ли)</a:t>
            </a:r>
            <a:br>
              <a:rPr sz="2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2a4a7"/>
                </a:solidFill>
                <a:latin typeface="Arial"/>
              </a:rPr>
              <a:t>«Человеку надлежит жить с самим собой, и надо постоянно заботиться, чтобы это была хорошая компания» </a:t>
            </a:r>
            <a:r>
              <a:rPr b="1" lang="ru-RU" sz="2000" spc="-1" strike="noStrike">
                <a:solidFill>
                  <a:srgbClr val="f2a4a7"/>
                </a:solidFill>
                <a:latin typeface="Arial"/>
              </a:rPr>
              <a:t>(С.И. Хью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развития цивилизации в ХХ веке имела преимуществен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стенсив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арактер. Больше угля, чугуна и стали! Больше электроэнергии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иальное отличие стратегии XXI века - крен в сторону интенсивного развития. Не больше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Рациональнее добывать, использовать, потреблять. И думать не только о потреблении, но в равной степени и об утилизации отходов по тому или иному сценар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9137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61128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 заказу британского правительства исследовательская компания Fast Future  в 2010 году подготовила отчет о том, какие профессии окажутся наиболее востребованными через 20 ле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над документом принимали участие ведущие футурологи и прогнозисты, которых попросили оценить, насколько развитие науки и технологий повлияет в ближайшем будущем на рынок тр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 среднем, человек будет менять по 8-10 профессий в течение жизни, говорится в докладе. Авторы отчёта указывают, что современных детей уже в школе необходимо обучать с акцентом на научные дисциплины и технологии, а также учить их решать сложные, многоуровневые пробл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58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производства искусственных частей человеческого тел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в области наномедицины и наномедик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рмеры и производители, специализирующиеся в области производства генетически модифицированных сельскохозяйственных культур и животны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старением, менеджеры и консультанты для пожилых люд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расширению человеческой памяти и переносу накопившейся в ней информации на другие носители для хра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этике новой науки, которые должны решать этические вопросы в спорных областях исследований (таких как клонирование) и помогать обществу принимать решения по ни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ие пилоты, экскурсоводы, архитекторы и дизайнеры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вертикальному земледелию (вертикальные фермеры), которые будут заниматься выращиванием продовольствия в вертикальных фермерских хозяйствах, то есть городских небоскрёб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изменению климат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управлению массовыми эпидемиями и карантину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10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управлению погодо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ртуальные адвокаты и юристы, специализирующиеся в области применения универсальных юридических норм в различных странах и регионах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b641b"/>
                </a:solidFill>
                <a:latin typeface="Arial"/>
                <a:ea typeface="Arial"/>
              </a:rPr>
              <a:t>Специалисты по виртуальной педагогике, проектирующие и использующие интеллектуальные аватары или компьютерные персонажи для обучения школьников и студентов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чики, дизайнеры и производители альтернативных транспортных средств следующего поколе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изированным медиа, то есть средствам массовой информации, приспособленным к личным интересам отдельных люд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безопасному устранению личных данных и информации из общедоступных источников (таких как Интернет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и разработчики сервисов по управлению и организации электронной информации (такой как электронные логины и пароли, разнообразные профили, учётные записи и так далее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рокеры и специалисты по рынкам виртуальных и альтернативных валют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социальным сетя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сты по персональному брендингу, проектированию и продвижению личных брендо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23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Томас Мор (1478 – 1535 г. г.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Утоп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уд творческ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рмон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енство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Рисунок 3" descr="томас мор.jpg"/>
          <p:cNvPicPr/>
          <p:nvPr/>
        </p:nvPicPr>
        <p:blipFill>
          <a:blip r:embed="rId1"/>
          <a:stretch/>
        </p:blipFill>
        <p:spPr>
          <a:xfrm>
            <a:off x="5580000" y="1700280"/>
            <a:ext cx="2957400" cy="3724200"/>
          </a:xfrm>
          <a:prstGeom prst="rect">
            <a:avLst/>
          </a:prstGeom>
          <a:ln w="0">
            <a:noFill/>
          </a:ln>
        </p:spPr>
      </p:pic>
      <p:pic>
        <p:nvPicPr>
          <p:cNvPr id="385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1"/>
          <p:cNvSpPr/>
          <p:nvPr/>
        </p:nvSpPr>
        <p:spPr>
          <a:xfrm>
            <a:off x="5000760" y="642960"/>
            <a:ext cx="3816360" cy="1022400"/>
          </a:xfrm>
          <a:prstGeom prst="wedgeRoundRectCallout">
            <a:avLst>
              <a:gd name="adj1" fmla="val -50685"/>
              <a:gd name="adj2" fmla="val 122407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 сам своего счастья куз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179280" y="1557360"/>
            <a:ext cx="3024360" cy="792000"/>
          </a:xfrm>
          <a:prstGeom prst="wedgeRoundRectCallout">
            <a:avLst>
              <a:gd name="adj1" fmla="val 84907"/>
              <a:gd name="adj2" fmla="val 54810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eafafa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чего не вы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3786120" y="2428920"/>
            <a:ext cx="1665360" cy="164772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9"/>
          <p:cNvSpPr/>
          <p:nvPr/>
        </p:nvSpPr>
        <p:spPr>
          <a:xfrm rot="10800000">
            <a:off x="250560" y="5444640"/>
            <a:ext cx="4392360" cy="792360"/>
          </a:xfrm>
          <a:prstGeom prst="wedgeRoundRectCallout">
            <a:avLst>
              <a:gd name="adj1" fmla="val -47337"/>
              <a:gd name="adj2" fmla="val 213578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ым родился – гол и ум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 rot="10800000">
            <a:off x="285480" y="2571840"/>
            <a:ext cx="3133800" cy="890640"/>
          </a:xfrm>
          <a:prstGeom prst="wedgeRoundRectCallout">
            <a:avLst>
              <a:gd name="adj1" fmla="val -69796"/>
              <a:gd name="adj2" fmla="val 32773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бом стены не прошибё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7"/>
          <p:cNvSpPr/>
          <p:nvPr/>
        </p:nvSpPr>
        <p:spPr>
          <a:xfrm>
            <a:off x="5148360" y="5357880"/>
            <a:ext cx="3638520" cy="1201680"/>
          </a:xfrm>
          <a:prstGeom prst="wedgeRoundRectCallout">
            <a:avLst>
              <a:gd name="adj1" fmla="val -59939"/>
              <a:gd name="adj2" fmla="val -146472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тот не ошибается, кто ничего не дел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5929200" y="2000160"/>
            <a:ext cx="2880000" cy="1069920"/>
          </a:xfrm>
          <a:prstGeom prst="wedgeRoundRectCallout">
            <a:avLst>
              <a:gd name="adj1" fmla="val -69194"/>
              <a:gd name="adj2" fmla="val 65250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га надейся, а сам не плош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3"/>
          <p:cNvSpPr/>
          <p:nvPr/>
        </p:nvSpPr>
        <p:spPr>
          <a:xfrm>
            <a:off x="5929200" y="3214800"/>
            <a:ext cx="2880000" cy="792000"/>
          </a:xfrm>
          <a:prstGeom prst="wedgeRoundRectCallout">
            <a:avLst>
              <a:gd name="adj1" fmla="val -75833"/>
              <a:gd name="adj2" fmla="val 10791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чу» – половина «мог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5786280" y="4214880"/>
            <a:ext cx="3168720" cy="863640"/>
          </a:xfrm>
          <a:prstGeom prst="wedgeRoundRectCallout">
            <a:avLst>
              <a:gd name="adj1" fmla="val -66083"/>
              <a:gd name="adj2" fmla="val -71138"/>
              <a:gd name="adj3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зёт тому, кто сам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357120" y="714240"/>
            <a:ext cx="4070520" cy="555840"/>
          </a:xfrm>
          <a:prstGeom prst="wedgeRoundRectCallout">
            <a:avLst>
              <a:gd name="adj1" fmla="val 55828"/>
              <a:gd name="adj2" fmla="val 272509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жёного Бог береж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 rot="10800000">
            <a:off x="250920" y="3860640"/>
            <a:ext cx="3168720" cy="1152720"/>
          </a:xfrm>
          <a:prstGeom prst="wedgeRoundRectCallout">
            <a:avLst>
              <a:gd name="adj1" fmla="val -72189"/>
              <a:gd name="adj2" fmla="val 88254"/>
              <a:gd name="adj3" fmla="val 16667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сверчок должен знать свой ше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6800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устремлен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ботать в коман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поративная культу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5580000" y="2651040"/>
            <a:ext cx="356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76-7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. 80-8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необходимость непрерывного образования на протяжении всей жизни чел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анализа публикаций СМИ готовить сообщения о том, какие рекомендации по приспособлению к быстрым изменения общества, материальной среды дают психолог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Заголовок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a1f28"/>
                </a:solidFill>
                <a:latin typeface="Calibri"/>
              </a:rPr>
              <a:t>Карл Маркс (1818 – 1883 г. г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стическая парт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лассовая борьб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волюц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ктатура пролетариа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3" descr="маркс.bmp"/>
          <p:cNvPicPr/>
          <p:nvPr/>
        </p:nvPicPr>
        <p:blipFill>
          <a:blip r:embed="rId2"/>
          <a:stretch/>
        </p:blipFill>
        <p:spPr>
          <a:xfrm>
            <a:off x="5643720" y="2143080"/>
            <a:ext cx="2581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da1f28"/>
                </a:solidFill>
                <a:latin typeface="Calibri"/>
              </a:rPr>
              <a:t>Футур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т греческог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будущее, logos – слово) - наука о будущем, занимающаяся систематизированным изучением прогнозируемых процессов, происходящих как в практической жизни, так и в сфере НТ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той науки было предложено в 1913 году социологом О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лехтхай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прогностике  различают   периоды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ближайше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25-30 лет), где можно высказать вполне достоверные суждения (численность населения на планете, запасы природного сырья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бозримо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(79-80 лет) - это уже вероятные, возможные прогнозы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da1f28"/>
                </a:solidFill>
                <a:latin typeface="Lucida Sans Unicode"/>
              </a:rPr>
              <a:t>отдаленное (фантастическое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будущее - это некоторые гипотетические предположени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гнозир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экстраполя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т лат. extra - сверх, вне; polio – выправляю, изменяю) - продолжение в будущее тенденции настояще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етод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лат. modul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мера, образ, норма) ­замена реального процесса или объекта его теоретическим аналогом, схемой, модел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- проек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риентированные на достижение целей, желаемых состояний общ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da1f28"/>
                </a:solidFill>
                <a:latin typeface="Calibri"/>
              </a:rPr>
              <a:t>модели – сцена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о есть определение того, что будет, если предпринимать что-то сегодня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3" descr=""/>
          <p:cNvPicPr/>
          <p:nvPr/>
        </p:nvPicPr>
        <p:blipFill>
          <a:blip r:embed="rId2"/>
          <a:stretch/>
        </p:blipFill>
        <p:spPr>
          <a:xfrm>
            <a:off x="450720" y="1689120"/>
            <a:ext cx="8242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т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Пессимистически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время, представители, основные идеи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устриальное общество;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индустриальное общество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вергенция двух систе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глобальных катастроф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культурно-исторических тип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я «пределов роста»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8:01Z</dcterms:created>
  <dc:creator>Людмила</dc:creator>
  <dc:description/>
  <dc:language>en-US</dc:language>
  <cp:lastModifiedBy>ПК</cp:lastModifiedBy>
  <dcterms:modified xsi:type="dcterms:W3CDTF">2020-04-18T09:37:37Z</dcterms:modified>
  <cp:revision>134</cp:revision>
  <dc:subject/>
  <dc:title>БУДУЩЕЕ ЧЕЛОВЕЧЕСТВА НЕ ПОГИБНЕТ ЛИ ЧЕЛОВЕЧЕСТВО ОТ РАЗУМА?</dc:title>
</cp:coreProperties>
</file>