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9E7-18E8-4351-8DD0-1BCE4F363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55AA-FB14-40FD-BE9A-4BC3C90E3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6B63-9A9A-46CB-88C1-054A2B3D26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5C3-0C5E-47B6-861D-EAE8E613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954-AA62-43E6-8CB5-1A5FC22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280-1F63-4D13-84DA-B6572F07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C8D-5FFE-4335-A948-F36FE1E5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D104-3A69-453E-B42B-02CCDF1F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988E-EC71-4C5C-9883-49DB3FA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1C22-2E92-4250-891F-A4CABCEC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2A3-A9EC-4511-8F64-15E42CF4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E3E4-8ED5-437D-976C-CE41D33A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E10-24EB-437C-AC26-8B04411C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38B-65E9-4CD9-B01E-ACA84AB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39C-B41D-42EA-85B5-37DC814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9806-065D-4253-B2FF-4FE4D834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6D1-9C0C-41B5-AF90-050C096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DEE-96A9-4388-93EB-6EB8BCB4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62B-3811-4F32-830F-5951DB02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E1DD-0CFE-485F-BFBD-3362D5F9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DDD2-194D-4725-A994-2446F040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07AD-1B1C-4B67-A40F-B371234B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778F-A5AC-47A5-93CE-5352046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65F2-CA86-4E11-A86C-E3A692B5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4236-A3AB-4B50-A599-F5D5DF19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96B-1B09-4490-B31B-F953078F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6AED-41EE-4C06-B16A-A7F8FFE0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0494-21BC-42A3-B700-4143950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51A4-E855-4465-86FD-6D5440D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6746-3E12-48E0-9D88-1CBF988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F355-3E53-4688-98DA-83B41C2B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D938-DA7D-4895-A025-C539ABE5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BDBA-94DE-497B-B3D8-9CEB8680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A622-2B67-4D4B-8F0A-051B1A03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6083-4F3A-42B9-A802-99E64CCA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F339-C1CE-4146-83F6-039A499F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181-1D18-41D8-9970-58DED0B5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61E4-897A-40BB-84AE-9D2659D3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BCD9-5325-4687-8664-1F0D965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320E-BA49-45C6-8138-DF3AEE0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6515-CA0F-4F44-BC39-B27DC4C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7DB9-7DD1-4D84-8785-72D3F0F0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D294-609A-4BD6-A667-056B669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F2A8-9B63-4B56-A4A8-14CAB689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7414-C237-4DE9-9DCF-70E88482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62C4-E868-4831-8B0B-C1937D8E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4DC-8308-41A2-A2C2-E172DA1B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72F-6222-48C1-AB5F-DE9A798B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95B-472D-49F3-AD02-3A43F9D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A28-B186-471D-8CBF-921C707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D05-7367-412C-B97E-E52DBBE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3375-4091-4CE2-8257-39FFB875866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BFE-FE30-4C01-9B5A-55D5633426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BC3F-3049-4CBF-B8CF-F7EB0F66B88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669-C19E-4030-AEFC-EBFA5AEEFF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94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785880" y="4287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принципы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уководящие, принципиальные положения, исходные начала всего права в целом либо определенной его отрасли. В соответствии с законодательством ряда западных государств, при отсутствии конкретной нормы, прецедента или правового обычая, возможно при решении юридических дел ссылаться на принципы справедливости, доброй совести, социальной ориентации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429160" y="357120"/>
            <a:ext cx="171468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572160" y="33577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785880" y="4071960"/>
            <a:ext cx="2028600" cy="2247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790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000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. Нормативный правовой акт как источник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официальный письменный акт, изданный компетентным органом или принятый всеми гражданами государства в форме референдума, устанавливающий, изменяющий либо отменяющий нормы права. Это наиболее совершенный источник права, создающий основу для четкости, точности и стабильности правового регулирования, укрепления законности, доступности и обозримости правовых предписаний. Он облегчает надзор за исполнением юридических предписаний, их толкование, систематизацию, учет. Ему присуща письменная, строго документированная форма и особый, четко регламентированный процессуальный порядок принятия и опубли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428920" cy="22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000840" y="328608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286080" y="4643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928800" y="100008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ормативные акты находятся между собой в строгой иерархической соподчиненности, от которой зависит юридическая сила каждого из них. Акты нижестоящих правотворческих органов должны соответствовать и не противоречить актам вышестоящих орг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Нормативные акты классифицируются по их юридической силе, определяемой компетенцией и положением издавшего их органа в механизме государства, а также характером самих 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я - основной закон госуда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аконные акты (указы, постановления, инструкции, декреты, ордонансы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D:\Documents and Settings\Валерий\Рабочий стол\ЮрСила Актов Прав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109440" y="-139680"/>
            <a:ext cx="9442440" cy="106056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5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180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339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ормативные акты разделяются на виды в зависимости от юридической силы, на законы и подзаконные акт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Подзаконные нормативные а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2492280"/>
            <a:ext cx="40399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нормативный акт, принятый в особом порядке высшим представительным органом законодательной власти либо непосредственным волеизъявлением населения путем референдума и регулирующий наиболее важные и устойчивые общественные отношения. Законы составляют основу правовой системы государства, ее центральную ча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87640" y="2349000"/>
            <a:ext cx="40417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Подзаконные нормативные акт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это принятые компетентным органом и устанавливающие нормы права юридические акты, которые основаны на законе и не противоречат ему. Вся система таких актов строится на строгой их соподчиненности между собой. Их юридическая сила зависит от положения соответствующего органа, издающего подзаконный нормативный акт, в общей иерархической системе органов государст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хема 27" descr=""/>
          <p:cNvPicPr/>
          <p:nvPr/>
        </p:nvPicPr>
        <p:blipFill>
          <a:blip r:embed="rId1"/>
          <a:stretch/>
        </p:blipFill>
        <p:spPr>
          <a:xfrm>
            <a:off x="176040" y="1231920"/>
            <a:ext cx="8785440" cy="5187960"/>
          </a:xfrm>
          <a:prstGeom prst="rect">
            <a:avLst/>
          </a:prstGeom>
          <a:ln w="0">
            <a:noFill/>
          </a:ln>
        </p:spPr>
      </p:pic>
      <p:sp>
        <p:nvSpPr>
          <p:cNvPr id="252" name="Полилиния 3"/>
          <p:cNvSpPr/>
          <p:nvPr/>
        </p:nvSpPr>
        <p:spPr>
          <a:xfrm rot="2991600">
            <a:off x="5276520" y="1544400"/>
            <a:ext cx="253692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ая фигурная скобка 1"/>
          <p:cNvSpPr/>
          <p:nvPr/>
        </p:nvSpPr>
        <p:spPr>
          <a:xfrm rot="19174200">
            <a:off x="5738400" y="1474560"/>
            <a:ext cx="552600" cy="15811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81120"/>
              <a:gd name="textAreaBottom" fmla="*/ 156672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008"/>
                </a:lnTo>
                <a:cubicBezTo>
                  <a:pt x="10800" y="10323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6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6"/>
          <p:cNvSpPr/>
          <p:nvPr/>
        </p:nvSpPr>
        <p:spPr>
          <a:xfrm rot="13333200">
            <a:off x="782280" y="3841200"/>
            <a:ext cx="552600" cy="15793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79320"/>
              <a:gd name="textAreaBottom" fmla="*/ 1564920 h 15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007"/>
                </a:lnTo>
                <a:cubicBezTo>
                  <a:pt x="10800" y="10322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7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 rot="18894000">
            <a:off x="-118440" y="3586680"/>
            <a:ext cx="2354400" cy="65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(простые)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к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26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ституция РФ – 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сшей юридической сил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истеме всех нормативных акт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ямое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аз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1"/>
          <a:srcRect l="0" t="0" r="0" b="20516"/>
          <a:stretch/>
        </p:blipFill>
        <p:spPr>
          <a:xfrm>
            <a:off x="5219640" y="3664080"/>
            <a:ext cx="377352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нституция 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"/>
          <p:cNvSpPr/>
          <p:nvPr/>
        </p:nvSpPr>
        <p:spPr>
          <a:xfrm>
            <a:off x="108000" y="1112760"/>
            <a:ext cx="90360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регулируют вопросы особой важн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З - это законы, принятие которых предусмотрено в самом тексте Конституции и которые вносят изменения в Конститу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обладаю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высокой юридической сил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равнению с обыкновенными зак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риним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собом порядк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квалифицированным большинством, т.е. заранее установленным повышенным кворумом при голо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 России, например, за принятие ФКЗ должны проголосовать не менее 2/3 депутатов Государственной Думы и 3/4 членов Совета Федерации от их списочного состава. В то время как для принятия обыкновенного закона достаточно простое большинство голосов в обеих палатах (50% плюс один голо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Глава государств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обладает правом ве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тношении ФКЗ, а должен по истечении определенного срока (в России - в течение 14 дней) подписать ФКЗ и обнародо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едеральные конституционные законы (ФКЗ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и виды источников пра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нормативного 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нормативных ак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нормативных актов во времени, пространстве и по кругу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законн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197000"/>
            <a:ext cx="6337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законные акт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каз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новления, приказы, инструкции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ладаю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ньшей юридическ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ем зак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даются на основа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о исполнение зако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х при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рганы исполнительной власт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 должностные лиц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идент РФ (указы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тельство Российской Федерации (постановления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нистерства (разъяснения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другие органы власти в пределах своей компетен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7" descr="http://www.ilinskiy.ru/awards/ord-zaslugi-uk.jpg"/>
          <p:cNvPicPr/>
          <p:nvPr/>
        </p:nvPicPr>
        <p:blipFill>
          <a:blip r:embed="rId1"/>
          <a:stretch/>
        </p:blipFill>
        <p:spPr>
          <a:xfrm>
            <a:off x="6524640" y="3144960"/>
            <a:ext cx="2619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во врем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48428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инается  с момента вступления его в силу (дата или момент опубликования), а прекращается с момента утраты им юридической сил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тивные правовые акты прекращают действие (утрачивают силу) в результате следующих трех обстоятельст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о истечении срока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который был принят ак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рямой отме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официально объявлен отмененны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свенной отм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принятие нового НП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rcRect l="14535" t="0" r="13015" b="0"/>
          <a:stretch/>
        </p:blipFill>
        <p:spPr>
          <a:xfrm>
            <a:off x="6156360" y="3887640"/>
            <a:ext cx="283536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74600"/>
            <a:ext cx="4319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Действие НПА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 пространств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560" y="1483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Определяется  территорией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которую распространяютс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ластные полномочия органа, издавшего акт </a:t>
            </a:r>
            <a:br>
              <a:rPr sz="2000"/>
            </a:br>
            <a:r>
              <a:rPr b="1" lang="ru-RU" sz="18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(с учетом принципа экстерриториальности)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сю территорию Росси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распространяется действие Конституции РФ, федеральных НП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территорию субъекта РФ -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е актов органов государственной власти субъекта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строго определенной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ограниченной части территории </a:t>
            </a:r>
            <a:r>
              <a:rPr b="1" i="1" lang="ru-RU" sz="1200" spc="-1" strike="noStrike">
                <a:solidFill>
                  <a:srgbClr val="002060"/>
                </a:solidFill>
                <a:latin typeface="Verdana"/>
                <a:ea typeface="Verdana"/>
              </a:rPr>
              <a:t>(например, при введении режима чрезвычайного положения при наводнении региона)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Локальные акты, которые действуют на ограниченной территории предприятия, учреждения, орган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http://krepoteka.ru/wp-content/uploads/2015/04/gubernatorskaya-vyplata_5-300x164.png"/>
          <p:cNvPicPr/>
          <p:nvPr/>
        </p:nvPicPr>
        <p:blipFill>
          <a:blip r:embed="rId1"/>
          <a:stretch/>
        </p:blipFill>
        <p:spPr>
          <a:xfrm>
            <a:off x="5003640" y="-42840"/>
            <a:ext cx="41389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179280" y="1666800"/>
            <a:ext cx="82803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яется на всех граждан РФ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ностранцев, лиц без гражданства (апатрид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лиц с двойным гражданством (бипатри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дельные НПА распространяются только на конкретные категории граждан (например, на судей или военнослужащих, пенсион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трудники дипломатических, консульск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иных зарубежных гос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уются дипломатическим иммун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по кругу ли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169040" y="4292640"/>
            <a:ext cx="19749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41400" y="1447920"/>
            <a:ext cx="905508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ПА действу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только на «будущие» право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и не распространяются на отношения, возникшие до момента их вступл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силу.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о есть исключ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кону может быть придана обратная сила! То есть его норм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отношения, возникшие до его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ратная сила придается НПА в случа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г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конодатель принимает так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отношения, которые вообще не бы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регулированы ран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) когда ак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отменяют или смягча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наказ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предшествующим законом, т.е. создают более льгот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29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ратная сила Н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 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L15_p2_1"/>
          <p:cNvPicPr/>
          <p:nvPr/>
        </p:nvPicPr>
        <p:blipFill>
          <a:blip r:embed="rId1"/>
          <a:stretch/>
        </p:blipFill>
        <p:spPr>
          <a:xfrm>
            <a:off x="539640" y="3521160"/>
            <a:ext cx="196380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5" descr="L15_p2_2"/>
          <p:cNvPicPr/>
          <p:nvPr/>
        </p:nvPicPr>
        <p:blipFill>
          <a:blip r:embed="rId2"/>
          <a:stretch/>
        </p:blipFill>
        <p:spPr>
          <a:xfrm>
            <a:off x="3510000" y="3506760"/>
            <a:ext cx="22114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6" descr="L15_p2_3"/>
          <p:cNvPicPr/>
          <p:nvPr/>
        </p:nvPicPr>
        <p:blipFill>
          <a:blip r:embed="rId3"/>
          <a:stretch/>
        </p:blipFill>
        <p:spPr>
          <a:xfrm>
            <a:off x="6732720" y="3521160"/>
            <a:ext cx="187164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Заголовок 1" descr=""/>
          <p:cNvPicPr/>
          <p:nvPr/>
        </p:nvPicPr>
        <p:blipFill>
          <a:blip r:embed="rId4"/>
          <a:stretch/>
        </p:blipFill>
        <p:spPr>
          <a:xfrm>
            <a:off x="298440" y="182520"/>
            <a:ext cx="8169120" cy="10000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"/>
          <p:cNvSpPr/>
          <p:nvPr/>
        </p:nvSpPr>
        <p:spPr>
          <a:xfrm>
            <a:off x="250920" y="2276640"/>
            <a:ext cx="4032000" cy="10803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ы (источники) права – официальные способы выражения и закрепления правовых н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219640" y="2305080"/>
            <a:ext cx="3767040" cy="11912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права - факторы, порождающие появление и действ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148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ществуют два подхода к понят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сточник пра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>
            <a:off x="4714920" y="114300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права - это действующий в государстве официальный документ, устанавливающий или санкционирующий нормы права; внешние формы выражения правотворческой деятельности государства, с помощью которой воля законодателя становится обязательной для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1420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тории развития права различают несколько видов источников права, причем их значение в каждом типе права неодинак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вой обы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авило поведения, которое сложилось исторически в силу постоянной повторяемости в течение длительного времени и санкционировано государством в качестве общеобязательного правила. В период становления права преобладающее значение имел правовой обычай. Обычное право было основным источником права на ранних этапах развития рабовладельческого и феодального права. В современных государствах правовой обычай применяется довольно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500040" y="428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дебный преце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ешение суда (обычно это высшая судебная инстанция в стране) по конкретному делу, которое затем становится образцом, обязательным правилом для решения аналогичных дел в будущем. В настоящее время такой источник широко используется в англосаксонских странах (например "общее право" Англии). Прецедентное право чрезвычайно громоздко, запутанно и противоречиво, позволяет суду осуществлять правотворческие функции как в случае отсутствия соответствующего закона, так и при его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5040" y="571680"/>
            <a:ext cx="194328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00800" y="364320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71680" y="357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ный догов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глашение между различными субъектами права, в которых содержатся нормы права. Он является одним из основных источников международного права. В ряде случаев нормативный договор используется во внутригосударственном пра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085840" cy="156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4381200" cy="31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928800" y="357192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лигиоз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вященные книги и сборники, которые непосредственно применяются в судебной и иной юридической практике. Этот источник применяется, в первую очередь, в мусульманском праве (Коран - собрание поучений и заповедей Аллаха, Сунна - жизнеописание пророка Мухамме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486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286160" y="357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ктриналь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мнения, идеи и доктрины выдающихся ученых-юристов. В римском праве работы некоторых известных юристов (например Ульпиана) зачастую составляли основу решения юридических дел. Судьи в англоязычных странах нередко основывают свои решения на трудах английских ученых. В мусульманских странах созданные в XII-XIV в. труды арабских юристов, знатоков ислама (иджма) имеют официальное юридическ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152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7:15:10Z</dcterms:created>
  <dc:creator>UserXP</dc:creator>
  <dc:description/>
  <dc:language>en-US</dc:language>
  <cp:lastModifiedBy>ПК</cp:lastModifiedBy>
  <dcterms:modified xsi:type="dcterms:W3CDTF">2020-04-18T11:36:21Z</dcterms:modified>
  <cp:revision>14</cp:revision>
  <dc:subject/>
  <dc:title>Источники права</dc:title>
</cp:coreProperties>
</file>