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9.jpeg" ContentType="image/jpeg"/>
  <Override PartName="/ppt/media/image12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29.png" ContentType="image/png"/>
  <Override PartName="/ppt/media/image4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38BE-32FB-4109-922E-0AD581553E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DA14-DBD7-46C9-BDB4-E9F3CA8C14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E5BD-C9E2-48AA-9CF1-949449DAD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6A7-3695-42F9-9D18-9C649A25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E17-1D96-4E23-ABEE-97193614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192-E3D1-48CB-8E19-1C6AEBCD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3F1-7779-4FA2-B659-ECD3C0B6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45E3-695E-462C-A4BF-11D74F2F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CFF5-0561-4417-AB86-C7686F72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977C-C541-4FD9-A91E-ED5E383F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C7C1-712B-4481-BA4D-AB9BB670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6B4A-58FF-4DCB-B5C4-E15C7D02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A855-C57C-4FA2-A520-0FA7B579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E98A-DC7E-4C30-AB86-A3E2E685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AD8-EC44-4628-854C-169D1E4F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52AC-F24C-409A-B606-61FC04CB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DB66-8F17-4A47-8A2C-B749648C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2820-980C-4765-A289-A8DFC205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BE62-7383-47C2-82F6-142944C4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0BC4-EB1F-4A7D-B9DF-B8B8CEDD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DFD0-4A2D-4B86-B5DD-5950401D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77EDD-28A5-4D30-BC5D-26C709D8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BFB8-EE93-4754-8CFD-DDE55FA4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F3C80-D540-46CD-BB67-C85EAFE0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4947-E974-49A6-BFD4-4E029E87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6B0-9C33-46A3-85CA-633DB6C6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B9A3-6D07-4A37-8768-25309CF3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C140-1786-4E61-9C88-9857E689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7D77-F13C-4FF4-9280-1BCBBADB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DDEB-BC02-4DFF-8080-DA5456F7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4534-5DA4-4A47-8D1E-41388324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4621-4A46-40FA-B592-886DC500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77BD-6918-41C8-8ED2-4BC43CDE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6FDD-F13D-4554-89CD-4F908390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1494-7343-43F0-95D7-CC95E744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1284-A08A-408A-AE70-B21AAED8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830-C201-4D83-9781-6E5B507A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579D-A413-4011-A621-1DC6C84E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41BE7-674B-4F26-881F-3BF51A2F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F123C-CD5E-4352-B9B8-902D89C4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9A429-FED4-404D-A4ED-295AD84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5459-6ACF-4E32-9599-FAA2FDD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0D795-257C-4D2E-AB15-BDB0D1D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A97BE-72CF-4D9C-8036-DE8D8241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C82D-9767-4B3E-88C1-4E159F3D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39D54-88F1-4082-8CD3-3E26FFC3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B0A-600E-4347-BFB9-1A90B974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AF2-A8E9-4A53-83C2-64D8B53B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C65-1F18-4E74-8C52-B39FA469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4EB-A0A3-44B8-8ED0-418B10D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19D-B704-4E93-8202-CD1ED8BA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FC03-1E25-41B5-9612-517603752F1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1C0F-2BC5-4B10-867F-A4085D089BD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6EAB-2E90-4694-8CFF-B77FB2C2895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AA1F-66EB-494E-87F9-FDA3F7C3271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944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785880" y="4287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ие принципы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уководящие, принципиальные положения, исходные начала всего права в целом либо определенной его отрасли. В соответствии с законодательством ряда западных государств, при отсутствии конкретной нормы, прецедента или правового обычая, возможно при решении юридических дел ссылаться на принципы справедливости, доброй совести, социальной ориентации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429160" y="357120"/>
            <a:ext cx="1714680" cy="2667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6572160" y="335772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785880" y="4071960"/>
            <a:ext cx="2028600" cy="2247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3643200" y="4071960"/>
            <a:ext cx="1790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500040" y="285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. Нормативный правовой акт как источник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официальный письменный акт, изданный компетентным органом или принятый всеми гражданами государства в форме референдума, устанавливающий, изменяющий либо отменяющий нормы права. Это наиболее совершенный источник права, создающий основу для четкости, точности и стабильности правового регулирования, укрепления законности, доступности и обозримости правовых предписаний. Он облегчает надзор за исполнением юридических предписаний, их толкование, систематизацию, учет. Ему присуща письменная, строго документированная форма и особый, четко регламентированный процессуальный порядок принятия и опублик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57120" y="3643200"/>
            <a:ext cx="2428920" cy="226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6000840" y="328608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tretch/>
        </p:blipFill>
        <p:spPr>
          <a:xfrm>
            <a:off x="3286080" y="4643280"/>
            <a:ext cx="228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928800" y="100008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ормативные акты находятся между собой в строгой иерархической соподчиненности, от которой зависит юридическая сила каждого из них. Акты нижестоящих правотворческих органов должны соответствовать и не противоречить актам вышестоящих орган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Нормативные акты классифицируются по их юридической силе, определяемой компетенцией и положением издавшего их органа в механизме государства, а также характером самих 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я - основной закон госуда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о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законные акты (указы, постановления, инструкции, декреты, ордонансы и д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D:\Documents and Settings\Валерий\Рабочий стол\ЮрСила Актов Права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-109440" y="-139680"/>
            <a:ext cx="9442440" cy="106056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5" descr=""/>
          <p:cNvPicPr/>
          <p:nvPr/>
        </p:nvPicPr>
        <p:blipFill>
          <a:blip r:embed="rId2"/>
          <a:stretch/>
        </p:blipFill>
        <p:spPr>
          <a:xfrm>
            <a:off x="-73080" y="835200"/>
            <a:ext cx="91807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33904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Нормативные акты разделяются на виды в зависимости от юридической силы, на законы и подзаконные акты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Constantia"/>
              </a:rPr>
              <a:t>Подзаконные нормативные ак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2492280"/>
            <a:ext cx="40399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6000"/>
          </a:bodyPr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Зако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нормативный акт, принятый в особом порядке высшим представительным органом законодательной власти либо непосредственным волеизъявлением населения путем референдума и регулирующий наиболее важные и устойчивые общественные отношения. Законы составляют основу правовой системы государства, ее центральную ча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787640" y="2349000"/>
            <a:ext cx="404172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8000"/>
          </a:bodyPr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Подзаконные нормативные акт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- это принятые компетентным органом и устанавливающие нормы права юридические акты, которые основаны на законе и не противоречат ему. Вся система таких актов строится на строгой их соподчиненности между собой. Их юридическая сила зависит от положения соответствующего органа, издающего подзаконный нормативный акт, в общей иерархической системе органов государств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хема 27" descr=""/>
          <p:cNvPicPr/>
          <p:nvPr/>
        </p:nvPicPr>
        <p:blipFill>
          <a:blip r:embed="rId1"/>
          <a:stretch/>
        </p:blipFill>
        <p:spPr>
          <a:xfrm>
            <a:off x="176040" y="1231920"/>
            <a:ext cx="8785440" cy="5187960"/>
          </a:xfrm>
          <a:prstGeom prst="rect">
            <a:avLst/>
          </a:prstGeom>
          <a:ln w="0">
            <a:noFill/>
          </a:ln>
        </p:spPr>
      </p:pic>
      <p:sp>
        <p:nvSpPr>
          <p:cNvPr id="252" name="Полилиния 3"/>
          <p:cNvSpPr/>
          <p:nvPr/>
        </p:nvSpPr>
        <p:spPr>
          <a:xfrm rot="2991600">
            <a:off x="5276520" y="1544400"/>
            <a:ext cx="2536920" cy="565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онные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авая фигурная скобка 1"/>
          <p:cNvSpPr/>
          <p:nvPr/>
        </p:nvSpPr>
        <p:spPr>
          <a:xfrm rot="19174200">
            <a:off x="5738400" y="1474560"/>
            <a:ext cx="552600" cy="15811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81120"/>
              <a:gd name="textAreaBottom" fmla="*/ 1566720 h 15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29"/>
                </a:cubicBezTo>
                <a:lnTo>
                  <a:pt x="10800" y="10008"/>
                </a:lnTo>
                <a:cubicBezTo>
                  <a:pt x="10800" y="10323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6"/>
                </a:cubicBezTo>
                <a:lnTo>
                  <a:pt x="10800" y="20971"/>
                </a:lnTo>
                <a:cubicBezTo>
                  <a:pt x="10800" y="2128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авая фигурная скобка 6"/>
          <p:cNvSpPr/>
          <p:nvPr/>
        </p:nvSpPr>
        <p:spPr>
          <a:xfrm rot="13333200">
            <a:off x="782280" y="3841200"/>
            <a:ext cx="552600" cy="15793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79320"/>
              <a:gd name="textAreaBottom" fmla="*/ 1564920 h 15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007"/>
                </a:lnTo>
                <a:cubicBezTo>
                  <a:pt x="10800" y="10322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7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7"/>
          <p:cNvSpPr/>
          <p:nvPr/>
        </p:nvSpPr>
        <p:spPr>
          <a:xfrm rot="18894000">
            <a:off x="-118440" y="3586680"/>
            <a:ext cx="2354400" cy="65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е (простые)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Заголовок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иды зак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2600" y="1700280"/>
            <a:ext cx="90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Конституция РФ – основно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ада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ысшей юридической сил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истеме всех нормативных актов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ямое 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баз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онода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3" descr=""/>
          <p:cNvPicPr/>
          <p:nvPr/>
        </p:nvPicPr>
        <p:blipFill>
          <a:blip r:embed="rId1"/>
          <a:srcRect l="0" t="0" r="0" b="20516"/>
          <a:stretch/>
        </p:blipFill>
        <p:spPr>
          <a:xfrm>
            <a:off x="5219640" y="3664080"/>
            <a:ext cx="3773520" cy="31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онституция Р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2"/>
          <p:cNvSpPr/>
          <p:nvPr/>
        </p:nvSpPr>
        <p:spPr>
          <a:xfrm>
            <a:off x="108000" y="1112760"/>
            <a:ext cx="9036000" cy="52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регулируют вопросы особой важнос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З - это законы, принятие которых предусмотрено в самом тексте Конституции и которые вносят изменения в Конститу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обладаю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олее высокой юридической сил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 сравнению с обыкновенными зако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приним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собом порядк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квалифицированным большинством, т.е. заранее установленным повышенным кворумом при голос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 России, например, за принятие ФКЗ должны проголосовать не менее 2/3 депутатов Государственной Думы и 3/4 членов Совета Федерации от их списочного состава. В то время как для принятия обыкновенного закона достаточно простое большинство голосов в обеих палатах (50% плюс один голос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Глава государств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 обладает правом вет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тношении ФКЗ, а должен по истечении определенного срока (в России - в течение 14 дней) подписать ФКЗ и обнародо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Федеральные конституционные законы (ФКЗ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держ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и виды источников пра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нормативного ак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ы нормативных ак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йствия нормативных актов во времени, пространстве и по кругу лиц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законные ак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9280" y="1197000"/>
            <a:ext cx="63374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дзаконные акт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указ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ановления, приказы, инструкции…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бладаю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ньшей юридическо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чем закон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издаются на основан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во исполнение закон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х принимают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рганы исполнительной власт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и должностные лица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идент РФ (указы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авительство Российской Федерации (постановления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инистерства (разъяснения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другие органы власти в пределах своей компетен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7" descr="http://www.ilinskiy.ru/awards/ord-zaslugi-uk.jpg"/>
          <p:cNvPicPr/>
          <p:nvPr/>
        </p:nvPicPr>
        <p:blipFill>
          <a:blip r:embed="rId1"/>
          <a:stretch/>
        </p:blipFill>
        <p:spPr>
          <a:xfrm>
            <a:off x="6524640" y="3144960"/>
            <a:ext cx="2619360" cy="371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во време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8000" y="1484280"/>
            <a:ext cx="9036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инается  с момента вступления его в силу (дата или момент опубликования), а прекращается с момента утраты им юридической сил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рмативные правовые акты прекращают действие (утрачивают силу) в результате следующих трех обстоятельств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о истечении срока действия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 который был принят акт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рямой отме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официально объявлен отмененным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косвенной отмены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принятие нового НП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1"/>
          <a:srcRect l="14535" t="0" r="13015" b="0"/>
          <a:stretch/>
        </p:blipFill>
        <p:spPr>
          <a:xfrm>
            <a:off x="6156360" y="3887640"/>
            <a:ext cx="2835360" cy="29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640" y="174600"/>
            <a:ext cx="43196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Действие НПА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 пространств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4560" y="1483920"/>
            <a:ext cx="910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Определяется  территорией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которую распространяются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ластные полномочия органа, издавшего акт </a:t>
            </a:r>
            <a:br>
              <a:rPr sz="2000"/>
            </a:br>
            <a:r>
              <a:rPr b="1" lang="ru-RU" sz="18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(с учетом принципа экстерриториальности)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1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сю территорию России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распространяется действие Конституции РФ, федеральных НП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2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территорию субъекта РФ -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действие актов органов государственной власти субъекта Р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3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строго определенной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ограниченной части территории </a:t>
            </a:r>
            <a:r>
              <a:rPr b="1" i="1" lang="ru-RU" sz="1200" spc="-1" strike="noStrike">
                <a:solidFill>
                  <a:srgbClr val="002060"/>
                </a:solidFill>
                <a:latin typeface="Verdana"/>
                <a:ea typeface="Verdana"/>
              </a:rPr>
              <a:t>(например, при введении режима чрезвычайного положения при наводнении региона)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4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Локальные акты, которые действуют на ограниченной территории предприятия, учреждения, организ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5" descr="http://krepoteka.ru/wp-content/uploads/2015/04/gubernatorskaya-vyplata_5-300x164.png"/>
          <p:cNvPicPr/>
          <p:nvPr/>
        </p:nvPicPr>
        <p:blipFill>
          <a:blip r:embed="rId1"/>
          <a:stretch/>
        </p:blipFill>
        <p:spPr>
          <a:xfrm>
            <a:off x="5003640" y="-42840"/>
            <a:ext cx="41389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3"/>
          <p:cNvSpPr/>
          <p:nvPr/>
        </p:nvSpPr>
        <p:spPr>
          <a:xfrm>
            <a:off x="179280" y="1666800"/>
            <a:ext cx="82803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яется на всех граждан РФ, а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ностранцев, лиц без гражданства (апатридов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лиц с двойным гражданством (бипатрид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тдельные НПА распространяются только на конкретные категории граждан (например, на судей или военнослужащих, пенсионер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трудники дипломатических, консульски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иных зарубежных госучре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ьзуются дипломатическим иммунит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по кругу ли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7169040" y="4292640"/>
            <a:ext cx="19749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2"/>
          <p:cNvSpPr/>
          <p:nvPr/>
        </p:nvSpPr>
        <p:spPr>
          <a:xfrm>
            <a:off x="41400" y="1447920"/>
            <a:ext cx="905508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ПА действу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только на «будущие» право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и не распространяются на отношения, возникшие до момента их вступле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силу.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Arial"/>
              </a:rPr>
              <a:t>Но есть исключен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кону может быть придана обратная сила! То есть его норм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могут бы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отношения, возникшие до его при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братная сила придается НПА в случа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гд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законодатель принимает такое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(отношения, которые вообще не бы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урегулированы ране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) когда акт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отменяют или смягчают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наказа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 сравнению с предшествующим законом, т.е. создают более льготный ре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529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ратная сила НП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§  2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L15_p2_1"/>
          <p:cNvPicPr/>
          <p:nvPr/>
        </p:nvPicPr>
        <p:blipFill>
          <a:blip r:embed="rId1"/>
          <a:stretch/>
        </p:blipFill>
        <p:spPr>
          <a:xfrm>
            <a:off x="539640" y="3521160"/>
            <a:ext cx="1963800" cy="2793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5" descr="L15_p2_2"/>
          <p:cNvPicPr/>
          <p:nvPr/>
        </p:nvPicPr>
        <p:blipFill>
          <a:blip r:embed="rId2"/>
          <a:stretch/>
        </p:blipFill>
        <p:spPr>
          <a:xfrm>
            <a:off x="3510000" y="3506760"/>
            <a:ext cx="221148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7" name="Picture 6" descr="L15_p2_3"/>
          <p:cNvPicPr/>
          <p:nvPr/>
        </p:nvPicPr>
        <p:blipFill>
          <a:blip r:embed="rId3"/>
          <a:stretch/>
        </p:blipFill>
        <p:spPr>
          <a:xfrm>
            <a:off x="6732720" y="3521160"/>
            <a:ext cx="187164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8" name="Заголовок 1" descr=""/>
          <p:cNvPicPr/>
          <p:nvPr/>
        </p:nvPicPr>
        <p:blipFill>
          <a:blip r:embed="rId4"/>
          <a:stretch/>
        </p:blipFill>
        <p:spPr>
          <a:xfrm>
            <a:off x="298440" y="182520"/>
            <a:ext cx="8169120" cy="100008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2"/>
          <p:cNvSpPr/>
          <p:nvPr/>
        </p:nvSpPr>
        <p:spPr>
          <a:xfrm>
            <a:off x="250920" y="2276640"/>
            <a:ext cx="4032000" cy="10803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ы (источники) права – официальные способы выражения и закрепления правовых нор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5219640" y="2305080"/>
            <a:ext cx="3767040" cy="119124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чники права - факторы, порождающие появление и действ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8000" y="14842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уществуют два подхода к поняти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источник прав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4"/>
          <p:cNvSpPr/>
          <p:nvPr/>
        </p:nvSpPr>
        <p:spPr>
          <a:xfrm>
            <a:off x="4714920" y="1143000"/>
            <a:ext cx="4286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права - это действующий в государстве официальный документ, устанавливающий или санкционирующий нормы права; внешние формы выражения правотворческой деятельности государства, с помощью которой воля законодателя становится обязательной для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42920" y="2071800"/>
            <a:ext cx="45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357120" y="214200"/>
            <a:ext cx="771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стории развития права различают несколько видов источников права, причем их значение в каждом типе права неодинак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вой обы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авило поведения, которое сложилось исторически в силу постоянной повторяемости в течение длительного времени и санкционировано государством в качестве общеобязательного правила. В период становления права преобладающее значение имел правовой обычай. Обычное право было основным источником права на ранних этапах развития рабовладельческого и феодального права. В современных государствах правовой обычай применяется довольно ред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495520" cy="28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785880" y="342900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500040" y="4287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дебный прецед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ешение суда (обычно это высшая судебная инстанция в стране) по конкретному делу, которое затем становится образцом, обязательным правилом для решения аналогичных дел в будущем. В настоящее время такой источник широко используется в англосаксонских странах (например "общее право" Англии). Прецедентное право чрезвычайно громоздко, запутанно и противоречиво, позволяет суду осуществлять правотворческие функции как в случае отсутствия соответствующего закона, так и при его налич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215040" y="571680"/>
            <a:ext cx="1943280" cy="2071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500800" y="3643200"/>
            <a:ext cx="3071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571680" y="357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рмативный догов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оглашение между различными субъектами права, в которых содержатся нормы права. Он является одним из основных источников международного права. В ряде случаев нормативный договор используется во внутригосударственном пра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143760" y="357120"/>
            <a:ext cx="2085840" cy="1562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500720" y="2857680"/>
            <a:ext cx="4381200" cy="31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928800" y="3571920"/>
            <a:ext cx="3071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428760" y="2858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лигиоз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вященные книги и сборники, которые непосредственно применяются в судебной и иной юридической практике. Этот источник применяется, в первую очередь, в мусульманском праве (Коран - собрание поучений и заповедей Аллаха, Сунна - жизнеописание пророка Мухамме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5429160" y="571680"/>
            <a:ext cx="3429000" cy="1857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5857920" y="2643120"/>
            <a:ext cx="24861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4286160" y="3571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ктриналь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мнения, идеи и доктрины выдающихся ученых-юристов. В римском праве работы некоторых известных юристов (например Ульпиана) зачастую составляли основу решения юридических дел. Судьи в англоязычных странах нередко основывают свои решения на трудах английских ученых. В мусульманских странах созданные в XII-XIV в. труды арабских юристов, знатоков ислама (иджма) имеют официальное юридическ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5143680" y="4286160"/>
            <a:ext cx="1528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7:15:10Z</dcterms:created>
  <dc:creator>UserXP</dc:creator>
  <dc:description/>
  <dc:language>en-US</dc:language>
  <cp:lastModifiedBy>ПК</cp:lastModifiedBy>
  <dcterms:modified xsi:type="dcterms:W3CDTF">2020-04-18T11:36:21Z</dcterms:modified>
  <cp:revision>14</cp:revision>
  <dc:subject/>
  <dc:title>Источники права</dc:title>
</cp:coreProperties>
</file>