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34.png" ContentType="image/png"/>
  <Override PartName="/ppt/media/image5.png" ContentType="image/png"/>
  <Override PartName="/ppt/media/image35.png" ContentType="image/png"/>
  <Override PartName="/ppt/media/image8.jpeg" ContentType="image/jpeg"/>
  <Override PartName="/ppt/media/image39.jpeg" ContentType="image/jpeg"/>
  <Override PartName="/ppt/media/image12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1.png" ContentType="image/png"/>
  <Override PartName="/ppt/media/image29.png" ContentType="image/png"/>
  <Override PartName="/ppt/media/image41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BCA39-4775-4306-BE50-088CDD980F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21A1A-70CD-4BBC-B403-B37C9ECAE7A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CEB1-DE50-4066-B559-0F3C40F18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DDEE-6142-4F9F-926C-8CED6AED3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3A6C-A16E-4E09-BD48-DEDACBD5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6A84-12EA-4335-B5DD-EF8D72EA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575-5529-4013-816F-C502C88F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D0F3-F14E-45CD-8561-DDC545CF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9397-D938-4602-A23B-8D85F54C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B3AA-39D4-43D9-958B-CDCB058F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9AB8-50F9-46C3-97D7-D0E865F38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B72D-89F8-4595-823D-F1084063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77ED-491B-441E-86A2-AB847B7E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5FE9-ACFF-47C8-A7F5-11910661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56A-22D3-4E38-BB28-A7196A41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00B9-8571-4E4F-B7E2-2686484F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D7182-F1CA-44AB-87A2-30AF68DB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7543D-D586-4F7D-BAAE-0B1A1E1D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C8CC-5E4C-4373-98F2-D18313E48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E12A-8560-43E3-A014-6DAFFA89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F288-C278-4007-AE45-CEC9ECE0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EB3F-AF50-4781-96CF-2B65A118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BEDEF-4AF8-4739-8CB0-111AE12D8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99403-E72E-4040-99CF-B0F9D90E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26D11-1F02-42BE-B211-E7215B61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0AF3-FB3C-4E4A-9B9F-844ED0B6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AAFB9-3D52-4B64-8A5F-B4B91CBEE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3B328-B272-4CA4-9B9B-6C5FA147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D943E-53AE-4791-8EC6-0F705C68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1A9B-C89B-480B-9D6A-86AB71BA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D426-70D4-438D-ABBA-72EB78E4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1AE80-53D3-43E7-AD7D-0E64CC301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CCA99-E6C3-4F5A-B598-74E71A2B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A326D-9E59-4CFB-A4DD-68F2B950C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03456-7165-41AB-874C-C20628B7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C80BE-A0EA-4445-A93D-2EF8E15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267-BB68-4D83-A0C6-219832CA3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1AAEB-17CD-4C84-AFB2-B0CD4749B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2956B-C860-4853-A609-52BE57E2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787FE-5729-49C3-B73D-5365D9A1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460E-2CD6-4AAC-85FA-4E24652B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7E637-C4EB-4824-953F-3DD1C7E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105B0-203B-4C81-9A2A-163F251D0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0AA1B-8DFD-4374-A43F-09DC2B433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BD7FB-1F54-4A10-B94F-E9034C7C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9FB79-64F1-4B92-AF8C-5F46E201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861F-15E1-4A9D-A2D3-D0D793D7D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3A5C-56A5-4CD8-95CF-229BBCD5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04EA-FDAF-4C20-895A-958A356F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437F-7F2B-4053-AA35-FE586371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755A-5FBA-4FC1-A95F-6D4F11F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8F32-9E46-4BF1-867B-725B84251C0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55F7-7933-4343-A89A-F0169D3B1C0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014A-0213-4524-B21D-88294CF542B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43E0-9BD8-47B3-B318-0CCA63A18E2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944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1"/>
          <p:cNvSpPr/>
          <p:nvPr/>
        </p:nvSpPr>
        <p:spPr>
          <a:xfrm>
            <a:off x="785880" y="42876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бщие принципы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уководящие, принципиальные положения, исходные начала всего права в целом либо определенной его отрасли. В соответствии с законодательством ряда западных государств, при отсутствии конкретной нормы, прецедента или правового обычая, возможно при решении юридических дел ссылаться на принципы справедливости, доброй совести, социальной ориентации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5429160" y="357120"/>
            <a:ext cx="1714680" cy="26672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6572160" y="3357720"/>
            <a:ext cx="1895400" cy="24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785880" y="4071960"/>
            <a:ext cx="2028600" cy="22478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79064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500040" y="2858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7. Нормативный правовой акт как источник пра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официальный письменный акт, изданный компетентным органом или принятый всеми гражданами государства в форме референдума, устанавливающий, изменяющий либо отменяющий нормы права. Это наиболее совершенный источник права, создающий основу для четкости, точности и стабильности правового регулирования, укрепления законности, доступности и обозримости правовых предписаний. Он облегчает надзор за исполнением юридических предписаний, их толкование, систематизацию, учет. Ему присуща письменная, строго документированная форма и особый, четко регламентированный процессуальный порядок принятия и опубли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357120" y="3643200"/>
            <a:ext cx="2428920" cy="226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6000840" y="3286080"/>
            <a:ext cx="2381040" cy="19242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3"/>
          <a:stretch/>
        </p:blipFill>
        <p:spPr>
          <a:xfrm>
            <a:off x="3286080" y="4643280"/>
            <a:ext cx="2286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Прямоугольник 1"/>
          <p:cNvSpPr/>
          <p:nvPr/>
        </p:nvSpPr>
        <p:spPr>
          <a:xfrm>
            <a:off x="928800" y="1000080"/>
            <a:ext cx="75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нормативные акты находятся между собой в строгой иерархической соподчиненности, от которой зависит юридическая сила каждого из них. Акты нижестоящих правотворческих органов должны соответствовать и не противоречить актам вышестоящих орган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Нормативные акты классифицируются по их юридической силе, определяемой компетенцией и положением издавшего их органа в механизме государства, а также характером самих 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ся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я - основной закон государ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титуцио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е закон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законные акты (указы, постановления, инструкции, декреты, ордонансы и др.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D:\Documents and Settings\Валерий\Рабочий стол\ЮрСила Актов Права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-109440" y="-139680"/>
            <a:ext cx="9442440" cy="1060560"/>
          </a:xfrm>
          <a:prstGeom prst="rect">
            <a:avLst/>
          </a:prstGeom>
          <a:ln w="0">
            <a:noFill/>
          </a:ln>
        </p:spPr>
      </p:pic>
      <p:pic>
        <p:nvPicPr>
          <p:cNvPr id="244" name="Таблица 5" descr=""/>
          <p:cNvPicPr/>
          <p:nvPr/>
        </p:nvPicPr>
        <p:blipFill>
          <a:blip r:embed="rId2"/>
          <a:stretch/>
        </p:blipFill>
        <p:spPr>
          <a:xfrm>
            <a:off x="-73080" y="835200"/>
            <a:ext cx="9180720" cy="58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444600" y="274680"/>
            <a:ext cx="8339040" cy="58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Нормативные акты разделяются на виды в зависимости от юридической силы, на законы и подзаконные акты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404028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onstantia"/>
              </a:rPr>
              <a:t>Законы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43280" y="1557000"/>
            <a:ext cx="40420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4617b"/>
                </a:solidFill>
                <a:latin typeface="Constantia"/>
              </a:rPr>
              <a:t>Подзаконные нормативные акт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28760" y="2492280"/>
            <a:ext cx="403992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6000"/>
          </a:bodyPr>
          <a:p>
            <a:pPr marL="261720" indent="-26172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onstantia"/>
              </a:rPr>
              <a:t>Закон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- нормативный акт, принятый в особом порядке высшим представительным органом законодательной власти либо непосредственным волеизъявлением населения путем референдума и регулирующий наиболее важные и устойчивые общественные отношения. Законы составляют основу правовой системы государства, ее центральную часть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787640" y="2349000"/>
            <a:ext cx="404172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 fontScale="98000"/>
          </a:bodyPr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onstantia"/>
              </a:rPr>
              <a:t>Подзаконные нормативные акты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- это принятые компетентным органом и устанавливающие нормы права юридические акты, которые основаны на законе и не противоречат ему. Вся система таких актов строится на строгой их соподчиненности между собой. Их юридическая сила зависит от положения соответствующего органа, издающего подзаконный нормативный акт, в общей иерархической системе органов государств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хема 27" descr=""/>
          <p:cNvPicPr/>
          <p:nvPr/>
        </p:nvPicPr>
        <p:blipFill>
          <a:blip r:embed="rId1"/>
          <a:stretch/>
        </p:blipFill>
        <p:spPr>
          <a:xfrm>
            <a:off x="176040" y="1231920"/>
            <a:ext cx="8785440" cy="5187960"/>
          </a:xfrm>
          <a:prstGeom prst="rect">
            <a:avLst/>
          </a:prstGeom>
          <a:ln w="0">
            <a:noFill/>
          </a:ln>
        </p:spPr>
      </p:pic>
      <p:sp>
        <p:nvSpPr>
          <p:cNvPr id="252" name="Полилиния 3"/>
          <p:cNvSpPr/>
          <p:nvPr/>
        </p:nvSpPr>
        <p:spPr>
          <a:xfrm rot="2991600">
            <a:off x="5276520" y="1544400"/>
            <a:ext cx="2536920" cy="565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онные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равая фигурная скобка 1"/>
          <p:cNvSpPr/>
          <p:nvPr/>
        </p:nvSpPr>
        <p:spPr>
          <a:xfrm rot="19174200">
            <a:off x="5738400" y="1474560"/>
            <a:ext cx="552600" cy="15811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81120"/>
              <a:gd name="textAreaBottom" fmla="*/ 156672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29"/>
                </a:cubicBezTo>
                <a:lnTo>
                  <a:pt x="10800" y="10008"/>
                </a:lnTo>
                <a:cubicBezTo>
                  <a:pt x="10800" y="10323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6"/>
                </a:cubicBezTo>
                <a:lnTo>
                  <a:pt x="10800" y="20971"/>
                </a:lnTo>
                <a:cubicBezTo>
                  <a:pt x="10800" y="2128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8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авая фигурная скобка 6"/>
          <p:cNvSpPr/>
          <p:nvPr/>
        </p:nvSpPr>
        <p:spPr>
          <a:xfrm rot="13333200">
            <a:off x="782280" y="3841200"/>
            <a:ext cx="552600" cy="1579320"/>
          </a:xfrm>
          <a:custGeom>
            <a:avLst/>
            <a:gdLst>
              <a:gd name="textAreaLeft" fmla="*/ 0 w 552600"/>
              <a:gd name="textAreaRight" fmla="*/ 199440 w 552600"/>
              <a:gd name="textAreaTop" fmla="*/ 14400 h 1579320"/>
              <a:gd name="textAreaBottom" fmla="*/ 1564920 h 157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5"/>
                  <a:pt x="10800" y="630"/>
                </a:cubicBezTo>
                <a:lnTo>
                  <a:pt x="10800" y="10007"/>
                </a:lnTo>
                <a:cubicBezTo>
                  <a:pt x="10800" y="10322"/>
                  <a:pt x="16200" y="10637"/>
                  <a:pt x="21600" y="10637"/>
                </a:cubicBezTo>
                <a:cubicBezTo>
                  <a:pt x="16200" y="10637"/>
                  <a:pt x="10800" y="10952"/>
                  <a:pt x="10800" y="11267"/>
                </a:cubicBezTo>
                <a:lnTo>
                  <a:pt x="10800" y="20970"/>
                </a:lnTo>
                <a:cubicBezTo>
                  <a:pt x="10800" y="21285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6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олилиния 7"/>
          <p:cNvSpPr/>
          <p:nvPr/>
        </p:nvSpPr>
        <p:spPr>
          <a:xfrm rot="18894000">
            <a:off x="-118440" y="3586680"/>
            <a:ext cx="2354400" cy="6508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1008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чные (простые) зак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Заголовок 2"/>
          <p:cNvSpPr/>
          <p:nvPr/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Виды закон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2"/>
          <p:cNvSpPr/>
          <p:nvPr/>
        </p:nvSpPr>
        <p:spPr>
          <a:xfrm>
            <a:off x="12600" y="1700280"/>
            <a:ext cx="9036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Конституция РФ – основной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ада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высшей юридической сило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системе всех нормативных актов стран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ет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прямое действ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вляет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базо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сего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конодатель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1"/>
          <a:srcRect l="0" t="0" r="0" b="20516"/>
          <a:stretch/>
        </p:blipFill>
        <p:spPr>
          <a:xfrm>
            <a:off x="5219640" y="3664080"/>
            <a:ext cx="3773520" cy="3170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Конституция РФ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2"/>
          <p:cNvSpPr/>
          <p:nvPr/>
        </p:nvSpPr>
        <p:spPr>
          <a:xfrm>
            <a:off x="108000" y="1112760"/>
            <a:ext cx="9036000" cy="52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- регулируют вопросы особой важности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КЗ - это законы, принятие которых предусмотрено в самом тексте Конституции и которые вносят изменения в Конститу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Verdana"/>
              </a:rPr>
              <a:t>Особе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) обладают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олее высокой юридической силой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по сравнению с обыкновенными закон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) принимаются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собом порядк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 квалифицированным большинством, т.е. заранее установленным повышенным кворумом при голосова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В России, например, за принятие ФКЗ должны проголосовать не менее 2/3 депутатов Государственной Думы и 3/4 членов Совета Федерации от их списочного состава. В то время как для принятия обыкновенного закона достаточно простое большинство голосов в обеих палатах (50% плюс один голос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) Глава государства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 обладает правом вето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тношении ФКЗ, а должен по истечении определенного срока (в России - в течение 14 дней) подписать ФКЗ и обнародовать 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Федеральные конституционные законы (ФКЗ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одержание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и виды источников прав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нятие нормативного акта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иды нормативных актов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Действия нормативных актов во времени, пространстве и по кругу лиц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36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законные акт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79280" y="1197000"/>
            <a:ext cx="633744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одзаконные акты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(указы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остановления, приказы, инструкции…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- обладаю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меньшей юридической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илой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, чем закон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(издаются на основани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во исполнение законов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Их принимают </a:t>
            </a: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органы исполнительной власти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onstantia"/>
              </a:rPr>
              <a:t>и должностные лица</a:t>
            </a:r>
            <a:r>
              <a:rPr b="0" i="1" lang="ru-RU" sz="2400" spc="-1" strike="noStrike">
                <a:solidFill>
                  <a:srgbClr val="000000"/>
                </a:solidFill>
                <a:latin typeface="Constantia"/>
              </a:rPr>
              <a:t>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езидент РФ (указы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равительство Российской Федерации (постановления, распоряжения)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инистерства (разъяснения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и другие органы власти в пределах своей компетен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4" name="Picture 7" descr="http://www.ilinskiy.ru/awards/ord-zaslugi-uk.jpg"/>
          <p:cNvPicPr/>
          <p:nvPr/>
        </p:nvPicPr>
        <p:blipFill>
          <a:blip r:embed="rId1"/>
          <a:stretch/>
        </p:blipFill>
        <p:spPr>
          <a:xfrm>
            <a:off x="6524640" y="3144960"/>
            <a:ext cx="2619360" cy="371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во времени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08000" y="1484280"/>
            <a:ext cx="9036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ачинается  с момента вступления его в силу (дата или момент опубликования), а прекращается с момента утраты им юридической силы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рмативные правовые акты прекращают действие (утрачивают силу) в результате следующих трех обстоятельств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о истечении срока действия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а который был принят акт,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2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прямой отмен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официально объявлен отмененным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3) в результате </a:t>
            </a:r>
            <a:r>
              <a:rPr b="1" i="1" lang="ru-RU" sz="2000" spc="-1" strike="noStrike">
                <a:solidFill>
                  <a:srgbClr val="c00000"/>
                </a:solidFill>
                <a:latin typeface="Constantia"/>
              </a:rPr>
              <a:t>косвенной отмены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(принятие нового НПА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Рисунок 5" descr=""/>
          <p:cNvPicPr/>
          <p:nvPr/>
        </p:nvPicPr>
        <p:blipFill>
          <a:blip r:embed="rId1"/>
          <a:srcRect l="14535" t="0" r="13015" b="0"/>
          <a:stretch/>
        </p:blipFill>
        <p:spPr>
          <a:xfrm>
            <a:off x="6156360" y="3887640"/>
            <a:ext cx="2835360" cy="2936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7640" y="174600"/>
            <a:ext cx="43196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Действие НПА </a:t>
            </a:r>
            <a:br>
              <a:rPr sz="4500"/>
            </a:b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в пространстве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4560" y="1483920"/>
            <a:ext cx="9109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Определяется  территорией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,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которую распространяются </a:t>
            </a:r>
            <a:br>
              <a:rPr sz="2000"/>
            </a:b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ластные полномочия органа, издавшего акт </a:t>
            </a:r>
            <a:br>
              <a:rPr sz="2000"/>
            </a:br>
            <a:r>
              <a:rPr b="1" lang="ru-RU" sz="1800" spc="-1" strike="noStrike" u="sng">
                <a:solidFill>
                  <a:srgbClr val="c00000"/>
                </a:solidFill>
                <a:uFillTx/>
                <a:latin typeface="Verdana"/>
                <a:ea typeface="Verdana"/>
              </a:rPr>
              <a:t>(с учетом принципа экстерриториальности)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1</a:t>
            </a:r>
            <a:r>
              <a:rPr b="1" lang="ru-RU" sz="18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всю территорию России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распространяется действие Конституции РФ, федеральных НПА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2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территорию субъекта РФ -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действие актов органов государственной власти субъекта РФ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3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На строго определенной </a:t>
            </a:r>
            <a:r>
              <a:rPr b="0" i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ограниченной части территории </a:t>
            </a:r>
            <a:r>
              <a:rPr b="1" i="1" lang="ru-RU" sz="1200" spc="-1" strike="noStrike">
                <a:solidFill>
                  <a:srgbClr val="002060"/>
                </a:solidFill>
                <a:latin typeface="Verdana"/>
                <a:ea typeface="Verdana"/>
              </a:rPr>
              <a:t>(например, при введении режима чрезвычайного положения при наводнении региона)</a:t>
            </a: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4. </a:t>
            </a:r>
            <a:r>
              <a:rPr b="0" lang="ru-RU" sz="2000" spc="-1" strike="noStrike">
                <a:solidFill>
                  <a:srgbClr val="002060"/>
                </a:solidFill>
                <a:latin typeface="Verdana"/>
                <a:ea typeface="Verdana"/>
              </a:rPr>
              <a:t>Локальные акты, которые действуют на ограниченной территории предприятия, учреждения, организации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5" descr="http://krepoteka.ru/wp-content/uploads/2015/04/gubernatorskaya-vyplata_5-300x164.png"/>
          <p:cNvPicPr/>
          <p:nvPr/>
        </p:nvPicPr>
        <p:blipFill>
          <a:blip r:embed="rId1"/>
          <a:stretch/>
        </p:blipFill>
        <p:spPr>
          <a:xfrm>
            <a:off x="5003640" y="-42840"/>
            <a:ext cx="413892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Прямоугольник 3"/>
          <p:cNvSpPr/>
          <p:nvPr/>
        </p:nvSpPr>
        <p:spPr>
          <a:xfrm>
            <a:off x="179280" y="1666800"/>
            <a:ext cx="828036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яется на всех граждан РФ, а так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ностранцев, лиц без гражданства (апатридов)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лиц с двойным гражданством (бипатридов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тдельные НПА распространяются только на конкретные категории граждан (например, на судей или военнослужащих, пенсионеров и д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Verdana"/>
                <a:ea typeface="Arial"/>
              </a:rPr>
              <a:t>3.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отрудники дипломатических, консульски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и иных зарубежных госучрежд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ользуются дипломатическим иммунит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ействие НПА по кругу лиц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3" name="Рисунок 2" descr=""/>
          <p:cNvPicPr/>
          <p:nvPr/>
        </p:nvPicPr>
        <p:blipFill>
          <a:blip r:embed="rId1"/>
          <a:stretch/>
        </p:blipFill>
        <p:spPr>
          <a:xfrm>
            <a:off x="7169040" y="4292640"/>
            <a:ext cx="19749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Прямоугольник 2"/>
          <p:cNvSpPr/>
          <p:nvPr/>
        </p:nvSpPr>
        <p:spPr>
          <a:xfrm>
            <a:off x="41400" y="1447920"/>
            <a:ext cx="9055080" cy="42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ПА действуют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только на «будущие» правоотношения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 и не распространяются на отношения, возникшие до момента их вступления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в силу. </a:t>
            </a:r>
            <a:r>
              <a:rPr b="1" lang="ru-RU" sz="1800" spc="-1" strike="noStrike">
                <a:solidFill>
                  <a:srgbClr val="c00000"/>
                </a:solidFill>
                <a:latin typeface="Verdana"/>
                <a:ea typeface="Arial"/>
              </a:rPr>
              <a:t>Но есть исключения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Закону может быть придана обратная сила! То есть его норм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Verdana"/>
                <a:ea typeface="Arial"/>
              </a:rPr>
              <a:t>могут быть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распространены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на отношения, возникшие до его при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Обратная сила придается НПА в случая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когда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законодатель принимает такое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(отношения, которые вообще не был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урегулированы ранее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2) когда акты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отменяют или смягчают 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наказание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Arial"/>
              </a:rPr>
              <a:t>по сравнению с предшествующим законом, т.е. создают более льготный реж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5292720" cy="990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Обратная сила НП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4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§  2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L15_p2_1"/>
          <p:cNvPicPr/>
          <p:nvPr/>
        </p:nvPicPr>
        <p:blipFill>
          <a:blip r:embed="rId1"/>
          <a:stretch/>
        </p:blipFill>
        <p:spPr>
          <a:xfrm>
            <a:off x="539640" y="3521160"/>
            <a:ext cx="1963800" cy="27939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6" name="Picture 5" descr="L15_p2_2"/>
          <p:cNvPicPr/>
          <p:nvPr/>
        </p:nvPicPr>
        <p:blipFill>
          <a:blip r:embed="rId2"/>
          <a:stretch/>
        </p:blipFill>
        <p:spPr>
          <a:xfrm>
            <a:off x="3510000" y="3506760"/>
            <a:ext cx="221148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7" name="Picture 6" descr="L15_p2_3"/>
          <p:cNvPicPr/>
          <p:nvPr/>
        </p:nvPicPr>
        <p:blipFill>
          <a:blip r:embed="rId3"/>
          <a:stretch/>
        </p:blipFill>
        <p:spPr>
          <a:xfrm>
            <a:off x="6732720" y="3521160"/>
            <a:ext cx="1871640" cy="280836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08" name="Заголовок 1" descr=""/>
          <p:cNvPicPr/>
          <p:nvPr/>
        </p:nvPicPr>
        <p:blipFill>
          <a:blip r:embed="rId4"/>
          <a:stretch/>
        </p:blipFill>
        <p:spPr>
          <a:xfrm>
            <a:off x="298440" y="182520"/>
            <a:ext cx="8169120" cy="100008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2"/>
          <p:cNvSpPr/>
          <p:nvPr/>
        </p:nvSpPr>
        <p:spPr>
          <a:xfrm>
            <a:off x="250920" y="2276640"/>
            <a:ext cx="4032000" cy="108036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ормы (источники) права – официальные способы выражения и закрепления правовых нор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5219640" y="2305080"/>
            <a:ext cx="3767040" cy="1191240"/>
          </a:xfrm>
          <a:prstGeom prst="rect">
            <a:avLst/>
          </a:prstGeom>
          <a:solidFill>
            <a:srgbClr val="009d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сточники права - факторы, порождающие появление и действие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/>
          <p:cNvSpPr/>
          <p:nvPr/>
        </p:nvSpPr>
        <p:spPr>
          <a:xfrm>
            <a:off x="108000" y="1484280"/>
            <a:ext cx="903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уществуют два подхода к понятию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«источник права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4"/>
          <p:cNvSpPr/>
          <p:nvPr/>
        </p:nvSpPr>
        <p:spPr>
          <a:xfrm>
            <a:off x="4714920" y="1143000"/>
            <a:ext cx="4286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и права - это действующий в государстве официальный документ, устанавливающий или санкционирующий нормы права; внешние формы выражения правотворческой деятельности государства, с помощью которой воля законодателя становится обязательной для испол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42920" y="2071800"/>
            <a:ext cx="457200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1"/>
          <p:cNvSpPr/>
          <p:nvPr/>
        </p:nvSpPr>
        <p:spPr>
          <a:xfrm>
            <a:off x="357120" y="214200"/>
            <a:ext cx="7715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стории развития права различают несколько видов источников права, причем их значение в каждом типе права неодинаков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1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вой обыча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правило поведения, которое сложилось исторически в силу постоянной повторяемости в течение длительного времени и санкционировано государством в качестве общеобязательного правила. В период становления права преобладающее значение имел правовой обычай. Обычное право было основным источником права на ранних этапах развития рабовладельческого и феодального права. В современных государствах правовой обычай применяется довольно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5929200" y="3357720"/>
            <a:ext cx="2495520" cy="28573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785880" y="3429000"/>
            <a:ext cx="23432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Прямоугольник 1"/>
          <p:cNvSpPr/>
          <p:nvPr/>
        </p:nvSpPr>
        <p:spPr>
          <a:xfrm>
            <a:off x="500040" y="428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Судебный прецеден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решение суда (обычно это высшая судебная инстанция в стране) по конкретному делу, которое затем становится образцом, обязательным правилом для решения аналогичных дел в будущем. В настоящее время такой источник широко используется в англосаксонских странах (например "общее право" Англии). Прецедентное право чрезвычайно громоздко, запутанно и противоречиво, позволяет суду осуществлять правотворческие функции как в случае отсутствия соответствующего закона, так и при его налич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6215040" y="571680"/>
            <a:ext cx="1943280" cy="2071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5500800" y="3643200"/>
            <a:ext cx="30718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571680" y="35712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Нормативный догов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оглашение между различными субъектами права, в которых содержатся нормы права. Он является одним из основных источников международного права. В ряде случаев нормативный договор используется во внутригосударственном пра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6143760" y="357120"/>
            <a:ext cx="2085840" cy="1562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4500720" y="2857680"/>
            <a:ext cx="4381200" cy="31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928800" y="3571920"/>
            <a:ext cx="30718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1"/>
          <p:cNvSpPr/>
          <p:nvPr/>
        </p:nvSpPr>
        <p:spPr>
          <a:xfrm>
            <a:off x="428760" y="28584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Религиоз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священные книги и сборники, которые непосредственно применяются в судебной и иной юридической практике. Этот источник применяется, в первую очередь, в мусульманском праве (Коран - собрание поучений и заповедей Аллаха, Сунна - жизнеописание пророка Мухаммед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5429160" y="571680"/>
            <a:ext cx="3429000" cy="1857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3"/>
          <a:stretch/>
        </p:blipFill>
        <p:spPr>
          <a:xfrm>
            <a:off x="5857920" y="2643120"/>
            <a:ext cx="24861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286160" y="35712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ктринальные текст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это мнения, идеи и доктрины выдающихся ученых-юристов. В римском праве работы некоторых известных юристов (например Ульпиана) зачастую составляли основу решения юридических дел. Судьи в англоязычных странах нередко основывают свои решения на трудах английских ученых. В мусульманских странах созданные в XII-XIV в. труды арабских юристов, знатоков ислама (иджма) имеют официальное юридическо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3238200" cy="2428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"/>
          <p:cNvPicPr/>
          <p:nvPr/>
        </p:nvPicPr>
        <p:blipFill>
          <a:blip r:embed="rId2"/>
          <a:stretch/>
        </p:blipFill>
        <p:spPr>
          <a:xfrm>
            <a:off x="1071720" y="4143240"/>
            <a:ext cx="2857320" cy="19051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"/>
          <p:cNvPicPr/>
          <p:nvPr/>
        </p:nvPicPr>
        <p:blipFill>
          <a:blip r:embed="rId3"/>
          <a:stretch/>
        </p:blipFill>
        <p:spPr>
          <a:xfrm>
            <a:off x="5143680" y="4286160"/>
            <a:ext cx="15285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7:15:10Z</dcterms:created>
  <dc:creator>UserXP</dc:creator>
  <dc:description/>
  <dc:language>en-US</dc:language>
  <cp:lastModifiedBy>ПК</cp:lastModifiedBy>
  <dcterms:modified xsi:type="dcterms:W3CDTF">2020-04-18T11:36:21Z</dcterms:modified>
  <cp:revision>14</cp:revision>
  <dc:subject/>
  <dc:title>Источники права</dc:title>
</cp:coreProperties>
</file>