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9.jpeg" ContentType="image/jpeg"/>
  <Override PartName="/ppt/media/image12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29.png" ContentType="image/png"/>
  <Override PartName="/ppt/media/image4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537D-324A-44C7-BE0D-A8974301F5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6B27-D370-4C81-A41D-BF3E5AAE22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4FCA-8A17-4A1B-927E-D7B21FFB6D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FAE-865B-4612-A20D-E719DC99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A10-0200-4915-B5EC-23CB46D1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31F-E65E-4490-8900-37BE1D8E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FE9-04A6-470F-BA6A-2D26595B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DC9A-4CFF-4C63-AE7C-53513170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0351-6BA3-45C3-BBF5-F9843F82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BDD7-195C-41BB-97AC-E1C9AED2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B0B7-CFA7-435B-8813-B7970FC1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E3B6-CC59-4115-90A9-98790790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8025-78DE-4569-86CF-F1C2F631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9D62-771A-4537-B058-ED0549FB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E44-5689-4512-8763-EA8AB1F1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118F-9BAD-477B-A50F-E1538865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73D3-B896-4C10-B836-9FCB585A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AF9A-15D2-4ABF-86B2-BE064B3A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0F18-1584-4A17-9CE1-13FF0DF5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24B7-437C-45B1-BE47-0D361568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DD6A-3334-4B62-84BE-3049DCEA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3BEC-1F08-4BF4-AD99-A63597FD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B978-9424-4A2A-9AAC-36D10759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325F7-1A78-40AC-9FB8-5CAABA3B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4A6E-3403-4ECB-B260-03898FA7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316-C62F-4D0E-9BCD-E4936BCE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4876-F62E-44DA-AEEB-88702BE2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D4F1-A1CB-4241-9454-8D347B51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98FF3-7EF3-4080-9F36-B6693E9B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5C35-A386-47D0-B612-413C0FB9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4880C-63E1-4997-970D-2227F609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9973-B018-495E-A94D-92A6892D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42D1-3BBA-4FE0-9ED0-8650901C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92A76-9997-4973-9FEA-AC748326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93863-B056-4396-A42C-0DFE28AB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17C44-A3D3-4874-88CD-8593518F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7C2-ACCB-47A2-8741-3A999F52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D6EAA-FB77-447B-8687-1D5BA26C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04E7-D7F3-4513-91D4-D4FCE979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258F-35FD-43CC-A3A6-2D75E2FF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0957-3B45-4887-BC4C-315F014E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63728-4B27-470B-A9D0-BB2680E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2923C-FEC8-41A2-B7CC-1BD73852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A495-82EC-4C03-A917-E775F2EF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E685-E1A2-4F08-8F9C-59C67022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1902-6884-47BB-A2A5-C9250ED9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096-B57C-4236-9200-85245A30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9F8-76EF-413B-8818-449F59A8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983-456A-4D7C-A81C-06716668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B0B-C00E-4A61-AFB3-B76C1F6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C2C-38EE-401B-948C-70E6F163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6E14-3E71-4FAB-AE00-1B2D90E2BA1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5EDF-3939-4175-BA88-C8FFE268E37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656F-DF58-41EF-98FF-2F3596618AE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58E9-DD38-4677-8D64-42B7C282751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944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785880" y="4287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ие принципы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уководящие, принципиальные положения, исходные начала всего права в целом либо определенной его отрасли. В соответствии с законодательством ряда западных государств, при отсутствии конкретной нормы, прецедента или правового обычая, возможно при решении юридических дел ссылаться на принципы справедливости, доброй совести, социальной ориентации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429160" y="357120"/>
            <a:ext cx="1714680" cy="2667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6572160" y="335772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785880" y="4071960"/>
            <a:ext cx="2028600" cy="2247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3643200" y="4071960"/>
            <a:ext cx="1790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500040" y="285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. Нормативный правовой акт как источник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официальный письменный акт, изданный компетентным органом или принятый всеми гражданами государства в форме референдума, устанавливающий, изменяющий либо отменяющий нормы права. Это наиболее совершенный источник права, создающий основу для четкости, точности и стабильности правового регулирования, укрепления законности, доступности и обозримости правовых предписаний. Он облегчает надзор за исполнением юридических предписаний, их толкование, систематизацию, учет. Ему присуща письменная, строго документированная форма и особый, четко регламентированный процессуальный порядок принятия и опублик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57120" y="3643200"/>
            <a:ext cx="2428920" cy="226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6000840" y="328608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tretch/>
        </p:blipFill>
        <p:spPr>
          <a:xfrm>
            <a:off x="3286080" y="4643280"/>
            <a:ext cx="228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928800" y="100008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ормативные акты находятся между собой в строгой иерархической соподчиненности, от которой зависит юридическая сила каждого из них. Акты нижестоящих правотворческих органов должны соответствовать и не противоречить актам вышестоящих орган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Нормативные акты классифицируются по их юридической силе, определяемой компетенцией и положением издавшего их органа в механизме государства, а также характером самих 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я - основной закон госуда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о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законные акты (указы, постановления, инструкции, декреты, ордонансы и д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D:\Documents and Settings\Валерий\Рабочий стол\ЮрСила Актов Права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-109440" y="-139680"/>
            <a:ext cx="9442440" cy="106056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5" descr=""/>
          <p:cNvPicPr/>
          <p:nvPr/>
        </p:nvPicPr>
        <p:blipFill>
          <a:blip r:embed="rId2"/>
          <a:stretch/>
        </p:blipFill>
        <p:spPr>
          <a:xfrm>
            <a:off x="-73080" y="835200"/>
            <a:ext cx="91807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33904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Нормативные акты разделяются на виды в зависимости от юридической силы, на законы и подзаконные акты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Constantia"/>
              </a:rPr>
              <a:t>Подзаконные нормативные ак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2492280"/>
            <a:ext cx="40399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6000"/>
          </a:bodyPr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Зако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нормативный акт, принятый в особом порядке высшим представительным органом законодательной власти либо непосредственным волеизъявлением населения путем референдума и регулирующий наиболее важные и устойчивые общественные отношения. Законы составляют основу правовой системы государства, ее центральную ча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787640" y="2349000"/>
            <a:ext cx="404172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8000"/>
          </a:bodyPr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Подзаконные нормативные акт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- это принятые компетентным органом и устанавливающие нормы права юридические акты, которые основаны на законе и не противоречат ему. Вся система таких актов строится на строгой их соподчиненности между собой. Их юридическая сила зависит от положения соответствующего органа, издающего подзаконный нормативный акт, в общей иерархической системе органов государств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хема 27" descr=""/>
          <p:cNvPicPr/>
          <p:nvPr/>
        </p:nvPicPr>
        <p:blipFill>
          <a:blip r:embed="rId1"/>
          <a:stretch/>
        </p:blipFill>
        <p:spPr>
          <a:xfrm>
            <a:off x="176040" y="1231920"/>
            <a:ext cx="8785440" cy="5187960"/>
          </a:xfrm>
          <a:prstGeom prst="rect">
            <a:avLst/>
          </a:prstGeom>
          <a:ln w="0">
            <a:noFill/>
          </a:ln>
        </p:spPr>
      </p:pic>
      <p:sp>
        <p:nvSpPr>
          <p:cNvPr id="252" name="Полилиния 3"/>
          <p:cNvSpPr/>
          <p:nvPr/>
        </p:nvSpPr>
        <p:spPr>
          <a:xfrm rot="2991600">
            <a:off x="5276520" y="1544400"/>
            <a:ext cx="2536920" cy="565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онные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авая фигурная скобка 1"/>
          <p:cNvSpPr/>
          <p:nvPr/>
        </p:nvSpPr>
        <p:spPr>
          <a:xfrm rot="19174200">
            <a:off x="5738400" y="1474560"/>
            <a:ext cx="552600" cy="15811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81120"/>
              <a:gd name="textAreaBottom" fmla="*/ 1566720 h 15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29"/>
                </a:cubicBezTo>
                <a:lnTo>
                  <a:pt x="10800" y="10008"/>
                </a:lnTo>
                <a:cubicBezTo>
                  <a:pt x="10800" y="10323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6"/>
                </a:cubicBezTo>
                <a:lnTo>
                  <a:pt x="10800" y="20971"/>
                </a:lnTo>
                <a:cubicBezTo>
                  <a:pt x="10800" y="2128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авая фигурная скобка 6"/>
          <p:cNvSpPr/>
          <p:nvPr/>
        </p:nvSpPr>
        <p:spPr>
          <a:xfrm rot="13333200">
            <a:off x="782280" y="3841200"/>
            <a:ext cx="552600" cy="15793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79320"/>
              <a:gd name="textAreaBottom" fmla="*/ 1564920 h 15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007"/>
                </a:lnTo>
                <a:cubicBezTo>
                  <a:pt x="10800" y="10322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7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7"/>
          <p:cNvSpPr/>
          <p:nvPr/>
        </p:nvSpPr>
        <p:spPr>
          <a:xfrm rot="18894000">
            <a:off x="-118440" y="3586680"/>
            <a:ext cx="2354400" cy="65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е (простые)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Заголовок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иды зак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2600" y="1700280"/>
            <a:ext cx="90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Конституция РФ – основно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ада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ысшей юридической сил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истеме всех нормативных актов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ямое 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баз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онода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3" descr=""/>
          <p:cNvPicPr/>
          <p:nvPr/>
        </p:nvPicPr>
        <p:blipFill>
          <a:blip r:embed="rId1"/>
          <a:srcRect l="0" t="0" r="0" b="20516"/>
          <a:stretch/>
        </p:blipFill>
        <p:spPr>
          <a:xfrm>
            <a:off x="5219640" y="3664080"/>
            <a:ext cx="3773520" cy="31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онституция Р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2"/>
          <p:cNvSpPr/>
          <p:nvPr/>
        </p:nvSpPr>
        <p:spPr>
          <a:xfrm>
            <a:off x="108000" y="1112760"/>
            <a:ext cx="9036000" cy="52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регулируют вопросы особой важнос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З - это законы, принятие которых предусмотрено в самом тексте Конституции и которые вносят изменения в Конститу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обладаю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олее высокой юридической сил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 сравнению с обыкновенными зако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приним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собом порядк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квалифицированным большинством, т.е. заранее установленным повышенным кворумом при голос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 России, например, за принятие ФКЗ должны проголосовать не менее 2/3 депутатов Государственной Думы и 3/4 членов Совета Федерации от их списочного состава. В то время как для принятия обыкновенного закона достаточно простое большинство голосов в обеих палатах (50% плюс один голос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Глава государств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 обладает правом вет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тношении ФКЗ, а должен по истечении определенного срока (в России - в течение 14 дней) подписать ФКЗ и обнародо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Федеральные конституционные законы (ФКЗ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держ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и виды источников пра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нормативного ак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ы нормативных ак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йствия нормативных актов во времени, пространстве и по кругу лиц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законные ак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9280" y="1197000"/>
            <a:ext cx="63374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дзаконные акт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указ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ановления, приказы, инструкции…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бладаю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ньшей юридическо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чем закон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издаются на основан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во исполнение закон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х принимают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рганы исполнительной власт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и должностные лица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идент РФ (указы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авительство Российской Федерации (постановления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инистерства (разъяснения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другие органы власти в пределах своей компетен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7" descr="http://www.ilinskiy.ru/awards/ord-zaslugi-uk.jpg"/>
          <p:cNvPicPr/>
          <p:nvPr/>
        </p:nvPicPr>
        <p:blipFill>
          <a:blip r:embed="rId1"/>
          <a:stretch/>
        </p:blipFill>
        <p:spPr>
          <a:xfrm>
            <a:off x="6524640" y="3144960"/>
            <a:ext cx="2619360" cy="371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во време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8000" y="1484280"/>
            <a:ext cx="9036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инается  с момента вступления его в силу (дата или момент опубликования), а прекращается с момента утраты им юридической сил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рмативные правовые акты прекращают действие (утрачивают силу) в результате следующих трех обстоятельств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о истечении срока действия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 который был принят акт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рямой отме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официально объявлен отмененным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косвенной отмены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принятие нового НП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1"/>
          <a:srcRect l="14535" t="0" r="13015" b="0"/>
          <a:stretch/>
        </p:blipFill>
        <p:spPr>
          <a:xfrm>
            <a:off x="6156360" y="3887640"/>
            <a:ext cx="2835360" cy="29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640" y="174600"/>
            <a:ext cx="43196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Действие НПА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 пространств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4560" y="1483920"/>
            <a:ext cx="910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Определяется  территорией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которую распространяются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ластные полномочия органа, издавшего акт </a:t>
            </a:r>
            <a:br>
              <a:rPr sz="2000"/>
            </a:br>
            <a:r>
              <a:rPr b="1" lang="ru-RU" sz="18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(с учетом принципа экстерриториальности)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1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сю территорию России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распространяется действие Конституции РФ, федеральных НП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2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территорию субъекта РФ -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действие актов органов государственной власти субъекта Р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3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строго определенной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ограниченной части территории </a:t>
            </a:r>
            <a:r>
              <a:rPr b="1" i="1" lang="ru-RU" sz="1200" spc="-1" strike="noStrike">
                <a:solidFill>
                  <a:srgbClr val="002060"/>
                </a:solidFill>
                <a:latin typeface="Verdana"/>
                <a:ea typeface="Verdana"/>
              </a:rPr>
              <a:t>(например, при введении режима чрезвычайного положения при наводнении региона)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4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Локальные акты, которые действуют на ограниченной территории предприятия, учреждения, организ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5" descr="http://krepoteka.ru/wp-content/uploads/2015/04/gubernatorskaya-vyplata_5-300x164.png"/>
          <p:cNvPicPr/>
          <p:nvPr/>
        </p:nvPicPr>
        <p:blipFill>
          <a:blip r:embed="rId1"/>
          <a:stretch/>
        </p:blipFill>
        <p:spPr>
          <a:xfrm>
            <a:off x="5003640" y="-42840"/>
            <a:ext cx="41389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3"/>
          <p:cNvSpPr/>
          <p:nvPr/>
        </p:nvSpPr>
        <p:spPr>
          <a:xfrm>
            <a:off x="179280" y="1666800"/>
            <a:ext cx="82803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яется на всех граждан РФ, а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ностранцев, лиц без гражданства (апатридов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лиц с двойным гражданством (бипатрид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тдельные НПА распространяются только на конкретные категории граждан (например, на судей или военнослужащих, пенсионер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трудники дипломатических, консульски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иных зарубежных госучре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ьзуются дипломатическим иммунит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по кругу ли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7169040" y="4292640"/>
            <a:ext cx="19749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2"/>
          <p:cNvSpPr/>
          <p:nvPr/>
        </p:nvSpPr>
        <p:spPr>
          <a:xfrm>
            <a:off x="41400" y="1447920"/>
            <a:ext cx="905508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ПА действу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только на «будущие» право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и не распространяются на отношения, возникшие до момента их вступле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силу.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Arial"/>
              </a:rPr>
              <a:t>Но есть исключен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кону может быть придана обратная сила! То есть его норм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могут бы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отношения, возникшие до его при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братная сила придается НПА в случа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гд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законодатель принимает такое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(отношения, которые вообще не бы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урегулированы ране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) когда акт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отменяют или смягчают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наказа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 сравнению с предшествующим законом, т.е. создают более льготный ре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529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ратная сила НП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§  2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L15_p2_1"/>
          <p:cNvPicPr/>
          <p:nvPr/>
        </p:nvPicPr>
        <p:blipFill>
          <a:blip r:embed="rId1"/>
          <a:stretch/>
        </p:blipFill>
        <p:spPr>
          <a:xfrm>
            <a:off x="539640" y="3521160"/>
            <a:ext cx="1963800" cy="2793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5" descr="L15_p2_2"/>
          <p:cNvPicPr/>
          <p:nvPr/>
        </p:nvPicPr>
        <p:blipFill>
          <a:blip r:embed="rId2"/>
          <a:stretch/>
        </p:blipFill>
        <p:spPr>
          <a:xfrm>
            <a:off x="3510000" y="3506760"/>
            <a:ext cx="221148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7" name="Picture 6" descr="L15_p2_3"/>
          <p:cNvPicPr/>
          <p:nvPr/>
        </p:nvPicPr>
        <p:blipFill>
          <a:blip r:embed="rId3"/>
          <a:stretch/>
        </p:blipFill>
        <p:spPr>
          <a:xfrm>
            <a:off x="6732720" y="3521160"/>
            <a:ext cx="187164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8" name="Заголовок 1" descr=""/>
          <p:cNvPicPr/>
          <p:nvPr/>
        </p:nvPicPr>
        <p:blipFill>
          <a:blip r:embed="rId4"/>
          <a:stretch/>
        </p:blipFill>
        <p:spPr>
          <a:xfrm>
            <a:off x="298440" y="182520"/>
            <a:ext cx="8169120" cy="100008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2"/>
          <p:cNvSpPr/>
          <p:nvPr/>
        </p:nvSpPr>
        <p:spPr>
          <a:xfrm>
            <a:off x="250920" y="2276640"/>
            <a:ext cx="4032000" cy="10803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ы (источники) права – официальные способы выражения и закрепления правовых нор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5219640" y="2305080"/>
            <a:ext cx="3767040" cy="119124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чники права - факторы, порождающие появление и действ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8000" y="14842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уществуют два подхода к поняти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источник прав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4"/>
          <p:cNvSpPr/>
          <p:nvPr/>
        </p:nvSpPr>
        <p:spPr>
          <a:xfrm>
            <a:off x="4714920" y="1143000"/>
            <a:ext cx="4286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права - это действующий в государстве официальный документ, устанавливающий или санкционирующий нормы права; внешние формы выражения правотворческой деятельности государства, с помощью которой воля законодателя становится обязательной для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42920" y="2071800"/>
            <a:ext cx="45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357120" y="214200"/>
            <a:ext cx="771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стории развития права различают несколько видов источников права, причем их значение в каждом типе права неодинак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вой обы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авило поведения, которое сложилось исторически в силу постоянной повторяемости в течение длительного времени и санкционировано государством в качестве общеобязательного правила. В период становления права преобладающее значение имел правовой обычай. Обычное право было основным источником права на ранних этапах развития рабовладельческого и феодального права. В современных государствах правовой обычай применяется довольно ред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495520" cy="28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785880" y="342900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500040" y="4287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дебный прецед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ешение суда (обычно это высшая судебная инстанция в стране) по конкретному делу, которое затем становится образцом, обязательным правилом для решения аналогичных дел в будущем. В настоящее время такой источник широко используется в англосаксонских странах (например "общее право" Англии). Прецедентное право чрезвычайно громоздко, запутанно и противоречиво, позволяет суду осуществлять правотворческие функции как в случае отсутствия соответствующего закона, так и при его налич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215040" y="571680"/>
            <a:ext cx="1943280" cy="2071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500800" y="3643200"/>
            <a:ext cx="3071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571680" y="357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рмативный догов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оглашение между различными субъектами права, в которых содержатся нормы права. Он является одним из основных источников международного права. В ряде случаев нормативный договор используется во внутригосударственном пра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143760" y="357120"/>
            <a:ext cx="2085840" cy="1562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500720" y="2857680"/>
            <a:ext cx="4381200" cy="31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928800" y="3571920"/>
            <a:ext cx="3071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428760" y="2858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лигиоз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вященные книги и сборники, которые непосредственно применяются в судебной и иной юридической практике. Этот источник применяется, в первую очередь, в мусульманском праве (Коран - собрание поучений и заповедей Аллаха, Сунна - жизнеописание пророка Мухамме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5429160" y="571680"/>
            <a:ext cx="3429000" cy="1857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5857920" y="2643120"/>
            <a:ext cx="24861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4286160" y="3571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ктриналь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мнения, идеи и доктрины выдающихся ученых-юристов. В римском праве работы некоторых известных юристов (например Ульпиана) зачастую составляли основу решения юридических дел. Судьи в англоязычных странах нередко основывают свои решения на трудах английских ученых. В мусульманских странах созданные в XII-XIV в. труды арабских юристов, знатоков ислама (иджма) имеют официальное юридическ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5143680" y="4286160"/>
            <a:ext cx="1528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7:15:10Z</dcterms:created>
  <dc:creator>UserXP</dc:creator>
  <dc:description/>
  <dc:language>en-US</dc:language>
  <cp:lastModifiedBy>ПК</cp:lastModifiedBy>
  <dcterms:modified xsi:type="dcterms:W3CDTF">2020-04-18T11:36:21Z</dcterms:modified>
  <cp:revision>14</cp:revision>
  <dc:subject/>
  <dc:title>Источники права</dc:title>
</cp:coreProperties>
</file>