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7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30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CAEB-7502-4CAC-8A37-9DD5E92C43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2D00-21CC-45FE-8BD2-CE8CF4121D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044B-70CE-4FE3-952D-FDBB36D6C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CDD0-CC00-4BB3-BA05-7A3C13B4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A689-FEE7-42C9-8B4D-42FA68C44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2648-836E-4DEC-A3E3-C32DA3832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EFB1-DD7B-4E20-A9FA-A26AA4D4C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B024-7A46-4708-9BC0-51303F1D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AB56-ABC6-4F67-A090-7B2B0F0F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D7A5-F4A3-4781-B8AD-0D996EDB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3D03-F84B-4CA1-BE23-3DEBAF0F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4D21-35E0-416E-88CD-5BBF6AB4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5EDD-BD5C-422F-95C4-5AE7177C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351F-794A-4CD3-968B-8CAF84A8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C657-53B4-4FF8-8907-7A869FFC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DF3B-03B2-41C4-9B38-017DBA77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DA92-8172-47A8-902E-AC94AD88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93BE-C4AE-4D8B-B0A2-2897B1219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2BFB-769F-4110-91EF-CB9971BEB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1FBC5-F5E7-4D22-ADEF-A2E8F6732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6353C-7D89-4E47-8826-24C8528D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01A2C-E5F9-4AA7-8D39-919E1318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64E50-C447-487A-BC72-9AF64C47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DD7D8-B72D-4A6D-9D69-DB6C273C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4B18-9CB2-405A-80EA-F251FAA1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B0A70-9E98-4E72-965B-CEE80525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36D30-32E1-4970-8CE4-98328CC6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C9451-6892-4E04-B0CC-4340488E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DAA1D-0703-4B56-9CE9-3A20244D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018CD-D338-4C3F-937B-0966B5AB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F1C20-522E-4BE8-B4A4-9B3D33AB2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19A91-04D2-4349-A760-F9EF1F28E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78E17-536E-4E5D-9636-C96D36962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76D81-C480-4208-8D5F-E5099DBA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A88A2-9029-4D24-B3A6-C56B025E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8511-EC40-40E1-A30D-8FE05CAA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6E1AF-5F1E-41A5-8919-DD0ACC7C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19590-D0AE-4FFD-BE7D-03C71C6B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DEF01-9D4D-474D-BC93-73B3CCAA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CC574-E963-48D4-BA5F-2F205767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B2BD4-6C07-487A-B3AC-EA9ABEDF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68687-A1DC-4D06-9087-B6B561F0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3E939-F7E6-4C95-911C-76ACEE1E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E225E-CA7E-4F1B-93E5-5DD55626B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641C7-561E-408A-99BD-A1CB38C39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0F58D-E872-4BBE-B151-811CA6B77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68A0-38AD-4903-87CD-3BB52160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5DBD5-8005-4929-BF1A-176E8BA0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65C03-EB3D-4DE0-91FD-1F2BB61C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E8A42-A0BB-449F-9E34-A9DC75E0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E4BDA-FA48-4B42-AF14-D69D8A70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62DC1-59ED-4438-B6C9-0704CD1A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6C07E-7CC5-4BBF-832B-0C8A802C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09BEA-EB47-48A0-8D18-23D2F6F0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FF760-673A-4A01-AD75-82F8AAFF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38351-9B9F-48B4-B2EE-9CC4A18D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85855-09F4-4FA7-8725-90C3FA84D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584F-531B-4CB2-BA93-EBCB8C73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DD2FE-0A6D-4A6B-8494-BC5BD4B68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074F2-1087-4E66-AFFD-D351B3287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C060A-93A1-4661-9B0C-7A88C8D4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599AE-0315-41FA-96F8-1DA464BD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0D647-8913-4386-ACC6-6184B076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B0FB6-9B3A-46F2-BDCE-CB55797E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A1D4D-4695-4638-AFED-B3251C92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03013-9B1B-4E28-95C7-A4952BEA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4EB2A-3A8B-43F4-8C2D-17530B88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49376-2C85-4657-99FA-CEBDF932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9C4D-801C-48AB-A32C-B3AEF465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4C9AE-E9F0-4533-AD20-BF0EF833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AB277-DAC6-4E77-B0D6-33A8E725C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7A413-B6EF-48DC-BB39-27498897E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78445-B1F8-4D14-AF18-F6FD5CFAA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7B410-66F0-42A8-8B73-B9C2A521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67A32-3D89-4D51-91BB-EDD6A2F9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48D75-CEBD-4B3C-95D4-EDDD12DB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ADA1E-CC2B-4B9B-868F-E01943BD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91421-9BBB-4756-837B-846CF632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097D7-640E-4A68-AAE7-1F90273B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53D7-F9EA-4C47-B386-103F5A57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40497-F299-4B2D-96DF-86EF72FB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8FB3B-39A1-4BB6-B4B7-8157FC7A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54133-B6B2-4932-9AE9-264E126C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52E80-58B2-449F-A4EA-F98D289F1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3F41A-4360-4F2B-93BF-A63634B24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365F5-E6BD-407C-BDB1-557350803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17DBC-D8C0-490D-9D29-29418F0B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BC1B7-1EC4-44B6-BF51-32876E26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55929-BAEB-47D0-A2C3-25D35D85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1492C-2819-42D1-B590-A8C0D6A5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F16C-E2F2-4E19-A453-693208C6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BC5A5-9BB0-4035-A014-D9894466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B92E5-44B2-4E99-AB84-8561148C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0AD3A-4CC9-460D-8AE1-3DF73B2A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F0D7B-CC9E-485C-BFEB-54BB01C1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04539-8B50-4376-91CC-F9A5AB44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D8BD6-0677-4F76-9FCE-10C28756C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FEDFB-A592-4A4C-BDF8-18642838E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BC24-76CB-42BF-A507-CD207A5CBE7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Text Box 12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9EED-EE16-492A-8CF7-DD03B91D1A5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9180-532D-4C79-932F-D7A3937F50B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569D-AAA5-4D6C-82CA-B4864762DEE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1D1B-2B05-4BF2-B2D8-E7847FC5775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85C8-CBC2-4CB4-B7D7-D871466F3F2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A06F-63C7-400F-8AB4-C646C9C9519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1A77-1941-4D85-BB4B-70A335E7C9F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pic>
        <p:nvPicPr>
          <p:cNvPr id="378" name="Заголовок 9" descr=""/>
          <p:cNvPicPr/>
          <p:nvPr/>
        </p:nvPicPr>
        <p:blipFill>
          <a:blip r:embed="rId2"/>
          <a:stretch/>
        </p:blipFill>
        <p:spPr>
          <a:xfrm>
            <a:off x="633240" y="2139840"/>
            <a:ext cx="8089920" cy="14814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464646"/>
                </a:solidFill>
                <a:latin typeface="Lucida Sans Unicode"/>
              </a:rPr>
              <a:t>НЕ ПОГИБНЕТ ЛИ ЧЕЛОВЕЧЕСТВО ОТ РАЗУМА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220464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Мир вступил в XXI век. Вступил радостно, но и с тревогой. Научно-технические достижения ушедшего века существенно изменили образ жизни людей, сделали его более комфортным и свободным. Новые технологии, новые материалы, новые средства связи - физической и информационной - быстро становились повседневными, привычными, обыденными.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Заголовок 2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индустриальное общество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Р. Арон, Д. Белл, Е. Масуда; конец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60-е годы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века; не следует сокращать темпы экономического развития, «никаких ограничений» ПРОГРЕССУ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УКА – непосредственная производительная сила обществ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438120" y="268200"/>
            <a:ext cx="87123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остиндустриальное общество (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, Белл, З. Бжезинский, Э. Тоффлер, 50-60-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X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ека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ТП ведёт к всеобщему благоденствию и процветанию, новый виток НТР («третья волна») создаст единую социокультурную общность без существенного изменения системы политической власти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дея передачи власти людям науки и техники (технократия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теория конвергенции (сближения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) -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. А. Сорокин, А. Д. Сахаров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0-90-е годы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века: сближение двух систем- капиталистической и социалистической;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нкретные программы борьбы с голодом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. Леонтьев – модель «мирового хозяйства»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179280" y="148104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еория глобальной катастрофы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– Римский клуб,60-е годы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XX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века (в результате НТП произойдёт обострение экологических и других глобальных проблем, что приведёт к катастрофе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ва подхода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: первый –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еория «пределы роста»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(Дж. Форрестер, Дж. Медоуз): необходимость экономического равновесия, ограничения роста населения, контроль за загрязнением окружающей среды; человечество – регулятор жизни на планете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торой –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еория культурно-исторических типов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(А. Тойнби): упадок и разложение цивилизации в результате исчерпания ресурсов, не позволяющих давать ответы на вызовы Логоса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анотехнологическая катастроф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конец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века - настоящее время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ценарий «серая слизь»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история человечества – история его гибел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И. С. Шкловский, наш современник), человечество одиноко во Вселенной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ука деформирует человека, он утрачивает цели своего существования, не реализует себя как личность.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А. Пиччеи: «истинная проблема человеческого вида на данной ступени его эволюции состоит в том, что он оказался полностью неспособным в культурном отношении идти в ногу и полностью приспособиться к тем изменениям, которые сам внес в этот мир»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И наш современник, и соотечественник  М. Моисеев как бы продолжает: «Умение искать компромиссы, уважение к чужим жизненным стандартам, умение ценить природу, подавлять собственную агрессию, ... обретение чувства общепланетарной общности - это те же атрибуты нравственности, которые необходимы уже в самом ближайшем будущем»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космическая, «ноосферная» модель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– 30-40-е годы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века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. Ф. Фёдоров, К. Э. Циолковский, В. И. Вернадский, А. Л. Чижевский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(русский космизм)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Т. де Шарден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иосфера с помощью человека (науки) преобразовывается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феру разум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возникает планетарное мышление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19664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ир вступил в XXI век. Вступил радостно, но и с тревогой. Научно-технические достижения ушедшего века существенно изменили образ жизни людей, сделали его более комфортным и свободным. Новые технологии, новые материалы, новые средства связи - физической и информационной - быстро становились повседневными, привычными, обыденными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ХХ и уже в XXI веках одна единая научная мысль охватила всю поверхность планеты, все на ней находящиеся государства. Всюду создались многочисленные центры научной мысли и научного искания. Это - первая основная предпосылка перехода биосферы в ноосферу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чение о биосфере, сформированное русским ученым В.И.Вернадским и уходящее своими корнями к Жану Ламарку (Жан Батист Пьер Антуан де Моне), В.В.Докучаеву и Эдуарду Зюссу, определяет биосферу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как «наружная оболочка Земли, область распространения жизни»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иосферу в соответствии с законом незаменимости (биосферы) нельзя заменить ничем иным, т.к. она для всех существующих ныне видов на Земле единственная среда обитания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da1f28"/>
                </a:solidFill>
                <a:latin typeface="Calibri"/>
              </a:rPr>
              <a:t>Платон (428 – 358 г. г. до н. э.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a1f28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деальное государство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удрые правител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ины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емледельцы и ремесленник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циальная справедливость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5" descr="платон.bmp"/>
          <p:cNvPicPr/>
          <p:nvPr/>
        </p:nvPicPr>
        <p:blipFill>
          <a:blip r:embed="rId2"/>
          <a:stretch/>
        </p:blipFill>
        <p:spPr>
          <a:xfrm>
            <a:off x="5786280" y="2571840"/>
            <a:ext cx="30290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.Вернадский понимал, что человеку придется принять на себя ответственность за судьбу биосферы. Это необходимое условие цивилизации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ехносфера должна поддерживать принципы организации биосферы, дополнять биосферу и взаимодействовать с ней как часть единой динамической системы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«Симбиоз» техносферы и биосферы позволяет говорить о принципиально новом планетарном явлении - проблеме ноосферы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426" name="Заголовок 1"/>
          <p:cNvSpPr/>
          <p:nvPr/>
        </p:nvSpPr>
        <p:spPr>
          <a:xfrm>
            <a:off x="826920" y="1700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Lucida Sans Unicode"/>
              </a:rPr>
              <a:t>Будущее нельзя предвидеть, но его можно изобрести</a:t>
            </a: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428" name="Заголовок 1"/>
          <p:cNvSpPr/>
          <p:nvPr/>
        </p:nvSpPr>
        <p:spPr>
          <a:xfrm>
            <a:off x="324000" y="333360"/>
            <a:ext cx="85690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2a4a7"/>
                </a:solidFill>
                <a:latin typeface="Arial"/>
                <a:ea typeface="Arial"/>
              </a:rPr>
              <a:t>«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  <a:ea typeface="Arial"/>
              </a:rPr>
              <a:t>Вращается весь мир вкруг человека, ужель недвижим будет он…»  (</a:t>
            </a:r>
            <a:r>
              <a:rPr b="1" lang="ru-RU" sz="2200" spc="-1" strike="noStrike">
                <a:solidFill>
                  <a:srgbClr val="f2a4a7"/>
                </a:solidFill>
                <a:latin typeface="Arial"/>
                <a:ea typeface="Arial"/>
              </a:rPr>
              <a:t>А.С. Пушкин)</a:t>
            </a:r>
            <a:r>
              <a:rPr b="1" i="1" lang="ru-RU" sz="2200" spc="-1" strike="noStrike">
                <a:solidFill>
                  <a:srgbClr val="f2a4a7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«Жизнь сама по себе – ни благо, ни зло: она вместилище и блага, и зла, смотря по тому, во что мы сами превратим ее» </a:t>
            </a:r>
            <a:r>
              <a:rPr b="1" lang="ru-RU" sz="2000" spc="-1" strike="noStrike">
                <a:solidFill>
                  <a:srgbClr val="f2a4a7"/>
                </a:solidFill>
                <a:latin typeface="Arial"/>
              </a:rPr>
              <a:t>(Монтень) 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       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«Если хочешь победить  – выбирай поле битвы»                                                                                                                                                                                        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2a4a7"/>
                </a:solidFill>
                <a:latin typeface="Arial"/>
              </a:rPr>
              <a:t>(Чингиз хан)</a:t>
            </a:r>
            <a:r>
              <a:rPr b="0" lang="ru-RU" sz="2000" spc="-1" strike="noStrike">
                <a:solidFill>
                  <a:srgbClr val="f2a4a7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«Только в словарях слово «победа» стоит перед словом «работа» (</a:t>
            </a:r>
            <a:r>
              <a:rPr b="1" lang="ru-RU" sz="2000" spc="-1" strike="noStrike">
                <a:solidFill>
                  <a:srgbClr val="f2a4a7"/>
                </a:solidFill>
                <a:latin typeface="Arial"/>
              </a:rPr>
              <a:t>Кристи Ли)</a:t>
            </a:r>
            <a:br>
              <a:rPr sz="2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«Человеку надлежит жить с самим собой, и надо постоянно заботиться, чтобы это была хорошая компания» </a:t>
            </a:r>
            <a:r>
              <a:rPr b="1" lang="ru-RU" sz="2000" spc="-1" strike="noStrike">
                <a:solidFill>
                  <a:srgbClr val="f2a4a7"/>
                </a:solidFill>
                <a:latin typeface="Arial"/>
              </a:rPr>
              <a:t>(С.И. Хьюз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4"/>
          <p:cNvSpPr/>
          <p:nvPr/>
        </p:nvSpPr>
        <p:spPr>
          <a:xfrm>
            <a:off x="2286000" y="296712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ратегия развития цивилизации в ХХ веке имела преимущественн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кстенсивны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характер. Больше угля, чугуна и стали! Больше электроэнергии!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нципиальное отличие стратегии XXI века - крен в сторону интенсивного развития. Не больше 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циональне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Рациональнее добывать, использовать, потреблять. И думать не только о потреблении, но в равной степени и об утилизации отходов по тому или иному сценарию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Заголовок 2" descr=""/>
          <p:cNvPicPr/>
          <p:nvPr/>
        </p:nvPicPr>
        <p:blipFill>
          <a:blip r:embed="rId1"/>
          <a:stretch/>
        </p:blipFill>
        <p:spPr>
          <a:xfrm>
            <a:off x="165240" y="268200"/>
            <a:ext cx="91375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1"/>
          <a:stretch/>
        </p:blipFill>
        <p:spPr>
          <a:xfrm>
            <a:off x="347760" y="268200"/>
            <a:ext cx="8558280" cy="115884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611280" y="15573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 заказу британского правительства исследовательская компания Fast Future  в 2010 году подготовила отчет о том, какие профессии окажутся наиболее востребованными через 20 лет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работе над документом принимали участие ведущие футурологи и прогнозисты, которых попросили оценить, насколько развитие науки и технологий повлияет в ближайшем будущем на рынок труда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 среднем, человек будет менять по 8-10 профессий в течение жизни, говорится в докладе. Авторы отчёта указывают, что современных детей уже в школе необходимо обучать с акцентом на научные дисциплины и технологии, а также учить их решать сложные, многоуровневые проблемы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Заголовок 2" descr=""/>
          <p:cNvPicPr/>
          <p:nvPr/>
        </p:nvPicPr>
        <p:blipFill>
          <a:blip r:embed="rId1"/>
          <a:stretch/>
        </p:blipFill>
        <p:spPr>
          <a:xfrm>
            <a:off x="347760" y="268200"/>
            <a:ext cx="85582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457200" y="169992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в области производства искусственных частей человеческого тела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в области наномедицины и наномедики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Фермеры и производители, специализирующиеся в области производства генетически модифицированных сельскохозяйственных культур и животных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управлению старением, менеджеры и консультанты для пожилых людей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расширению человеческой памяти и переносу накопившейся в ней информации на другие носители для хранения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7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250560" y="14810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этике новой науки, которые должны решать этические вопросы в спорных областях исследований (таких как клонирование) и помогать обществу принимать решения по ним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осмические пилоты, экскурсоводы, архитекторы и дизайнеры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вертикальному земледелию (вертикальные фермеры), которые будут заниматься выращиванием продовольствия в вертикальных фермерских хозяйствах, то есть городских небоскрёбах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изменению климата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eb641b"/>
                </a:solidFill>
                <a:latin typeface="Arial"/>
                <a:ea typeface="Arial"/>
              </a:rPr>
              <a:t>Специалисты по управлению массовыми эпидемиями и карантину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9" name="Заголовок 2" descr=""/>
          <p:cNvPicPr/>
          <p:nvPr/>
        </p:nvPicPr>
        <p:blipFill>
          <a:blip r:embed="rId1"/>
          <a:stretch/>
        </p:blipFill>
        <p:spPr>
          <a:xfrm>
            <a:off x="371520" y="268200"/>
            <a:ext cx="84740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250560" y="14810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управлению погодой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иртуальные адвокаты и юристы, специализирующиеся в области применения универсальных юридических норм в различных странах и регионах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eb641b"/>
                </a:solidFill>
                <a:latin typeface="Arial"/>
                <a:ea typeface="Arial"/>
              </a:rPr>
              <a:t>Специалисты по виртуальной педагогике, проектирующие и использующие интеллектуальные аватары или компьютерные персонажи для обучения школьников и студентов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чики, дизайнеры и производители альтернативных транспортных средств следующего поколения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персонализированным медиа, то есть средствам массовой информации, приспособленным к личным интересам отдельных людей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1" name="Заголовок 2" descr=""/>
          <p:cNvPicPr/>
          <p:nvPr/>
        </p:nvPicPr>
        <p:blipFill>
          <a:blip r:embed="rId1"/>
          <a:stretch/>
        </p:blipFill>
        <p:spPr>
          <a:xfrm>
            <a:off x="396720" y="268200"/>
            <a:ext cx="84232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250560" y="14810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безопасному устранению личных данных и информации из общедоступных источников (таких как Интернет)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и разработчики сервисов по управлению и организации электронной информации (такой как электронные логины и пароли, разнообразные профили, учётные записи и так далее)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Брокеры и специалисты по рынкам виртуальных и альтернативных валют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социальным сетям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персональному брендингу, проектированию и продвижению личных брендов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3" name="Заголовок 2" descr=""/>
          <p:cNvPicPr/>
          <p:nvPr/>
        </p:nvPicPr>
        <p:blipFill>
          <a:blip r:embed="rId1"/>
          <a:stretch/>
        </p:blipFill>
        <p:spPr>
          <a:xfrm>
            <a:off x="396720" y="268200"/>
            <a:ext cx="84232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773360"/>
            <a:ext cx="822960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a1f28"/>
                </a:solidFill>
                <a:latin typeface="Calibri"/>
              </a:rPr>
              <a:t>Томас Мор (1478 – 1535 г. г.)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Утопия»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руд творческий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Гармоническое развитие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венство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Рисунок 3" descr="томас мор.jpg"/>
          <p:cNvPicPr/>
          <p:nvPr/>
        </p:nvPicPr>
        <p:blipFill>
          <a:blip r:embed="rId1"/>
          <a:stretch/>
        </p:blipFill>
        <p:spPr>
          <a:xfrm>
            <a:off x="5580000" y="1700280"/>
            <a:ext cx="2957400" cy="3724200"/>
          </a:xfrm>
          <a:prstGeom prst="rect">
            <a:avLst/>
          </a:prstGeom>
          <a:ln w="0">
            <a:noFill/>
          </a:ln>
        </p:spPr>
      </p:pic>
      <p:pic>
        <p:nvPicPr>
          <p:cNvPr id="385" name="Заголовок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AutoShape 11"/>
          <p:cNvSpPr/>
          <p:nvPr/>
        </p:nvSpPr>
        <p:spPr>
          <a:xfrm>
            <a:off x="5000760" y="642960"/>
            <a:ext cx="3816360" cy="1022400"/>
          </a:xfrm>
          <a:prstGeom prst="wedgeRoundRectCallout">
            <a:avLst>
              <a:gd name="adj1" fmla="val -50685"/>
              <a:gd name="adj2" fmla="val 122407"/>
              <a:gd name="adj3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як сам своего счастья куз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4"/>
          <p:cNvSpPr/>
          <p:nvPr/>
        </p:nvSpPr>
        <p:spPr>
          <a:xfrm>
            <a:off x="179280" y="1557360"/>
            <a:ext cx="3024360" cy="792000"/>
          </a:xfrm>
          <a:prstGeom prst="wedgeRoundRectCallout">
            <a:avLst>
              <a:gd name="adj1" fmla="val 84907"/>
              <a:gd name="adj2" fmla="val 54810"/>
              <a:gd name="adj3" fmla="val 16667"/>
            </a:avLst>
          </a:prstGeom>
          <a:gradFill rotWithShape="0">
            <a:gsLst>
              <a:gs pos="0">
                <a:srgbClr val="33cccc"/>
              </a:gs>
              <a:gs pos="50000">
                <a:srgbClr val="eafafa"/>
              </a:gs>
              <a:gs pos="100000">
                <a:srgbClr val="33cccc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бы чего не выш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1"/>
          <a:stretch/>
        </p:blipFill>
        <p:spPr>
          <a:xfrm>
            <a:off x="3786120" y="2428920"/>
            <a:ext cx="1665360" cy="1647720"/>
          </a:xfrm>
          <a:prstGeom prst="rect">
            <a:avLst/>
          </a:prstGeom>
          <a:ln w="0">
            <a:noFill/>
          </a:ln>
        </p:spPr>
      </p:pic>
      <p:sp>
        <p:nvSpPr>
          <p:cNvPr id="447" name="AutoShape 9"/>
          <p:cNvSpPr/>
          <p:nvPr/>
        </p:nvSpPr>
        <p:spPr>
          <a:xfrm rot="10800000">
            <a:off x="250560" y="5444640"/>
            <a:ext cx="4392360" cy="792360"/>
          </a:xfrm>
          <a:prstGeom prst="wedgeRoundRectCallout">
            <a:avLst>
              <a:gd name="adj1" fmla="val -47337"/>
              <a:gd name="adj2" fmla="val 213578"/>
              <a:gd name="adj3" fmla="val 16667"/>
            </a:avLst>
          </a:prstGeom>
          <a:gradFill rotWithShape="0">
            <a:gsLst>
              <a:gs pos="0">
                <a:srgbClr val="33cccc"/>
              </a:gs>
              <a:gs pos="50000">
                <a:srgbClr val="baeeee"/>
              </a:gs>
              <a:gs pos="100000">
                <a:srgbClr val="33cccc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лым родился – гол и ум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6"/>
          <p:cNvSpPr/>
          <p:nvPr/>
        </p:nvSpPr>
        <p:spPr>
          <a:xfrm rot="10800000">
            <a:off x="285480" y="2571840"/>
            <a:ext cx="3133800" cy="890640"/>
          </a:xfrm>
          <a:prstGeom prst="wedgeRoundRectCallout">
            <a:avLst>
              <a:gd name="adj1" fmla="val -69796"/>
              <a:gd name="adj2" fmla="val 32773"/>
              <a:gd name="adj3" fmla="val 16667"/>
            </a:avLst>
          </a:prstGeom>
          <a:gradFill rotWithShape="0">
            <a:gsLst>
              <a:gs pos="0">
                <a:srgbClr val="33cccc"/>
              </a:gs>
              <a:gs pos="50000">
                <a:srgbClr val="baeeee"/>
              </a:gs>
              <a:gs pos="100000">
                <a:srgbClr val="33cccc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бом стены не прошибё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17"/>
          <p:cNvSpPr/>
          <p:nvPr/>
        </p:nvSpPr>
        <p:spPr>
          <a:xfrm>
            <a:off x="5148360" y="5357880"/>
            <a:ext cx="3638520" cy="1201680"/>
          </a:xfrm>
          <a:prstGeom prst="wedgeRoundRectCallout">
            <a:avLst>
              <a:gd name="adj1" fmla="val -59939"/>
              <a:gd name="adj2" fmla="val -146472"/>
              <a:gd name="adj3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тот не ошибается, кто ничего не дел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12"/>
          <p:cNvSpPr/>
          <p:nvPr/>
        </p:nvSpPr>
        <p:spPr>
          <a:xfrm>
            <a:off x="5929200" y="2000160"/>
            <a:ext cx="2880000" cy="1069920"/>
          </a:xfrm>
          <a:prstGeom prst="wedgeRoundRectCallout">
            <a:avLst>
              <a:gd name="adj1" fmla="val -69194"/>
              <a:gd name="adj2" fmla="val 65250"/>
              <a:gd name="adj3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Бога надейся, а сам не плош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3"/>
          <p:cNvSpPr/>
          <p:nvPr/>
        </p:nvSpPr>
        <p:spPr>
          <a:xfrm>
            <a:off x="5929200" y="3214800"/>
            <a:ext cx="2880000" cy="792000"/>
          </a:xfrm>
          <a:prstGeom prst="wedgeRoundRectCallout">
            <a:avLst>
              <a:gd name="adj1" fmla="val -75833"/>
              <a:gd name="adj2" fmla="val 10791"/>
              <a:gd name="adj3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Хочу» – половина «мог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6"/>
          <p:cNvSpPr/>
          <p:nvPr/>
        </p:nvSpPr>
        <p:spPr>
          <a:xfrm>
            <a:off x="5786280" y="4214880"/>
            <a:ext cx="3168720" cy="863640"/>
          </a:xfrm>
          <a:prstGeom prst="wedgeRoundRectCallout">
            <a:avLst>
              <a:gd name="adj1" fmla="val -66083"/>
              <a:gd name="adj2" fmla="val -71138"/>
              <a:gd name="adj3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зёт тому, кто сам вез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0"/>
          <p:cNvSpPr/>
          <p:nvPr/>
        </p:nvSpPr>
        <p:spPr>
          <a:xfrm>
            <a:off x="357120" y="714240"/>
            <a:ext cx="4070520" cy="555840"/>
          </a:xfrm>
          <a:prstGeom prst="wedgeRoundRectCallout">
            <a:avLst>
              <a:gd name="adj1" fmla="val 55828"/>
              <a:gd name="adj2" fmla="val 272509"/>
              <a:gd name="adj3" fmla="val 16667"/>
            </a:avLst>
          </a:prstGeom>
          <a:gradFill rotWithShape="0">
            <a:gsLst>
              <a:gs pos="0">
                <a:srgbClr val="33cccc"/>
              </a:gs>
              <a:gs pos="50000">
                <a:srgbClr val="baeeee"/>
              </a:gs>
              <a:gs pos="100000">
                <a:srgbClr val="33cccc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режёного Бог береж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8"/>
          <p:cNvSpPr/>
          <p:nvPr/>
        </p:nvSpPr>
        <p:spPr>
          <a:xfrm rot="10800000">
            <a:off x="250920" y="3860640"/>
            <a:ext cx="3168720" cy="1152720"/>
          </a:xfrm>
          <a:prstGeom prst="wedgeRoundRectCallout">
            <a:avLst>
              <a:gd name="adj1" fmla="val -72189"/>
              <a:gd name="adj2" fmla="val 88254"/>
              <a:gd name="adj3" fmla="val 16667"/>
            </a:avLst>
          </a:prstGeom>
          <a:gradFill rotWithShape="0">
            <a:gsLst>
              <a:gs pos="0">
                <a:srgbClr val="33cccc"/>
              </a:gs>
              <a:gs pos="50000">
                <a:srgbClr val="baeeee"/>
              </a:gs>
              <a:gs pos="100000">
                <a:srgbClr val="33cccc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який сверчок должен знать свой шес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468000" y="155736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ветственност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фессионализм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амостоятельност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амоконтрол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елеустремленност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мение работать в команд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рпоративная культур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5" descr=""/>
          <p:cNvPicPr/>
          <p:nvPr/>
        </p:nvPicPr>
        <p:blipFill>
          <a:blip r:embed="rId2"/>
          <a:stretch/>
        </p:blipFill>
        <p:spPr>
          <a:xfrm>
            <a:off x="5580000" y="2651040"/>
            <a:ext cx="356400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.76-79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. 80-83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ъяснять необходимость непрерывного образования на протяжении всей жизни человек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основе анализа публикаций СМИ готовить сообщения о том, какие рекомендации по приспособлению к быстрым изменения общества, материальной среды дают психолог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9" name="Заголовок 2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a1f28"/>
                </a:solidFill>
                <a:latin typeface="Calibri"/>
              </a:rPr>
              <a:t>Карл Маркс (1818 – 1883 г. г.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ммунистическая партия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лассовая борьба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еволюция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иктатура пролетариат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3" descr="маркс.bmp"/>
          <p:cNvPicPr/>
          <p:nvPr/>
        </p:nvPicPr>
        <p:blipFill>
          <a:blip r:embed="rId2"/>
          <a:stretch/>
        </p:blipFill>
        <p:spPr>
          <a:xfrm>
            <a:off x="5643720" y="2143080"/>
            <a:ext cx="25812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915920"/>
            <a:ext cx="82296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da1f28"/>
                </a:solidFill>
                <a:latin typeface="Calibri"/>
              </a:rPr>
              <a:t>Футуролог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от греческог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t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u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будущее, logos – слово) - наука о будущем, занимающаяся систематизированным изучением прогнозируемых процессов, происходящих как в практической жизни, так и в сфере НТП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вание этой науки было предложено в 1913 году социологом О.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Флехтхаймом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773360"/>
            <a:ext cx="822960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 прогностике  различают   периоды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da1f28"/>
                </a:solidFill>
                <a:latin typeface="Lucida Sans Unicode"/>
              </a:rPr>
              <a:t>ближайшее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будущее (25-30 лет), где можно высказать вполне достоверные суждения (численность населения на планете, запасы природного сырья)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da1f28"/>
                </a:solidFill>
                <a:latin typeface="Lucida Sans Unicode"/>
              </a:rPr>
              <a:t>обозримое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будущее (79-80 лет) - это уже вероятные, возможные прогнозы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da1f28"/>
                </a:solidFill>
                <a:latin typeface="Lucida Sans Unicode"/>
              </a:rPr>
              <a:t>отдаленное (фантастическое)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будущее - это некоторые гипотетические предположения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Метод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рогнозирования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тод </a:t>
            </a:r>
            <a:r>
              <a:rPr b="0" lang="ru-RU" sz="2400" spc="-1" strike="noStrike">
                <a:solidFill>
                  <a:srgbClr val="da1f28"/>
                </a:solidFill>
                <a:latin typeface="Calibri"/>
              </a:rPr>
              <a:t>экстраполяци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от лат. extra - сверх, вне; polio – выправляю, изменяю) - продолжение в будущее тенденции настоящего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метод </a:t>
            </a:r>
            <a:r>
              <a:rPr b="0" lang="ru-RU" sz="2400" spc="-1" strike="noStrike">
                <a:solidFill>
                  <a:srgbClr val="da1f28"/>
                </a:solidFill>
                <a:latin typeface="Calibri"/>
              </a:rPr>
              <a:t>моделирован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т лат. modul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мера, образ, норма) ­замена реального процесса или объекта его теоретическим аналогом, схемой, моделью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личают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da1f28"/>
                </a:solidFill>
                <a:latin typeface="Calibri"/>
              </a:rPr>
              <a:t>модели - проект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ориентированные на достижение целей, желаемых состояний обществ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da1f28"/>
                </a:solidFill>
                <a:latin typeface="Calibri"/>
              </a:rPr>
              <a:t>модели – сценар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то есть определение того, что будет, если предпринимать что-то сегодня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Заголовок 3" descr=""/>
          <p:cNvPicPr/>
          <p:nvPr/>
        </p:nvPicPr>
        <p:blipFill>
          <a:blip r:embed="rId2"/>
          <a:stretch/>
        </p:blipFill>
        <p:spPr>
          <a:xfrm>
            <a:off x="450720" y="1689120"/>
            <a:ext cx="824256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3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птимистически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(время, представители, основные идеи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Пессимистически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(время, представители, основные идеи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дустриальное общество;              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тиндустриальное общество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вергенция двух систем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др.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ории глобальных катастроф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ория культурно-исторических типов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ория «пределов роста»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др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08:18:01Z</dcterms:created>
  <dc:creator>Людмила</dc:creator>
  <dc:description/>
  <dc:language>en-US</dc:language>
  <cp:lastModifiedBy>ПК</cp:lastModifiedBy>
  <dcterms:modified xsi:type="dcterms:W3CDTF">2020-04-18T09:37:37Z</dcterms:modified>
  <cp:revision>134</cp:revision>
  <dc:subject/>
  <dc:title>БУДУЩЕЕ ЧЕЛОВЕЧЕСТВА НЕ ПОГИБНЕТ ЛИ ЧЕЛОВЕЧЕСТВО ОТ РАЗУМА?</dc:title>
</cp:coreProperties>
</file>