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7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FD12-0ED3-4185-9CF5-E7F90FE715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3871-08EA-4F01-9647-93460103C0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29EC-5CD6-4F33-8885-1BEED066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8E23-460A-4CE7-AE8B-D076689B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2759-38CA-46DA-B9D8-0B635437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ACCE-AF03-4058-B69A-4387C06F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4730-84E5-43B7-A3AB-FB761464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07E3-4E95-4A73-AE80-77EF8415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39AC-BE0B-4D78-B778-8CB71363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2D45-0627-4E6D-A343-6F1DB022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F958-93F7-423A-9879-F4F8140D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A19D-106D-4421-A419-3E7EA3AE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443F-5B08-4725-B9C1-8E103486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5672-0985-40B9-A4C2-ED5B81CA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2EA8-5189-4AC0-BA8A-36C53648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EA63-576B-4FA4-A66B-F52C23A3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7EB7-4F3D-46CD-BD68-9E3016DC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BD5B-9B47-4CA7-A9DA-645E2FFE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28C6-A568-4D74-A0E9-F1483839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E0155-B7C0-4B61-AF95-FF79B3AA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BC073-B1CE-458F-85CC-D3D2DDEC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7B2BC-92F4-4BEA-8C63-950B8098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451A9-D72A-4328-B077-56D0D46B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FB9B7-F461-4362-AA4B-82E52EB5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0756-77B0-4B7F-A137-1174E466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133B7-EA45-4397-8929-3099E84C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F1C46-1D8E-47C0-9060-64D7CEF6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EB7EE-9795-49C7-917A-14910046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0834E-4009-428C-B77B-8A6B1BF0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67652-DEAF-4AA6-A986-A36A3710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A466E-6276-40A0-BA00-C3D2E40F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B618B-49CB-4B59-88E4-9A0C6055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DABB4-788C-4CBA-B47D-FCF6C8C01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4A41E-D5ED-4162-B321-C472B850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0BF43-FD1C-4FF5-B530-8F822FC5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7FD4-4A13-4153-8233-79F7CBF9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EBCC1-BFC5-4B66-AE9F-CCE889AC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85584-F7DC-4C9D-90D3-B6B043D2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42561-EA36-4889-A2A2-7018DB03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3E263-1E9D-4503-8D41-E5264300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8378B-8484-4264-97E6-8F111FC0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CB913-0990-4DBB-A77A-296A142F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964B3-4444-4D4E-9A43-67F12F58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459FD-EBED-4646-B943-DD6F5686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CF79A-FEA0-4247-88F6-087F4CFB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72A45-49B0-4703-8639-21849D5F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15C9-C8C8-4442-8496-3272D942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44165-18FD-4CFD-AE07-28576752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35442-A84E-41D6-9D88-D43A335E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B757D-BF98-4C1B-8B6E-2DD01A0D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0E417-3B5D-4A14-ACEF-4FD28E41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691A4-A76D-4615-98F3-2CAC94FC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6346D-3138-4F9C-B575-7059EFB1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59BBA-B92D-4793-B004-CC06578E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469FB-2B2A-48E0-B610-29F0165B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B1542-D5E0-4966-AADC-3AAF9A59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8DDD9-DC06-48CA-834D-E85BBEF5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E9F6-A349-4E7F-B058-DC84FCAA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DCAF1-059E-4FB7-A686-C0A435DA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08F3D-3A36-4106-9123-9972370E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C9B62-BC23-4950-A7CF-340628DD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B38C1-3B12-4B86-A9BC-091B6471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73680-DA25-4FEB-950F-AA5EEF65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2E2BB-9560-4FBE-AD25-D7914A2E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7CC3A-610C-429A-A646-26D6AB48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74B54-A099-491E-BE22-DD1AA204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00BE9-04EA-414A-B00B-E7DC5077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D71ED-D332-40D1-BEE6-1D0D53B2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E13F-8932-4B28-A99F-FA6EA2B2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E46FC-5D73-4CF4-8157-9FFEDCDA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E9295-8690-4336-BDE6-A3A0E452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D7A2F-809D-4415-A245-046CC539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D889F-DF7F-483C-9D2C-12FC88E7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EAB13-F796-43FA-A3C1-44E9EE1B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D12DD-6705-4DE9-8953-3D4290CA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B6CCE-AEAD-409D-83BC-C3CDD254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8007A-6B49-4F6C-A1D4-F0E8CF51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53644-7299-4144-92A1-74E32934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029FD-86AD-4DA0-ABDA-81E1531E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53CD-9EBB-4208-9620-3230F7F7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FC7AE-BBCD-474A-A119-6607D926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89899-4DA6-4BC2-B7E6-6EE49589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BDFF0-EB18-42E6-932C-1BF3BD9C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907E7-9B0D-4815-B91E-334F5EBE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A13EF-D733-4109-9105-E9CEFA46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4CEB5-26B2-4CBB-BE81-21423F4A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C0A33-9132-4288-AF0C-62FBAF16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BED71-F421-4729-A246-189F5267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B853A-F652-4EBA-A952-458B8418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5F7AC-593E-48C6-AC99-D989161F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0D85-C60B-4EF1-A0EE-F8B5DE98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2831A-9780-4311-AC08-283C9DF5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7107A-624C-4FF7-B9A8-F376184A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30E5A-7F00-4964-A678-C83CC1CC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6056C-0369-4A98-B83C-9115DE96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D5C79-0802-4AC0-9ACE-5248C7D7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8F59B-9E45-4BA4-BD9E-8295E0CA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52693-81BA-45DC-AB29-108BC071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56AE-52FE-499B-8CCE-0116D8A0126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12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D8BF-5AD2-49D6-8DE9-66E61E9B2B6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9866-C472-4D39-BF07-25A168AE04C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E36F-100A-403B-8FF6-CBF64F4340C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3AA1-8082-45E2-A89A-EAEA52219F5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32C3-6E94-464C-8498-063CB4968DE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C61A-168D-4B78-B362-E46B4DDBFD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3636-B02E-4221-BC57-DB7A0BACFE7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pic>
        <p:nvPicPr>
          <p:cNvPr id="378" name="Заголовок 9" descr=""/>
          <p:cNvPicPr/>
          <p:nvPr/>
        </p:nvPicPr>
        <p:blipFill>
          <a:blip r:embed="rId2"/>
          <a:stretch/>
        </p:blipFill>
        <p:spPr>
          <a:xfrm>
            <a:off x="633240" y="2139840"/>
            <a:ext cx="8089920" cy="14814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464646"/>
                </a:solidFill>
                <a:latin typeface="Lucida Sans Unicode"/>
              </a:rPr>
              <a:t>НЕ ПОГИБНЕТ ЛИ ЧЕЛОВЕЧЕСТВО ОТ РАЗУМА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220464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Мир вступил в XXI век. Вступил радостно, но и с тревогой. Научно-технические достижения ушедшего века существенно изменили образ жизни людей, сделали его более комфортным и свободным. Новые технологии, новые материалы, новые средства связи - физической и информационной - быстро становились повседневными, привычными, обыденными.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ндустриальное общество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Р. Арон, Д. Белл, Е. Масуда; конец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6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; не следует сокращать темпы экономического развития, «никаких ограничений» ПРОГРЕССУ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УКА – непосредственная производительная сила обществ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438120" y="268200"/>
            <a:ext cx="87123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стиндустриальное общество 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, Белл, З. Бжезинский, Э. Тоффлер, 50-60-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ка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ТП ведёт к всеобщему благоденствию и процветанию, новый виток НТР («третья волна») создаст единую социокультурную общность без существенного изменения системы политической власти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дея передачи власти людям науки и техники (технократия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теория конвергенции (сближени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 -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. А. Сорокин, А. Д. Сахаров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0-9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: сближение двух систем- капиталистической и социалистической;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ретные программы борьбы с голодом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. Леонтьев – модель «мирового хозяйства»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79280" y="14810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глобальной катастрофы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– Римский клуб,60-е годы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века (в результате НТП произойдёт обострение экологических и других глобальных проблем, что приведёт к катастрофе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ва подхода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: первый –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«пределы роста»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(Дж. Форрестер, Дж. Медоуз): необходимость экономического равновесия, ограничения роста населения, контроль за загрязнением окружающей среды; человечество – регулятор жизни на планете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торой –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культурно-исторических типов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А. Тойнби): упадок и разложение цивилизации в результате исчерпания ресурсов, не позволяющих давать ответы на вызовы Логос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нотехнологическая катастроф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конец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ека - настоящее время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ценарий «серая слизь»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стория человечества – история его гибел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И. С. Шкловский, наш современник), человечество одиноко во Вселенной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ука деформирует человека, он утрачивает цели своего существования, не реализует себя как личность.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. Пиччеи: «истинная проблема человеческого вида на данной ступени его эволюции состоит в том, что он оказался полностью неспособным в культурном отношении идти в ногу и полностью приспособиться к тем изменениям, которые сам внес в этот мир»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 наш современник, и соотечественник  М. Моисеев как бы продолжает: «Умение искать компромиссы, уважение к чужим жизненным стандартам, умение ценить природу, подавлять собственную агрессию, ... обретение чувства общепланетарной общности - это те же атрибуты нравственности, которые необходимы уже в самом ближайшем будущем»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осмическая, «ноосферная» модель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30-4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. Ф. Фёдоров, К. Э. Циолковский, В. И. Вернадский, А. Л. Чижевский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русский космизм)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Т. де Шарден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иосфера с помощью человека (науки) преобразовывается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феру разум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возникает планетарное мышлени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ир вступил в XXI век. Вступил радостно, но и с тревогой. Научно-технические достижения ушедшего века существенно изменили образ жизни людей, сделали его более комфортным и свободным. Новые технологии, новые материалы, новые средства связи - физической и информационной - быстро становились повседневными, привычными, обыденным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ХХ и уже в XXI веках одна единая научная мысль охватила всю поверхность планеты, все на ней находящиеся государства. Всюду создались многочисленные центры научной мысли и научного искания. Это - первая основная предпосылка перехода биосферы в ноосферу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ние о биосфере, сформированное русским ученым В.И.Вернадским и уходящее своими корнями к Жану Ламарку (Жан Батист Пьер Антуан де Моне), В.В.Докучаеву и Эдуарду Зюссу, определяет биосферу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ак «наружная оболочка Земли, область распространения жизни»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иосферу в соответствии с законом незаменимости (биосферы) нельзя заменить ничем иным, т.к. она для всех существующих ныне видов на Земле единственная среда обитани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Платон (428 – 358 г. г. до н. э.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деальное государство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удрые правител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ины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емледельцы и ремесленник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циальная справедливост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5" descr="платон.bmp"/>
          <p:cNvPicPr/>
          <p:nvPr/>
        </p:nvPicPr>
        <p:blipFill>
          <a:blip r:embed="rId2"/>
          <a:stretch/>
        </p:blipFill>
        <p:spPr>
          <a:xfrm>
            <a:off x="5786280" y="2571840"/>
            <a:ext cx="30290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.Вернадский понимал, что человеку придется принять на себя ответственность за судьбу биосферы. Это необходимое условие цивилизации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ехносфера должна поддерживать принципы организации биосферы, дополнять биосферу и взаимодействовать с ней как часть единой динамической системы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«Симбиоз» техносферы и биосферы позволяет говорить о принципиально новом планетарном явлении - проблеме ноосферы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426" name="Заголовок 1"/>
          <p:cNvSpPr/>
          <p:nvPr/>
        </p:nvSpPr>
        <p:spPr>
          <a:xfrm>
            <a:off x="826920" y="1700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Будущее нельзя предвидеть, но его можно изобрести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28" name="Заголовок 1"/>
          <p:cNvSpPr/>
          <p:nvPr/>
        </p:nvSpPr>
        <p:spPr>
          <a:xfrm>
            <a:off x="324000" y="333360"/>
            <a:ext cx="8569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2a4a7"/>
                </a:solidFill>
                <a:latin typeface="Arial"/>
                <a:ea typeface="Arial"/>
              </a:rPr>
              <a:t>«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  <a:ea typeface="Arial"/>
              </a:rPr>
              <a:t>Вращается весь мир вкруг человека, ужель недвижим будет он…»  (</a:t>
            </a:r>
            <a:r>
              <a:rPr b="1" lang="ru-RU" sz="2200" spc="-1" strike="noStrike">
                <a:solidFill>
                  <a:srgbClr val="f2a4a7"/>
                </a:solidFill>
                <a:latin typeface="Arial"/>
                <a:ea typeface="Arial"/>
              </a:rPr>
              <a:t>А.С. Пушкин)</a:t>
            </a:r>
            <a:r>
              <a:rPr b="1" i="1" lang="ru-RU" sz="2200" spc="-1" strike="noStrike">
                <a:solidFill>
                  <a:srgbClr val="f2a4a7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Жизнь сама по себе – ни благо, ни зло: она вместилище и блага, и зла, смотря по тому, во что мы сами превратим ее» 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Монтень) 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Если хочешь победить  – выбирай поле битвы»                                                                                                                                                                                        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Чингиз хан)</a:t>
            </a:r>
            <a:r>
              <a:rPr b="0" lang="ru-RU" sz="2000" spc="-1" strike="noStrike">
                <a:solidFill>
                  <a:srgbClr val="f2a4a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Только в словарях слово «победа» стоит перед словом «работа» (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Кристи Ли)</a:t>
            </a:r>
            <a:br>
              <a:rPr sz="2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Человеку надлежит жить с самим собой, и надо постоянно заботиться, чтобы это была хорошая компания» 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С.И. Хью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4"/>
          <p:cNvSpPr/>
          <p:nvPr/>
        </p:nvSpPr>
        <p:spPr>
          <a:xfrm>
            <a:off x="2286000" y="2967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ратегия развития цивилизации в ХХ веке имела преимущественн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кстенсивн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характер. Больше угля, чугуна и стали! Больше электроэнергии!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нципиальное отличие стратегии XXI века - крен в сторону интенсивного развития. Не больше 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циональне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Рациональнее добывать, использовать, потреблять. И думать не только о потреблении, но в равной степени и об утилизации отходов по тому или иному сценари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Заголовок 2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91375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55828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61128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 заказу британского правительства исследовательская компания Fast Future  в 2010 году подготовила отчет о том, какие профессии окажутся наиболее востребованными через 20 лет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работе над документом принимали участие ведущие футурологи и прогнозисты, которых попросили оценить, насколько развитие науки и технологий повлияет в ближайшем будущем на рынок труд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 среднем, человек будет менять по 8-10 профессий в течение жизни, говорится в докладе. Авторы отчёта указывают, что современных детей уже в школе необходимо обучать с акцентом на научные дисциплины и технологии, а также учить их решать сложные, многоуровневые проблемы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Заголовок 2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558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7200" y="16999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в области производства искусственных частей человеческого тела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в области наномедицины и наномедики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Фермеры и производители, специализирующиеся в области производства генетически модифицированных сельскохозяйственных культур и животны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управлению старением, менеджеры и консультанты для пожилых людей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расширению человеческой памяти и переносу накопившейся в ней информации на другие носители для хранения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250560" y="14810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этике новой науки, которые должны решать этические вопросы в спорных областях исследований (таких как клонирование) и помогать обществу принимать решения по ним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смические пилоты, экскурсоводы, архитекторы и дизайнеры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вертикальному земледелию (вертикальные фермеры), которые будут заниматься выращиванием продовольствия в вертикальных фермерских хозяйствах, то есть городских небоскрёба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изменению климата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eb641b"/>
                </a:solidFill>
                <a:latin typeface="Arial"/>
                <a:ea typeface="Arial"/>
              </a:rPr>
              <a:t>Специалисты по управлению массовыми эпидемиями и карантину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9" name="Заголовок 2" descr=""/>
          <p:cNvPicPr/>
          <p:nvPr/>
        </p:nvPicPr>
        <p:blipFill>
          <a:blip r:embed="rId1"/>
          <a:stretch/>
        </p:blipFill>
        <p:spPr>
          <a:xfrm>
            <a:off x="371520" y="268200"/>
            <a:ext cx="8474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250560" y="14810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управлению погодой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иртуальные адвокаты и юристы, специализирующиеся в области применения универсальных юридических норм в различных странах и региона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eb641b"/>
                </a:solidFill>
                <a:latin typeface="Arial"/>
                <a:ea typeface="Arial"/>
              </a:rPr>
              <a:t>Специалисты по виртуальной педагогике, проектирующие и использующие интеллектуальные аватары или компьютерные персонажи для обучения школьников и студентов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чики, дизайнеры и производители альтернативных транспортных средств следующего поколения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персонализированным медиа, то есть средствам массовой информации, приспособленным к личным интересам отдельных людей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Заголовок 2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23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250560" y="14810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безопасному устранению личных данных и информации из общедоступных источников (таких как Интернет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и разработчики сервисов по управлению и организации электронной информации (такой как электронные логины и пароли, разнообразные профили, учётные записи и так далее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рокеры и специалисты по рынкам виртуальных и альтернативных валют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социальным сетям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персональному брендингу, проектированию и продвижению личных брендов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Заголовок 2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23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77336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Томас Мор (1478 – 1535 г. г.)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Утопия»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руд творческий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армоническое развити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венство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Рисунок 3" descr="томас мор.jpg"/>
          <p:cNvPicPr/>
          <p:nvPr/>
        </p:nvPicPr>
        <p:blipFill>
          <a:blip r:embed="rId1"/>
          <a:stretch/>
        </p:blipFill>
        <p:spPr>
          <a:xfrm>
            <a:off x="5580000" y="1700280"/>
            <a:ext cx="2957400" cy="3724200"/>
          </a:xfrm>
          <a:prstGeom prst="rect">
            <a:avLst/>
          </a:prstGeom>
          <a:ln w="0">
            <a:noFill/>
          </a:ln>
        </p:spPr>
      </p:pic>
      <p:pic>
        <p:nvPicPr>
          <p:cNvPr id="385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11"/>
          <p:cNvSpPr/>
          <p:nvPr/>
        </p:nvSpPr>
        <p:spPr>
          <a:xfrm>
            <a:off x="5000760" y="642960"/>
            <a:ext cx="3816360" cy="1022400"/>
          </a:xfrm>
          <a:prstGeom prst="wedgeRoundRectCallout">
            <a:avLst>
              <a:gd name="adj1" fmla="val -50685"/>
              <a:gd name="adj2" fmla="val 122407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к сам своего счастья куз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4"/>
          <p:cNvSpPr/>
          <p:nvPr/>
        </p:nvSpPr>
        <p:spPr>
          <a:xfrm>
            <a:off x="179280" y="1557360"/>
            <a:ext cx="3024360" cy="792000"/>
          </a:xfrm>
          <a:prstGeom prst="wedgeRoundRectCallout">
            <a:avLst>
              <a:gd name="adj1" fmla="val 84907"/>
              <a:gd name="adj2" fmla="val 54810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eafafa"/>
              </a:gs>
              <a:gs pos="100000">
                <a:srgbClr val="33cccc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бы чего не выш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3786120" y="2428920"/>
            <a:ext cx="1665360" cy="1647720"/>
          </a:xfrm>
          <a:prstGeom prst="rect">
            <a:avLst/>
          </a:prstGeom>
          <a:ln w="0">
            <a:noFill/>
          </a:ln>
        </p:spPr>
      </p:pic>
      <p:sp>
        <p:nvSpPr>
          <p:cNvPr id="447" name="AutoShape 9"/>
          <p:cNvSpPr/>
          <p:nvPr/>
        </p:nvSpPr>
        <p:spPr>
          <a:xfrm rot="10800000">
            <a:off x="250560" y="5444640"/>
            <a:ext cx="4392360" cy="792360"/>
          </a:xfrm>
          <a:prstGeom prst="wedgeRoundRectCallout">
            <a:avLst>
              <a:gd name="adj1" fmla="val -47337"/>
              <a:gd name="adj2" fmla="val 213578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лым родился – гол и ум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6"/>
          <p:cNvSpPr/>
          <p:nvPr/>
        </p:nvSpPr>
        <p:spPr>
          <a:xfrm rot="10800000">
            <a:off x="285480" y="2571840"/>
            <a:ext cx="3133800" cy="890640"/>
          </a:xfrm>
          <a:prstGeom prst="wedgeRoundRectCallout">
            <a:avLst>
              <a:gd name="adj1" fmla="val -69796"/>
              <a:gd name="adj2" fmla="val 32773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бом стены не прошибё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7"/>
          <p:cNvSpPr/>
          <p:nvPr/>
        </p:nvSpPr>
        <p:spPr>
          <a:xfrm>
            <a:off x="5148360" y="5357880"/>
            <a:ext cx="3638520" cy="1201680"/>
          </a:xfrm>
          <a:prstGeom prst="wedgeRoundRectCallout">
            <a:avLst>
              <a:gd name="adj1" fmla="val -59939"/>
              <a:gd name="adj2" fmla="val -146472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тот не ошибается, кто ничего не дел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2"/>
          <p:cNvSpPr/>
          <p:nvPr/>
        </p:nvSpPr>
        <p:spPr>
          <a:xfrm>
            <a:off x="5929200" y="2000160"/>
            <a:ext cx="2880000" cy="1069920"/>
          </a:xfrm>
          <a:prstGeom prst="wedgeRoundRectCallout">
            <a:avLst>
              <a:gd name="adj1" fmla="val -69194"/>
              <a:gd name="adj2" fmla="val 65250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ога надейся, а сам не плош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3"/>
          <p:cNvSpPr/>
          <p:nvPr/>
        </p:nvSpPr>
        <p:spPr>
          <a:xfrm>
            <a:off x="5929200" y="3214800"/>
            <a:ext cx="2880000" cy="792000"/>
          </a:xfrm>
          <a:prstGeom prst="wedgeRoundRectCallout">
            <a:avLst>
              <a:gd name="adj1" fmla="val -75833"/>
              <a:gd name="adj2" fmla="val 10791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Хочу» – половина «мог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6"/>
          <p:cNvSpPr/>
          <p:nvPr/>
        </p:nvSpPr>
        <p:spPr>
          <a:xfrm>
            <a:off x="5786280" y="4214880"/>
            <a:ext cx="3168720" cy="863640"/>
          </a:xfrm>
          <a:prstGeom prst="wedgeRoundRectCallout">
            <a:avLst>
              <a:gd name="adj1" fmla="val -66083"/>
              <a:gd name="adj2" fmla="val -71138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зёт тому, кто сам вез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0"/>
          <p:cNvSpPr/>
          <p:nvPr/>
        </p:nvSpPr>
        <p:spPr>
          <a:xfrm>
            <a:off x="357120" y="714240"/>
            <a:ext cx="4070520" cy="555840"/>
          </a:xfrm>
          <a:prstGeom prst="wedgeRoundRectCallout">
            <a:avLst>
              <a:gd name="adj1" fmla="val 55828"/>
              <a:gd name="adj2" fmla="val 272509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режёного Бог береж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8"/>
          <p:cNvSpPr/>
          <p:nvPr/>
        </p:nvSpPr>
        <p:spPr>
          <a:xfrm rot="10800000">
            <a:off x="250920" y="3860640"/>
            <a:ext cx="3168720" cy="1152720"/>
          </a:xfrm>
          <a:prstGeom prst="wedgeRoundRectCallout">
            <a:avLst>
              <a:gd name="adj1" fmla="val -72189"/>
              <a:gd name="adj2" fmla="val 88254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кий сверчок должен знать свой ше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68000" y="155736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ствен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онализ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контрол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еустремлен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мение работать в команд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рпоративная культур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2"/>
          <a:stretch/>
        </p:blipFill>
        <p:spPr>
          <a:xfrm>
            <a:off x="5580000" y="2651040"/>
            <a:ext cx="35640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.76-79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. 80-83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ъяснять необходимость непрерывного образования на протяжении всей жизни человек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основе анализа публикаций СМИ готовить сообщения о том, какие рекомендации по приспособлению к быстрым изменения общества, материальной среды дают психолог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9" name="Заголовок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Карл Маркс (1818 – 1883 г. г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ммунистическая парт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лассовая борьб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еволюц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иктатура пролетариат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3" descr="маркс.bmp"/>
          <p:cNvPicPr/>
          <p:nvPr/>
        </p:nvPicPr>
        <p:blipFill>
          <a:blip r:embed="rId2"/>
          <a:stretch/>
        </p:blipFill>
        <p:spPr>
          <a:xfrm>
            <a:off x="5643720" y="2143080"/>
            <a:ext cx="25812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915920"/>
            <a:ext cx="82296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da1f28"/>
                </a:solidFill>
                <a:latin typeface="Calibri"/>
              </a:rPr>
              <a:t>Футуролог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от греческог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u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будущее, logos – слово) - наука о будущем, занимающаяся систематизированным изучением прогнозируемых процессов, происходящих как в практической жизни, так и в сфере НТП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этой науки было предложено в 1913 году социологом О.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Флехтхаймо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77336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 прогностике  различают   периоды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ближайшее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(25-30 лет), где можно высказать вполне достоверные суждения (численность населения на планете, запасы природного сырья)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обозримое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(79-80 лет) - это уже вероятные, возможные прогнозы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отдаленное (фантастическое)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- это некоторые гипотетические предположени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етод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огнозирования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экстраполяци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от лат. extra - сверх, вне; polio – выправляю, изменяю) - продолжение в будущее тенденции настоящего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метод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рова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т лат. modul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мера, образ, норма) ­замена реального процесса или объекта его теоретическим аналогом, схемой, модель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ичают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 - проект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ориентированные на достижение целей, желаемых состояний обществ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 – сценар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то есть определение того, что будет, если предпринимать что-то сегодн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3" descr=""/>
          <p:cNvPicPr/>
          <p:nvPr/>
        </p:nvPicPr>
        <p:blipFill>
          <a:blip r:embed="rId2"/>
          <a:stretch/>
        </p:blipFill>
        <p:spPr>
          <a:xfrm>
            <a:off x="450720" y="1689120"/>
            <a:ext cx="82425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3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птимистическ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(время, представители, основные идеи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Пессимистическ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(время, представители, основные идеи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устриальное общество;             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индустриальное общество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вергенция двух систе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р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и глобальных катастроф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я культурно-исторических типов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я «пределов роста»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8:18:01Z</dcterms:created>
  <dc:creator>Людмила</dc:creator>
  <dc:description/>
  <dc:language>en-US</dc:language>
  <cp:lastModifiedBy>ПК</cp:lastModifiedBy>
  <dcterms:modified xsi:type="dcterms:W3CDTF">2020-04-18T09:37:37Z</dcterms:modified>
  <cp:revision>134</cp:revision>
  <dc:subject/>
  <dc:title>БУДУЩЕЕ ЧЕЛОВЕЧЕСТВА НЕ ПОГИБНЕТ ЛИ ЧЕЛОВЕЧЕСТВО ОТ РАЗУМА?</dc:title>
</cp:coreProperties>
</file>