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jpeg" ContentType="image/jpeg"/>
  <Override PartName="/ppt/media/image26.jpeg" ContentType="image/jpeg"/>
  <Override PartName="/ppt/media/image25.png" ContentType="image/png"/>
  <Override PartName="/ppt/media/image19.jpeg" ContentType="image/jpeg"/>
  <Override PartName="/ppt/media/image28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3.jpeg" ContentType="image/jpeg"/>
  <Override PartName="/ppt/media/image11.gif" ContentType="image/gif"/>
  <Override PartName="/ppt/media/image13.gif" ContentType="image/gif"/>
  <Override PartName="/ppt/media/image16.png" ContentType="image/png"/>
  <Override PartName="/ppt/media/image31.jpeg" ContentType="image/jpeg"/>
  <Override PartName="/ppt/media/image32.jpeg" ContentType="image/jpeg"/>
  <Override PartName="/ppt/media/image10.gif" ContentType="image/gif"/>
  <Override PartName="/ppt/media/image8.wmf" ContentType="image/x-wmf"/>
  <Override PartName="/ppt/media/image33.jpeg" ContentType="image/jpeg"/>
  <Override PartName="/ppt/media/image6.wmf" ContentType="image/x-wmf"/>
  <Override PartName="/ppt/media/image34.jpeg" ContentType="image/jpeg"/>
  <Override PartName="/ppt/media/image5.gif" ContentType="image/gif"/>
  <Override PartName="/ppt/media/image14.jpeg" ContentType="image/jpeg"/>
  <Override PartName="/ppt/media/image4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2.gif" ContentType="image/gif"/>
  <Override PartName="/ppt/media/image17.jpeg" ContentType="image/jpeg"/>
  <Override PartName="/ppt/media/image15.png" ContentType="image/png"/>
  <Override PartName="/ppt/media/image1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FE48-E693-4702-B941-2CABD37A01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532C-4681-446E-B80B-A7FE46D75D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D771-C8B6-4F29-AAB2-901C9A98B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C188-D8FB-4BE3-96DD-184A6886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E72AB-D470-4ED3-B65E-BFFC1239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3838E-1D1D-40C5-9A75-5545318D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20F32-A3E9-406C-AB4E-B0E1207D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9AB36-E815-4F35-8518-642AD9BC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9390B-2759-4CA8-B2AF-3EC0501D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1E5E7-ED0E-498F-A8CA-A9521822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24F29-7386-4AD1-8D37-94C241CC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1DD9B-1766-491E-8637-BE99B7F5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07F1B-73F2-4AC9-9C7F-76E7E1117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999A5-2C72-4537-8397-BEF92B40B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76ED-6770-4CC6-AC47-42B09A68B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B0630-DBD1-486B-9834-E3E70E6B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2A6E5-3D8C-46F6-B14C-01C01AB6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CFEE1-97BA-473B-B603-078F55E6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670A6-DBC9-4BA8-AE6E-AC580C89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DBA54-04A3-4D40-9C29-A2EA421E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D1119-33E1-4B4A-BD3C-7573FCD3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64F322-F6B1-43E4-9D15-BF37BB62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09418E-C0E4-44A7-BF7E-E7B7689E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73049-8F88-4A51-BB3D-93E9A0AD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E7B42-F07F-454C-8C9B-9A96DF0F8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24C1-8EC1-45F6-AE30-C575B9D6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38D91-570F-48B7-B94A-406E03D76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4E9B6-B1CB-4C3E-B7FB-080D4A9DE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AB38F-EB5F-4786-8B2D-EE8CD59A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02D99-2A1F-4FC7-A457-47BDCB09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A4836-3F05-4281-A556-6366FC2A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1E6A7-DDA8-4310-A687-54F5E6EC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2ADBA-D195-4ACE-B6FA-36DED1A7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25DA4-8DFB-42C8-B6C8-384E04A9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E7397-B04D-44EF-9A4F-9BF611C0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B5C64-C913-42D6-B218-04AA688E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C62F-560E-452E-9AE1-8E2BF048B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FA562-AA24-43CA-B55F-F999DB7E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E7DE7-723E-4985-8F09-EC17752AE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2191EB-E97D-442C-B46F-A099E424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20B49D-A59D-45B3-B3BA-D7102F08F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7F41B3-B75E-4CFD-8465-5B1CBA3A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89AA1-467F-41A7-94DC-8B216E98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8D580E-287B-4216-AB0C-31F1F377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6AD300-8D3E-4CC6-87F6-FCED3EC3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7793B8-5EDE-4B36-895E-48EB019C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FCD2DC-DD8A-4B9E-92E0-134218EA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21B0-D7B3-4DC6-AF78-768F16C4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8B667-F70A-4DD6-8ADA-DC1F5194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8A949-EA85-42C1-A11D-31F92495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209B4D-1690-487E-8D46-A7C04C13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2A4A4F-35FD-42B4-81D0-C88E7FFCF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70AE96-1E9E-45D9-A933-50D9F7067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3D44-BFFF-462B-9F5C-9EE0E821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3203-8ECB-4CB4-BDC6-35F7D936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0E94-E002-4AC4-AEA9-20F3C832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06DD-11A9-4604-B713-650A0F70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9BC6-D7BD-4753-A724-AA3CF757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4882-5EAA-4ED9-88B7-F84C53DB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3FED-FE5F-488F-B43F-1306F907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5913-7FEE-4455-8905-985A39E6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4D08-D398-45FD-B4EC-E8004C6F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ED43-FC6E-4267-81B5-5DFCBB627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85AC-CEFC-4F6F-821E-4E59944ED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C91C9-46D3-4AFB-AD73-DF57383D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082CC-F0BC-408F-8BC6-F88EDE5A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2360D-705A-4F88-B225-0D9BF9C7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A72C4-969A-4F0B-9D48-F706A7A6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FFCD6-06FC-4F82-8631-12A81EDF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ABC5-1660-445F-96D8-4F2ACA9D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EDEE9-1904-465F-BFC3-0F19F1B8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F535C-AF15-4063-9EF5-C52524D4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E4969-EE69-485B-BBAD-868AA05B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760A4-E8C5-49EE-BFE8-6AB61266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B9955-2821-43D1-B910-DB0B47AD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8E63F-97D3-4420-94A3-20585E18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5F13D-348F-441B-A33D-E0D9E1BB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E278C-1FF1-421A-9F0F-763CABB12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9F774-CE37-4E88-AAA6-1B0C65F0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407F1-306D-4BBB-ACE3-F2F35529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7576-6C36-4DAE-9F21-C09C6706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B0CD3-176E-4747-8139-AD4BE794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BFC13-842D-46BE-B0DF-DF65E415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76DE5-AD49-4608-9106-B12ECBFC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6915B-4BAA-4C52-BEB8-62A22748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2994E-B7A9-410F-B7E1-3C78947E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ACF86-0498-4070-80DF-BA837E7B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05BA0-896D-4F55-BDB9-EB1ED5D6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325B8-BA30-4126-A881-167ECD46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B8480-608D-4B0F-BA4C-25676A64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AD714-98EF-4F5E-A349-B2C586CE9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9480-5578-402F-99F1-43E4A3B3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318BA-52D2-4694-9B4B-0BD0ECF7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F4911-190A-4DC3-8398-16F99D2F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95297-17FF-4405-AEC4-8DFDC96E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B17BB-EA71-4C8F-89F0-059A71A8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CC04E-51AB-46D4-BFF1-94FE1454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B85C4-70C5-4734-817F-EDA05927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31DC5-AED9-4A5D-BA08-2D21563F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82AB0-4063-427F-82CE-B3629470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A353B-FCE8-40D7-BD1D-247E3233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7A75B-BA24-46CB-8145-53A938D1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1015-9C4D-4DB6-A8CE-A952ED2C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B41B0-C443-43F6-ABF0-A6D8F824C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2653B-08DF-407E-8B05-84DD54E7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CEC6A-848B-455C-90BC-FB091300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52842-3891-490A-8225-278DF9C0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B11D6-4072-4C93-9BA9-1A230C53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1C03D-451F-45A3-A277-BF5421A4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EB425-333B-4A7C-8FA6-A9452A86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81825-E2E0-4F82-9CA6-A6064049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4302F-B7A7-42CD-BA28-4E148728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71B55-8ECB-43A1-9820-D06C40E8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068D-47F5-4E04-BE91-1DCD34D1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ECB49-8FFE-4B25-A689-FE1F0DFB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2176F-0605-4B30-8240-EA424F53C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7A1E5-80CE-4DD1-A23A-308082993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C3FA6-D53F-4034-A11D-54936F4AE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4D9F1-5948-4AA9-9CC0-A3D0881B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8A0CB-761A-4450-9E4A-934F4D0E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39A1E-16B4-44C4-9C51-FAEC0A25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B0655-6DBC-4D27-8905-A657AC47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3A7D7-39C8-4C72-9333-7F79ED57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BF598-D0CD-4D59-91A6-CD39450F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C665-EF53-4DC9-B7B5-80127934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7F331-572B-4FC5-A85F-328819D0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B8F4E-3542-4B93-9BF7-923AE545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698B3-5166-4F65-90A8-BC2E34D6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E5772-EFEF-44A7-A56F-B3C10DC5E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E553F-4A47-4761-B49B-64761F182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CD326-BB75-4665-8DAF-EA46B203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E6B44-403E-4E95-B093-50418239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F7EA3-8258-489F-BC21-5C2222C1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F53E2-5C3D-4EE7-BC0C-E15FAECE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A9E8C-B800-4689-B6F6-80863C6B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F5FB-39CB-4FEC-91AE-659B72B4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3C1DC-2D87-4ABA-B648-5812F9CD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53887-129B-4022-80C3-FF0A701B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F796B-0C36-4FAA-B242-171596AC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898D4-25D8-409B-ACC3-18E7AEDF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2624D-F69C-4217-9F5F-59BE6C2E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A9FDF-4065-48F1-9B2C-CC5FF6FB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0D816-86F1-4DFB-A1AB-3F3803BF4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2BC27-5112-4F81-8A9A-65D0D605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7E720-E657-4BD2-8E71-061F806B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4E1D5-0553-4F9D-A1E7-69EEEBDE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EB85-A48F-4625-ABFA-43ED5DE532EB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E6BA-D0A2-447F-879F-0B1A681487F0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4B3E-DEED-4811-90BD-7AF39D61D548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65A9-EED9-4CF0-BBFD-7160AB9FEA7E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BF9D-86DF-489E-B7C3-61565279A2F7}" type="slidenum">
              <a:rPr b="1" lang="ru-RU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614E-4FC3-4828-9AEE-3FEF65D92193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2AE3-E7CE-4B8E-9276-3AC9AC8E7382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1F7B-12FF-4027-84DF-4EA6520D210E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AEA1-72F6-4645-A1F6-91BFF63AFC11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519B-0756-4155-9002-D4046978D879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444A-6EC9-480D-AADC-FF53D576D218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286C-50D4-4980-B563-A073AF4FA4AA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2.gif"/><Relationship Id="rId10" Type="http://schemas.openxmlformats.org/officeDocument/2006/relationships/image" Target="../media/image13.gif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28440" y="1999800"/>
            <a:ext cx="7358040" cy="2071800"/>
          </a:xfrm>
          <a:prstGeom prst="rect">
            <a:avLst/>
          </a:prstGeom>
          <a:blipFill rotWithShape="0">
            <a:blip r:embed="rId1"/>
            <a:stretch/>
          </a:blipFill>
          <a:ln w="25560">
            <a:solidFill>
              <a:srgbClr val="7bd16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244c1b"/>
                </a:solidFill>
                <a:latin typeface="Trebuchet MS"/>
              </a:rPr>
              <a:t>БИОСФЕРА</a:t>
            </a:r>
            <a:endParaRPr b="0" lang="en-US" sz="9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02" name="Прямоугольник 3"/>
          <p:cNvSpPr/>
          <p:nvPr/>
        </p:nvSpPr>
        <p:spPr>
          <a:xfrm>
            <a:off x="214200" y="4572000"/>
            <a:ext cx="807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76213"/>
                </a:solidFill>
                <a:latin typeface="Arial"/>
              </a:rPr>
              <a:t>– </a:t>
            </a:r>
            <a:r>
              <a:rPr b="1" lang="ru-RU" sz="6000" spc="-1" strike="noStrike">
                <a:solidFill>
                  <a:srgbClr val="476213"/>
                </a:solidFill>
                <a:latin typeface="Arial"/>
              </a:rPr>
              <a:t>оболочка      жизн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5" descr="D:\КАРТИНКИ\Коллекция картинок2\AG00142_.GIF"/>
          <p:cNvPicPr/>
          <p:nvPr/>
        </p:nvPicPr>
        <p:blipFill>
          <a:blip r:embed="rId2"/>
          <a:stretch/>
        </p:blipFill>
        <p:spPr>
          <a:xfrm>
            <a:off x="7358040" y="642960"/>
            <a:ext cx="2048040" cy="25588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6" descr="D:\КАРТИНКИ\Коллекция картинок1\j0423433.wmf"/>
          <p:cNvPicPr/>
          <p:nvPr/>
        </p:nvPicPr>
        <p:blipFill>
          <a:blip r:embed="rId3"/>
          <a:stretch/>
        </p:blipFill>
        <p:spPr>
          <a:xfrm>
            <a:off x="3214800" y="428760"/>
            <a:ext cx="3286080" cy="20890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7" descr="D:\КАРТИНКИ\Коллекция картинок1\j0426420.wmf"/>
          <p:cNvPicPr/>
          <p:nvPr/>
        </p:nvPicPr>
        <p:blipFill>
          <a:blip r:embed="rId4"/>
          <a:stretch/>
        </p:blipFill>
        <p:spPr>
          <a:xfrm>
            <a:off x="214200" y="285840"/>
            <a:ext cx="2071800" cy="21430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D:\КАРТИНКИ\Коллекция картинок1\j0428143.wmf"/>
          <p:cNvPicPr/>
          <p:nvPr/>
        </p:nvPicPr>
        <p:blipFill>
          <a:blip r:embed="rId5"/>
          <a:stretch/>
        </p:blipFill>
        <p:spPr>
          <a:xfrm>
            <a:off x="8286840" y="4714920"/>
            <a:ext cx="733320" cy="18190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9" descr="D:\КАРТИНКИ\Коллекция картинок3\j0436378.png"/>
          <p:cNvPicPr/>
          <p:nvPr/>
        </p:nvPicPr>
        <p:blipFill>
          <a:blip r:embed="rId6"/>
          <a:stretch/>
        </p:blipFill>
        <p:spPr>
          <a:xfrm>
            <a:off x="3000240" y="5786280"/>
            <a:ext cx="857520" cy="8575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2" descr="D:\КАРТИНКИ\Коллекция картинок3\j0318096.gif"/>
          <p:cNvPicPr/>
          <p:nvPr/>
        </p:nvPicPr>
        <p:blipFill>
          <a:blip r:embed="rId7"/>
          <a:stretch/>
        </p:blipFill>
        <p:spPr>
          <a:xfrm>
            <a:off x="4286160" y="3706920"/>
            <a:ext cx="1928880" cy="29304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4" descr="D:\КАРТИНКИ\Коллекция картинок1\j0185571.gif"/>
          <p:cNvPicPr/>
          <p:nvPr/>
        </p:nvPicPr>
        <p:blipFill>
          <a:blip r:embed="rId8"/>
          <a:stretch/>
        </p:blipFill>
        <p:spPr>
          <a:xfrm>
            <a:off x="816120" y="4998960"/>
            <a:ext cx="2041560" cy="17161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5" descr="D:\КАРТИНКИ\Коллекция картинок1\j0236376.gif"/>
          <p:cNvPicPr/>
          <p:nvPr/>
        </p:nvPicPr>
        <p:blipFill>
          <a:blip r:embed="rId9"/>
          <a:stretch/>
        </p:blipFill>
        <p:spPr>
          <a:xfrm>
            <a:off x="6215040" y="5572080"/>
            <a:ext cx="1785960" cy="9968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6" descr="D:\КАРТИНКИ\Коллекция картинок1\j0236359.gif"/>
          <p:cNvPicPr/>
          <p:nvPr/>
        </p:nvPicPr>
        <p:blipFill>
          <a:blip r:embed="rId10"/>
          <a:stretch/>
        </p:blipFill>
        <p:spPr>
          <a:xfrm>
            <a:off x="214200" y="3006720"/>
            <a:ext cx="1143000" cy="19699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" descr="D:\КАРТИНКИ\Коллекция картинок1\j0433319.jpg"/>
          <p:cNvPicPr/>
          <p:nvPr/>
        </p:nvPicPr>
        <p:blipFill>
          <a:blip r:embed="rId11"/>
          <a:stretch/>
        </p:blipFill>
        <p:spPr>
          <a:xfrm>
            <a:off x="2214720" y="3786120"/>
            <a:ext cx="1500120" cy="99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82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rebuchet MS"/>
              </a:rPr>
              <a:t>Заполни таблицу:</a:t>
            </a:r>
            <a:endParaRPr b="0" lang="en-US" sz="5400" spc="-1" strike="noStrike">
              <a:solidFill>
                <a:srgbClr val="078f48"/>
              </a:solidFill>
              <a:latin typeface="Trebuchet MS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285840" y="1143000"/>
          <a:ext cx="8643960" cy="5500800"/>
        </p:xfrm>
        <a:graphic>
          <a:graphicData uri="http://schemas.openxmlformats.org/drawingml/2006/table">
            <a:tbl>
              <a:tblPr/>
              <a:tblGrid>
                <a:gridCol w="2158920"/>
                <a:gridCol w="2419200"/>
                <a:gridCol w="2119320"/>
                <a:gridCol w="1946520"/>
              </a:tblGrid>
              <a:tr h="1066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Царства прир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Главные особен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Количество вид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Значение в природ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110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d0d0d"/>
                          </a:solidFill>
                          <a:latin typeface="Calibri"/>
                          <a:ea typeface="Times New Roman"/>
                        </a:rPr>
                        <a:t>Бактер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10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d0d0d"/>
                          </a:solidFill>
                          <a:latin typeface="Calibri"/>
                          <a:ea typeface="Times New Roman"/>
                        </a:rPr>
                        <a:t>Раст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d0d0d"/>
                          </a:solidFill>
                          <a:latin typeface="Calibri"/>
                          <a:ea typeface="Times New Roman"/>
                        </a:rPr>
                        <a:t>Живот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10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d0d0d"/>
                          </a:solidFill>
                          <a:latin typeface="Calibri"/>
                          <a:ea typeface="Times New Roman"/>
                        </a:rPr>
                        <a:t>Гриб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929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6b36"/>
                </a:solidFill>
                <a:latin typeface="Trebuchet MS"/>
              </a:rPr>
              <a:t>      </a:t>
            </a:r>
            <a:r>
              <a:rPr b="1" lang="ru-RU" sz="4400" spc="-1" strike="noStrike">
                <a:solidFill>
                  <a:srgbClr val="056b36"/>
                </a:solidFill>
                <a:latin typeface="Trebuchet MS"/>
              </a:rPr>
              <a:t>ДЗ: </a:t>
            </a:r>
            <a:r>
              <a:rPr b="1" lang="ru-RU" sz="4400" spc="-1" strike="noStrike">
                <a:solidFill>
                  <a:srgbClr val="056b36"/>
                </a:solidFill>
                <a:latin typeface="Lucida Sans Unicode"/>
                <a:ea typeface="Lucida Sans Unicode"/>
              </a:rPr>
              <a:t>§29-30,</a:t>
            </a:r>
            <a:r>
              <a:rPr b="1" lang="ru-RU" sz="4400" spc="-1" strike="noStrike">
                <a:solidFill>
                  <a:srgbClr val="056b36"/>
                </a:solidFill>
                <a:latin typeface="Trebuchet MS"/>
              </a:rPr>
              <a:t> решить тест</a:t>
            </a:r>
            <a:endParaRPr b="0" lang="en-US" sz="44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28400" y="999720"/>
            <a:ext cx="87152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пособностью создавать органическое вещество из    неорганического обладают :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микроорганизмы ;                   в)  грибы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животные ;                                г)  растения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ибольшее видовое разнообразие наблюдается в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арстве :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животных ;                              в)  грибов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 бактерий ;                               г)   растений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Грибы занимают промежуточное положение между :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бактериями и животными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 растениями и животными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 растениями и бактериями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  нет правильного ответа.  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78f48"/>
                </a:solidFill>
                <a:latin typeface="Trebuchet MS"/>
              </a:rPr>
              <a:t>Царства живой природы</a:t>
            </a:r>
            <a:endParaRPr b="0" lang="en-US" sz="4800" spc="-1" strike="noStrike">
              <a:solidFill>
                <a:srgbClr val="078f48"/>
              </a:solidFill>
              <a:latin typeface="Trebuchet MS"/>
            </a:endParaRPr>
          </a:p>
        </p:txBody>
      </p:sp>
      <p:pic>
        <p:nvPicPr>
          <p:cNvPr id="514" name="Схема 2" descr=""/>
          <p:cNvPicPr/>
          <p:nvPr/>
        </p:nvPicPr>
        <p:blipFill>
          <a:blip r:embed="rId1"/>
          <a:stretch/>
        </p:blipFill>
        <p:spPr>
          <a:xfrm>
            <a:off x="847800" y="1311120"/>
            <a:ext cx="7954920" cy="5193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43040" y="213840"/>
            <a:ext cx="6572160" cy="114300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8f48"/>
                </a:solidFill>
                <a:latin typeface="Trebuchet MS"/>
              </a:rPr>
              <a:t>Бактерии</a:t>
            </a:r>
            <a:endParaRPr b="0" lang="en-US" sz="7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003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Бактерии – первые организмы, появившиеся на Земле (1 млрд. лет назад). Обитают повсеместно. Тело бактерий состоит из одной клетки. Способствуют разложению животных и превращению органических остатков в питательные вещества для растений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17" name="Picture 2" descr="C:\Documents and Settings\Admin\Рабочий стол\b5g0445i.bmp"/>
          <p:cNvPicPr/>
          <p:nvPr/>
        </p:nvPicPr>
        <p:blipFill>
          <a:blip r:embed="rId2"/>
          <a:stretch/>
        </p:blipFill>
        <p:spPr>
          <a:xfrm>
            <a:off x="4714920" y="1571760"/>
            <a:ext cx="4114800" cy="30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8" name="Picture 3" descr="C:\Documents and Settings\Admin\Рабочий стол\b5g0447i.bmp"/>
          <p:cNvPicPr/>
          <p:nvPr/>
        </p:nvPicPr>
        <p:blipFill>
          <a:blip r:embed="rId3"/>
          <a:stretch/>
        </p:blipFill>
        <p:spPr>
          <a:xfrm>
            <a:off x="6786720" y="4786200"/>
            <a:ext cx="2066760" cy="19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Picture 4" descr="C:\Documents and Settings\Admin\Рабочий стол\b5g0446i.bmp"/>
          <p:cNvPicPr/>
          <p:nvPr/>
        </p:nvPicPr>
        <p:blipFill>
          <a:blip r:embed="rId4"/>
          <a:stretch/>
        </p:blipFill>
        <p:spPr>
          <a:xfrm>
            <a:off x="4357800" y="4786200"/>
            <a:ext cx="2066760" cy="19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008400" cy="92880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8f48"/>
                </a:solidFill>
                <a:latin typeface="Trebuchet MS"/>
              </a:rPr>
              <a:t>Растения</a:t>
            </a:r>
            <a:endParaRPr b="0" lang="en-US" sz="7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14200" y="1285920"/>
            <a:ext cx="87156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Растения составляют флору нашей планеты. Их около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500 тыс. видов. Растения приспособились к разным климатическим условиям. 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22" name="Picture 7" descr="C:\Users\Dichok\Desktop\F_splendens.jpg"/>
          <p:cNvPicPr/>
          <p:nvPr/>
        </p:nvPicPr>
        <p:blipFill>
          <a:blip r:embed="rId2"/>
          <a:stretch/>
        </p:blipFill>
        <p:spPr>
          <a:xfrm>
            <a:off x="6143760" y="2643120"/>
            <a:ext cx="2714400" cy="371484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 txBox="1"/>
          <p:nvPr/>
        </p:nvSpPr>
        <p:spPr>
          <a:xfrm>
            <a:off x="6500520" y="2785680"/>
            <a:ext cx="242892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8f4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24" name="Picture 8" descr="C:\Users\Dichok\Desktop\s8.jpg"/>
          <p:cNvPicPr/>
          <p:nvPr/>
        </p:nvPicPr>
        <p:blipFill>
          <a:blip r:embed="rId3"/>
          <a:stretch/>
        </p:blipFill>
        <p:spPr>
          <a:xfrm>
            <a:off x="3143160" y="2643120"/>
            <a:ext cx="2857680" cy="37292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8" descr="C:\Users\Dichok\Desktop\0002-009-Tipy-lesov-Rossii.jpg"/>
          <p:cNvPicPr/>
          <p:nvPr/>
        </p:nvPicPr>
        <p:blipFill>
          <a:blip r:embed="rId4"/>
          <a:stretch/>
        </p:blipFill>
        <p:spPr>
          <a:xfrm>
            <a:off x="214200" y="2643120"/>
            <a:ext cx="2714760" cy="3714840"/>
          </a:xfrm>
          <a:prstGeom prst="rect">
            <a:avLst/>
          </a:prstGeom>
          <a:ln w="0">
            <a:noFill/>
          </a:ln>
        </p:spPr>
      </p:pic>
      <p:sp>
        <p:nvSpPr>
          <p:cNvPr id="526" name="TextBox 10"/>
          <p:cNvSpPr/>
          <p:nvPr/>
        </p:nvSpPr>
        <p:spPr>
          <a:xfrm>
            <a:off x="357120" y="635796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ения  ле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1"/>
          <p:cNvSpPr/>
          <p:nvPr/>
        </p:nvSpPr>
        <p:spPr>
          <a:xfrm>
            <a:off x="3429000" y="635796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ения степей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3"/>
          <p:cNvSpPr/>
          <p:nvPr/>
        </p:nvSpPr>
        <p:spPr>
          <a:xfrm>
            <a:off x="6286680" y="635796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ения пусты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11" descr="Биологический круговорот на суше"/>
          <p:cNvPicPr/>
          <p:nvPr/>
        </p:nvPicPr>
        <p:blipFill>
          <a:blip r:embed="rId1"/>
          <a:stretch/>
        </p:blipFill>
        <p:spPr>
          <a:xfrm>
            <a:off x="928800" y="214200"/>
            <a:ext cx="8037360" cy="6429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643040" y="-360"/>
            <a:ext cx="6222960" cy="107172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8f48"/>
                </a:solidFill>
                <a:latin typeface="Trebuchet MS"/>
              </a:rPr>
              <a:t>Животные</a:t>
            </a:r>
            <a:endParaRPr b="0" lang="en-US" sz="7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298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Животные составляют фауну нашей планеты. Их около 2,5 млн. видов. Питаются готовыми органическими веществами. В отличие от растений способны к активному передвижению. Роль в биосфере невелика: опыление растений, превращение растительных белков в животные в процессе питания, защита растений.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32" name="Picture 4" descr="C:\Users\Dichok\Desktop\stiv-blum-2.jpg"/>
          <p:cNvPicPr/>
          <p:nvPr/>
        </p:nvPicPr>
        <p:blipFill>
          <a:blip r:embed="rId2"/>
          <a:stretch/>
        </p:blipFill>
        <p:spPr>
          <a:xfrm>
            <a:off x="142920" y="3857760"/>
            <a:ext cx="2714760" cy="28573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5" descr="C:\Users\Dichok\Desktop\1251815791_anim161.jpg"/>
          <p:cNvPicPr/>
          <p:nvPr/>
        </p:nvPicPr>
        <p:blipFill>
          <a:blip r:embed="rId3"/>
          <a:stretch/>
        </p:blipFill>
        <p:spPr>
          <a:xfrm>
            <a:off x="2928960" y="385776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6" descr="C:\Users\Dichok\Desktop\0_14f6b_31fbb99f_L.jpeg"/>
          <p:cNvPicPr/>
          <p:nvPr/>
        </p:nvPicPr>
        <p:blipFill>
          <a:blip r:embed="rId4"/>
          <a:stretch/>
        </p:blipFill>
        <p:spPr>
          <a:xfrm>
            <a:off x="5929200" y="3857760"/>
            <a:ext cx="3071880" cy="2857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999800" y="-360"/>
            <a:ext cx="5357880" cy="107172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8f48"/>
                </a:solidFill>
                <a:latin typeface="Trebuchet MS"/>
              </a:rPr>
              <a:t>Грибы</a:t>
            </a:r>
            <a:endParaRPr b="0" lang="en-US" sz="7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13840" y="999720"/>
            <a:ext cx="864396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Грибы – особая группа живых организмов, занимающая промежуточное положение между растениями, и животными. Насчитывается более 100 тыс. видов.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Ведут неподвижный образ жизни. Питаются готовыми органическими веществами, которые получают в процессе разложения остатков животных и растений.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37" name="Picture 7" descr="C:\Users\Dichok\Desktop\79916948_3453311_2.jpg"/>
          <p:cNvPicPr/>
          <p:nvPr/>
        </p:nvPicPr>
        <p:blipFill>
          <a:blip r:embed="rId2"/>
          <a:stretch/>
        </p:blipFill>
        <p:spPr>
          <a:xfrm>
            <a:off x="0" y="3500280"/>
            <a:ext cx="2857680" cy="33577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9" descr="C:\Users\Dichok\Desktop\012.jpg"/>
          <p:cNvPicPr/>
          <p:nvPr/>
        </p:nvPicPr>
        <p:blipFill>
          <a:blip r:embed="rId3"/>
          <a:stretch/>
        </p:blipFill>
        <p:spPr>
          <a:xfrm>
            <a:off x="3000240" y="3500280"/>
            <a:ext cx="2857680" cy="33577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0" descr="C:\Users\Dichok\Desktop\948673df5fa59e56f1eead1aca0732a0.jpg"/>
          <p:cNvPicPr/>
          <p:nvPr/>
        </p:nvPicPr>
        <p:blipFill>
          <a:blip r:embed="rId4"/>
          <a:stretch/>
        </p:blipFill>
        <p:spPr>
          <a:xfrm>
            <a:off x="6000840" y="3500280"/>
            <a:ext cx="3143160" cy="3357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14" descr="Живые организмы и ГО"/>
          <p:cNvPicPr/>
          <p:nvPr/>
        </p:nvPicPr>
        <p:blipFill>
          <a:blip r:embed="rId1"/>
          <a:stretch/>
        </p:blipFill>
        <p:spPr>
          <a:xfrm>
            <a:off x="285840" y="714240"/>
            <a:ext cx="8715240" cy="6000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41" name="TextBox 2"/>
          <p:cNvSpPr/>
          <p:nvPr/>
        </p:nvSpPr>
        <p:spPr>
          <a:xfrm>
            <a:off x="928800" y="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7723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57723"/>
                </a:solidFill>
                <a:latin typeface="Arial"/>
              </a:rPr>
              <a:t>Взаимосвязь живых организ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5438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76213"/>
                </a:solidFill>
                <a:latin typeface="Trebuchet MS"/>
              </a:rPr>
              <a:t>         </a:t>
            </a:r>
            <a:r>
              <a:rPr b="1" lang="ru-RU" sz="4000" spc="-1" strike="noStrike">
                <a:solidFill>
                  <a:srgbClr val="476213"/>
                </a:solidFill>
                <a:latin typeface="Trebuchet MS"/>
              </a:rPr>
              <a:t>Повторим главное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785520" y="571680"/>
            <a:ext cx="790092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d0d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Совокупность всех живых организмов составляет особую живую оболочку планеты – биосферу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d0d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Особенно важную роль играют растения. Только они способны, используя солнечную энергию, превращать неорганические вещества в органические. Органические вещества являются основой жизни всех остальных обитателей планеты.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d0d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44" name="Picture 2" descr="C:\Users\Dichok\Desktop\0_423_a2751233_XL.jpg"/>
          <p:cNvPicPr/>
          <p:nvPr/>
        </p:nvPicPr>
        <p:blipFill>
          <a:blip r:embed="rId1"/>
          <a:stretch/>
        </p:blipFill>
        <p:spPr>
          <a:xfrm>
            <a:off x="2643120" y="3714840"/>
            <a:ext cx="3286080" cy="30002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" descr="C:\Users\Dichok\Desktop\0_1f943_895677c0_L.jpg"/>
          <p:cNvPicPr/>
          <p:nvPr/>
        </p:nvPicPr>
        <p:blipFill>
          <a:blip r:embed="rId2"/>
          <a:stretch/>
        </p:blipFill>
        <p:spPr>
          <a:xfrm>
            <a:off x="214200" y="3714840"/>
            <a:ext cx="2357640" cy="30002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C:\Users\Dichok\Desktop\cranberry.jpg"/>
          <p:cNvPicPr/>
          <p:nvPr/>
        </p:nvPicPr>
        <p:blipFill>
          <a:blip r:embed="rId3"/>
          <a:stretch/>
        </p:blipFill>
        <p:spPr>
          <a:xfrm>
            <a:off x="6000840" y="3714840"/>
            <a:ext cx="2928960" cy="3000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2:02:14Z</dcterms:created>
  <dc:creator>starostina</dc:creator>
  <dc:description/>
  <cp:keywords/>
  <dc:language>en-US</dc:language>
  <cp:lastModifiedBy>Admin</cp:lastModifiedBy>
  <dcterms:modified xsi:type="dcterms:W3CDTF">2020-04-14T22:47:35Z</dcterms:modified>
  <cp:revision>1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49</vt:lpwstr>
  </property>
</Properties>
</file>