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8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.jpeg" ContentType="image/jpeg"/>
  <Override PartName="/ppt/media/image11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10.gif" ContentType="image/gif"/>
  <Override PartName="/ppt/media/image8.wmf" ContentType="image/x-wmf"/>
  <Override PartName="/ppt/media/image33.jpeg" ContentType="image/jpeg"/>
  <Override PartName="/ppt/media/image6.wmf" ContentType="image/x-wmf"/>
  <Override PartName="/ppt/media/image34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FCB4-3FA6-4861-8E29-C54C1B6856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26A3-71BE-406C-A8D4-295639DB19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FE9-590F-4985-877E-35585A49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226-B630-4B7D-B04A-7D463885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696F5-329F-4266-9940-7B1AB647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E0631-4B42-442E-8A56-63CEC97C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76484-005C-4F1E-A725-9ED43357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716EE-7BF6-4EAC-A6E7-290C9355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5DC2D-9FC2-429D-BA3F-7CB7B311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16D34-E499-406F-9E5E-A07F9B41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53955-9423-432A-968E-4C07E669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400B2-67F0-4EF8-8D8E-DE761AB7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3F1FD-AEEC-4682-A706-425B32D2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73358-B37A-43EA-919A-60FF6CEC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2A0-9525-435B-B005-EA8B2726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950EA-52DA-4F1E-A624-57C2DE2E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8EAEA-AFC0-4114-80AB-1F1979A4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EABC4-2BBE-4AF8-8CA1-149EEAFD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7EA78-4A9A-4402-88F1-FB059EBF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769F1-E998-4147-8F66-E771C5F3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494F6-B33A-4200-9542-8037C35E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17DBE-C835-416F-8DF8-A942B644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9FC85-AB6C-4FDF-B080-2EE07C7F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0AC24-5BE8-4857-A527-2F2A142F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59F38-3922-4779-941F-92E17EC5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D34-7DB0-44C0-85B1-8C4E41D3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A77F4-2B7A-4FDE-A12D-09D5122D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1F436-3761-4FD6-B1F7-5B81CC29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5A7E5-6E6A-4078-AC33-A7E2F672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769BF-3B8E-4105-8A9A-87C1027C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A038F-F1DA-4DDC-ACAC-0299B130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3EDB0-87A4-4DF9-816E-D5D94B21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EE783-251B-43DC-B8B2-5026DF5E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1F0FB-F645-49DA-83BF-4CBE9D00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C40A0-E938-46CB-BFB6-CAE9752C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30E60-408F-4903-BB7B-1FC834CA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D34E-A565-46AC-B2F2-387667D1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E0425-506E-475F-A637-04598802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6E352-1C5C-4E3A-9B15-00D6F260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FB986-CDF3-41AA-9C41-CFBC6D4F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C241D-4A73-4F7D-9D7E-99576299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61A3A-3DA8-43FF-872A-F2A984D9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6DAFF-514B-4E45-B01C-E9E00F33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30997-88DE-4CA0-B6E5-A27FBA9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74E28-3120-4237-B9E1-6CF7A7C3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73FDE-B403-4D23-B37F-C13F881E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2572D-62DC-43DA-A69F-B8A896CC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39FA-90F7-463D-A8FD-485A55B8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024A8-64E3-47E1-9089-20E0BD9A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A74F1-EF79-4E59-AA5D-CE8ABD72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DB406-8282-4F93-9C8D-4C2067FA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FC376-4E85-4732-8C4A-278C63A1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2F839-AD16-4D70-813D-0E60F3C5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994D-68C3-4105-AEAD-3050E11D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8F05-E9CB-4427-8739-C9E174EA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6D5D-F9D1-4766-808A-A66C7161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C7F7-6F83-4843-B843-663587CD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04C4-69FD-41B1-A434-F016233D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656-7487-4AC6-89EA-C69942B0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5037-8025-46E8-B183-EDC7BB24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995B-FA3B-4EA9-90B4-4196C96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38EB-1DA3-4F07-9B97-6A971648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4A3D-35A5-4998-A27C-75AD0F3B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7542-8472-42B0-86D5-E7B8A5B9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5152-3AD3-4D6D-BAC2-CCCBD351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0707-BF57-46A3-B5F8-0CA1CC6E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6B9E-E3C7-42B5-81CD-6F849C41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3F0F-17E7-4756-9E70-8599A6CC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4013-A521-4FC7-8D42-35A2F280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4B5-11DD-4BEE-8514-4BF1FDDB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2BF91-E2F8-42AA-85B4-4DDA57D1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07A5-C202-4812-87B1-84173394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0D4C-7B84-43E3-AF66-B597BD05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D5067-73B5-4C94-B68F-CABAB19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9FCA-EB5B-47C5-948D-A15B040B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5CFA-A416-40ED-BB28-D5D9548F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C959-1E4C-4658-940B-F2AD624A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1A33-79FE-4978-B033-C99BFEE3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DD8CD-D854-4EA1-840C-16D84D99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D4AC7-A950-448E-9A8E-BA164C1D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83E-1DF9-4E54-93E4-40EDA618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3A44-4AE5-4A1B-A18B-C366A41E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4E22-7EF9-40F9-BB78-410BF852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D80FA-2F2A-4AE3-B99E-5ED8440D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C227-4B4C-4F77-9508-99014CB3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16BB9-6051-4AA0-A6BF-9EDC0644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EFF32-8B03-4AE9-BB52-483168E4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035F3-024D-4F42-A108-AD18E96C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7331-EEB1-452F-B900-CC10E9C5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4AE9-DCB3-45A3-AB59-094DA875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C37D1-A65E-4CE6-A9FE-6B437223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259-F357-4296-8824-D2404546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358D0-8A59-4573-84C2-7604C19D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AB76D-7915-4D80-B2C2-21D7CA95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5D13A-63FC-477E-80AA-6C80A880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88CA2-1750-4088-8EF2-86D2B789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33820-A290-46F1-B95E-4996CB47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6148A-B206-4B82-A8B4-CD763498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993C2-98FE-4115-8DE0-C64F820A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5A4C3-146E-494C-A637-932127F0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E1D60-6F45-4803-BD8D-85C5E179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E03BF-2F1C-4B82-8AFE-8E723642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B8B-AC85-4988-BE06-B0F82F26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FD472-8629-4857-91D1-B6143577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F0AFA-E2E1-4169-A4C6-767F1ED6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4CCDD-0823-4F2B-B270-D82D0156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2E691-46C7-4AA7-9AC5-D09ED2F6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70908-348F-4E93-9A94-DDE86C0A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D5EF7-24E4-4951-BC18-365EB324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ED501-4D2C-4C40-951F-44B83D45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BB368-6236-45AE-9B04-39F07F97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E9D16-5B3B-4178-B8FD-FA37C57C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B08BC-850C-4D8E-90F6-2C457210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430-40B7-4921-BE2C-E5A8DF21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02AD1-B8A6-4ED5-AE2F-2BB9CBB5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B41B8-C2BB-43A9-92DF-A82DD948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F9AFF-ED04-4F4C-BDF7-544E4447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A2AEB-6901-40C3-B896-05C8B0B4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68D26-23E3-4F6C-A742-2A7FEB03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32499-2B76-4400-B534-8EA1EA68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ED332-D4BB-4D29-9FE6-F39669A2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03188-B8E6-4870-871B-584679DA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99876-ED9B-4701-9B95-07854CE5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A9C5A-C60B-4816-8543-2A91B6B9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549-E514-4BDC-A845-5C3B291D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A3DD7-99CE-470C-A20A-4CD122CF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203BE-D3A8-4F19-8020-968A92CD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74C49-213F-4243-AF7B-3C26F1D7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2771E-22BD-4526-A410-9D702391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F8F0A-6435-452C-AC02-1EEA9004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F1745-4015-4EA2-A2CA-CA342564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0B62A-21A8-4321-A770-79381F73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4DC96-0F67-4525-A91A-F888E17B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101EA-E6CB-4CD9-924D-6AC43338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2BC5C-AE5D-43B4-B1D3-4FA32ED8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3DA-8C24-4ADB-BC02-044AE16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1A47F-E2F5-42A0-B0C5-D62A54BA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ED8A1-674A-488A-B271-5FCFF7E3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03859-0C14-4DE2-9B2F-F63CDED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9910F-92E9-49BB-BF61-3A910995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7AB7C-868E-48F5-9DB5-14961173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108A7-3FDA-41F7-B25F-3583685F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C3F03-3C9A-497A-9A9B-9F35E451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419E7-63C3-438A-B371-A935CA37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DAF3A-ED6D-4510-A789-82FE00B0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A2810-10B3-40AF-BBB0-BF3867AC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3549-8FCC-4D98-A8FC-842A702A3115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6D5B-C6AE-4EDC-8BD4-3FCF84AAD28A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5DBD-B1F1-4A57-B8E7-8A1EEF9774D1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CDC8-B2B9-47C8-A97A-96FEA6CA8CD5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EB08-65F1-4EAE-A0F1-C9E9C36FE99F}" type="slidenum">
              <a:rPr b="1" lang="ru-RU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A76C-5A6D-428E-AA34-DBA7E41BBDBD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4381-2701-4C16-BFB1-088A0BF11D67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16D6-9E8F-413F-9B96-37D5FE2FA67C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7AF9-BF86-4FE2-B131-8FD3C7BA5DD7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0D68-F1D7-434C-B780-14BE675A854A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3B34-A18E-448C-8A5B-589EC2E8809D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C61D-BD4F-4CAC-A5A0-4B717BFA67BA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7358040" cy="207180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7bd16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44c1b"/>
                </a:solidFill>
                <a:latin typeface="Trebuchet MS"/>
              </a:rPr>
              <a:t>БИОСФЕРА</a:t>
            </a:r>
            <a:endParaRPr b="0" lang="en-US" sz="9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214200" y="457200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– </a:t>
            </a: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оболочка     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D:\КАРТИНКИ\Коллекция картинок2\AG00142_.GIF"/>
          <p:cNvPicPr/>
          <p:nvPr/>
        </p:nvPicPr>
        <p:blipFill>
          <a:blip r:embed="rId2"/>
          <a:stretch/>
        </p:blipFill>
        <p:spPr>
          <a:xfrm>
            <a:off x="7358040" y="642960"/>
            <a:ext cx="2048040" cy="2558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D:\КАРТИНКИ\Коллекция картинок1\j0423433.wmf"/>
          <p:cNvPicPr/>
          <p:nvPr/>
        </p:nvPicPr>
        <p:blipFill>
          <a:blip r:embed="rId3"/>
          <a:stretch/>
        </p:blipFill>
        <p:spPr>
          <a:xfrm>
            <a:off x="3214800" y="428760"/>
            <a:ext cx="328608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D:\КАРТИНКИ\Коллекция картинок1\j0426420.wmf"/>
          <p:cNvPicPr/>
          <p:nvPr/>
        </p:nvPicPr>
        <p:blipFill>
          <a:blip r:embed="rId4"/>
          <a:stretch/>
        </p:blipFill>
        <p:spPr>
          <a:xfrm>
            <a:off x="214200" y="28584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D:\КАРТИНКИ\Коллекция картинок1\j0428143.wmf"/>
          <p:cNvPicPr/>
          <p:nvPr/>
        </p:nvPicPr>
        <p:blipFill>
          <a:blip r:embed="rId5"/>
          <a:stretch/>
        </p:blipFill>
        <p:spPr>
          <a:xfrm>
            <a:off x="8286840" y="4714920"/>
            <a:ext cx="733320" cy="1819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D:\КАРТИНКИ\Коллекция картинок3\j0436378.png"/>
          <p:cNvPicPr/>
          <p:nvPr/>
        </p:nvPicPr>
        <p:blipFill>
          <a:blip r:embed="rId6"/>
          <a:stretch/>
        </p:blipFill>
        <p:spPr>
          <a:xfrm>
            <a:off x="3000240" y="57862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D:\КАРТИНКИ\Коллекция картинок3\j0318096.gif"/>
          <p:cNvPicPr/>
          <p:nvPr/>
        </p:nvPicPr>
        <p:blipFill>
          <a:blip r:embed="rId7"/>
          <a:stretch/>
        </p:blipFill>
        <p:spPr>
          <a:xfrm>
            <a:off x="4286160" y="3706920"/>
            <a:ext cx="1928880" cy="293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D:\КАРТИНКИ\Коллекция картинок1\j0185571.gif"/>
          <p:cNvPicPr/>
          <p:nvPr/>
        </p:nvPicPr>
        <p:blipFill>
          <a:blip r:embed="rId8"/>
          <a:stretch/>
        </p:blipFill>
        <p:spPr>
          <a:xfrm>
            <a:off x="816120" y="4998960"/>
            <a:ext cx="2041560" cy="1716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D:\КАРТИНКИ\Коллекция картинок1\j0236376.gif"/>
          <p:cNvPicPr/>
          <p:nvPr/>
        </p:nvPicPr>
        <p:blipFill>
          <a:blip r:embed="rId9"/>
          <a:stretch/>
        </p:blipFill>
        <p:spPr>
          <a:xfrm>
            <a:off x="6215040" y="5572080"/>
            <a:ext cx="1785960" cy="996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D:\КАРТИНКИ\Коллекция картинок1\j0236359.gif"/>
          <p:cNvPicPr/>
          <p:nvPr/>
        </p:nvPicPr>
        <p:blipFill>
          <a:blip r:embed="rId10"/>
          <a:stretch/>
        </p:blipFill>
        <p:spPr>
          <a:xfrm>
            <a:off x="214200" y="3006720"/>
            <a:ext cx="1143000" cy="196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D:\КАРТИНКИ\Коллекция картинок1\j0433319.jpg"/>
          <p:cNvPicPr/>
          <p:nvPr/>
        </p:nvPicPr>
        <p:blipFill>
          <a:blip r:embed="rId11"/>
          <a:stretch/>
        </p:blipFill>
        <p:spPr>
          <a:xfrm>
            <a:off x="2214720" y="3786120"/>
            <a:ext cx="1500120" cy="99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Заполни таблицу:</a:t>
            </a:r>
            <a:endParaRPr b="0" lang="en-US" sz="5400" spc="-1" strike="noStrike">
              <a:solidFill>
                <a:srgbClr val="078f48"/>
              </a:solidFill>
              <a:latin typeface="Trebuchet MS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285840" y="1143000"/>
          <a:ext cx="8643960" cy="5500800"/>
        </p:xfrm>
        <a:graphic>
          <a:graphicData uri="http://schemas.openxmlformats.org/drawingml/2006/table">
            <a:tbl>
              <a:tblPr/>
              <a:tblGrid>
                <a:gridCol w="2158920"/>
                <a:gridCol w="2419200"/>
                <a:gridCol w="2119320"/>
                <a:gridCol w="1946520"/>
              </a:tblGrid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Царства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Главные особ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личество ви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Значение 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Бакте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ДЗ: </a:t>
            </a:r>
            <a:r>
              <a:rPr b="1" lang="ru-RU" sz="4400" spc="-1" strike="noStrike">
                <a:solidFill>
                  <a:srgbClr val="056b36"/>
                </a:solidFill>
                <a:latin typeface="Lucida Sans Unicode"/>
                <a:ea typeface="Lucida Sans Unicode"/>
              </a:rPr>
              <a:t>§29-30,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решить тест</a:t>
            </a:r>
            <a:endParaRPr b="0" lang="en-US" sz="44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400" y="999720"/>
            <a:ext cx="87152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пособностью создавать органическое вещество из    неорганического обладают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микроорганизмы ;                   в)  грибы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животные ;                                г)  растения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ибольшее видовое разнообразие наблюдается в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е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животных ;                              в)  грибов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бактерий ;                               г)  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рибы занимают промежуточное положение между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бактер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растен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растениями и бактерия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 нет правильного ответа. 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78f48"/>
                </a:solidFill>
                <a:latin typeface="Trebuchet MS"/>
              </a:rPr>
              <a:t>Царства живой природы</a:t>
            </a:r>
            <a:endParaRPr b="0" lang="en-US" sz="48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514" name="Схема 2" descr=""/>
          <p:cNvPicPr/>
          <p:nvPr/>
        </p:nvPicPr>
        <p:blipFill>
          <a:blip r:embed="rId1"/>
          <a:stretch/>
        </p:blipFill>
        <p:spPr>
          <a:xfrm>
            <a:off x="847800" y="1311120"/>
            <a:ext cx="7954920" cy="51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Бактерии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00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Бактерии – первые организмы, появившиеся на Земле (1 млрд. лет назад). Обитают повсеместно. Тело бактерий состоит из одной клетки. Способствуют разложению животных и превращению органических остатков в питательные вещества для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17" name="Picture 2" descr="C:\Documents and Settings\Admin\Рабочий стол\b5g0445i.bmp"/>
          <p:cNvPicPr/>
          <p:nvPr/>
        </p:nvPicPr>
        <p:blipFill>
          <a:blip r:embed="rId2"/>
          <a:stretch/>
        </p:blipFill>
        <p:spPr>
          <a:xfrm>
            <a:off x="4714920" y="1571760"/>
            <a:ext cx="4114800" cy="30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Picture 3" descr="C:\Documents and Settings\Admin\Рабочий стол\b5g0447i.bmp"/>
          <p:cNvPicPr/>
          <p:nvPr/>
        </p:nvPicPr>
        <p:blipFill>
          <a:blip r:embed="rId3"/>
          <a:stretch/>
        </p:blipFill>
        <p:spPr>
          <a:xfrm>
            <a:off x="678672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4" descr="C:\Documents and Settings\Admin\Рабочий стол\b5g0446i.bmp"/>
          <p:cNvPicPr/>
          <p:nvPr/>
        </p:nvPicPr>
        <p:blipFill>
          <a:blip r:embed="rId4"/>
          <a:stretch/>
        </p:blipFill>
        <p:spPr>
          <a:xfrm>
            <a:off x="435780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008400" cy="9288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Растения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Растения составляют флору нашей планеты. Их около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500 тыс. видов. Растения приспособились к разным климатическим условиям.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2" name="Picture 7" descr="C:\Users\Dichok\Desktop\F_splendens.jpg"/>
          <p:cNvPicPr/>
          <p:nvPr/>
        </p:nvPicPr>
        <p:blipFill>
          <a:blip r:embed="rId2"/>
          <a:stretch/>
        </p:blipFill>
        <p:spPr>
          <a:xfrm>
            <a:off x="6143760" y="2643120"/>
            <a:ext cx="2714400" cy="3714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500520" y="2785680"/>
            <a:ext cx="2428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4" name="Picture 8" descr="C:\Users\Dichok\Desktop\s8.jpg"/>
          <p:cNvPicPr/>
          <p:nvPr/>
        </p:nvPicPr>
        <p:blipFill>
          <a:blip r:embed="rId3"/>
          <a:stretch/>
        </p:blipFill>
        <p:spPr>
          <a:xfrm>
            <a:off x="3143160" y="2643120"/>
            <a:ext cx="2857680" cy="3729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C:\Users\Dichok\Desktop\0002-009-Tipy-lesov-Rossii.jpg"/>
          <p:cNvPicPr/>
          <p:nvPr/>
        </p:nvPicPr>
        <p:blipFill>
          <a:blip r:embed="rId4"/>
          <a:stretch/>
        </p:blipFill>
        <p:spPr>
          <a:xfrm>
            <a:off x="214200" y="2643120"/>
            <a:ext cx="2714760" cy="371484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0"/>
          <p:cNvSpPr/>
          <p:nvPr/>
        </p:nvSpPr>
        <p:spPr>
          <a:xfrm>
            <a:off x="357120" y="6357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342900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степе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286680" y="63579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пусты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1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28800" y="214200"/>
            <a:ext cx="8037360" cy="642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22296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Животные составляют фауну нашей планеты. Их около 2,5 млн. видов. Питаются готовыми органическими веществами. В отличие от растений способны к активному передвижению. Роль в биосфере невелика: опыление растений, превращение растительных белков в животные в процессе питания, защита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2" name="Picture 4" descr="C:\Users\Dichok\Desktop\stiv-blum-2.jpg"/>
          <p:cNvPicPr/>
          <p:nvPr/>
        </p:nvPicPr>
        <p:blipFill>
          <a:blip r:embed="rId2"/>
          <a:stretch/>
        </p:blipFill>
        <p:spPr>
          <a:xfrm>
            <a:off x="142920" y="385776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C:\Users\Dichok\Desktop\1251815791_anim161.jpg"/>
          <p:cNvPicPr/>
          <p:nvPr/>
        </p:nvPicPr>
        <p:blipFill>
          <a:blip r:embed="rId3"/>
          <a:stretch/>
        </p:blipFill>
        <p:spPr>
          <a:xfrm>
            <a:off x="2928960" y="3857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C:\Users\Dichok\Desktop\0_14f6b_31fbb99f_L.jpeg"/>
          <p:cNvPicPr/>
          <p:nvPr/>
        </p:nvPicPr>
        <p:blipFill>
          <a:blip r:embed="rId4"/>
          <a:stretch/>
        </p:blipFill>
        <p:spPr>
          <a:xfrm>
            <a:off x="5929200" y="385776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35788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Грибы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Грибы – особая группа живых организмов, занимающая промежуточное положение между растениями, и животными. Насчитывается более 100 тыс. видов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едут неподвижный образ жизни. Питаются готовыми органическими веществами, которые получают в процессе разложения остатков животных и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7" name="Picture 7" descr="C:\Users\Dichok\Desktop\79916948_3453311_2.jpg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C:\Users\Dichok\Desktop\012.jpg"/>
          <p:cNvPicPr/>
          <p:nvPr/>
        </p:nvPicPr>
        <p:blipFill>
          <a:blip r:embed="rId3"/>
          <a:stretch/>
        </p:blipFill>
        <p:spPr>
          <a:xfrm>
            <a:off x="300024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C:\Users\Dichok\Desktop\948673df5fa59e56f1eead1aca0732a0.jpg"/>
          <p:cNvPicPr/>
          <p:nvPr/>
        </p:nvPicPr>
        <p:blipFill>
          <a:blip r:embed="rId4"/>
          <a:stretch/>
        </p:blipFill>
        <p:spPr>
          <a:xfrm>
            <a:off x="6000840" y="3500280"/>
            <a:ext cx="31431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4" descr="Живые организмы и ГО"/>
          <p:cNvPicPr/>
          <p:nvPr/>
        </p:nvPicPr>
        <p:blipFill>
          <a:blip r:embed="rId1"/>
          <a:stretch/>
        </p:blipFill>
        <p:spPr>
          <a:xfrm>
            <a:off x="285840" y="714240"/>
            <a:ext cx="8715240" cy="600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1" name="TextBox 2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Взаимосвяз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6213"/>
                </a:solidFill>
                <a:latin typeface="Trebuchet MS"/>
              </a:rPr>
              <a:t>         </a:t>
            </a:r>
            <a:r>
              <a:rPr b="1" lang="ru-RU" sz="4000" spc="-1" strike="noStrike">
                <a:solidFill>
                  <a:srgbClr val="476213"/>
                </a:solidFill>
                <a:latin typeface="Trebuchet MS"/>
              </a:rPr>
              <a:t>Повторим главное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85520" y="571680"/>
            <a:ext cx="79009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Совокупность всех живых организмов составляет особую живую оболочку планеты – биосферу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собенно важную роль играют растения. Только они способны, используя солнечную энергию, превращать неорганические вещества в органические. Органические вещества являются основой жизни всех остальных обитателей планеты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44" name="Picture 2" descr="C:\Users\Dichok\Desktop\0_423_a2751233_XL.jpg"/>
          <p:cNvPicPr/>
          <p:nvPr/>
        </p:nvPicPr>
        <p:blipFill>
          <a:blip r:embed="rId1"/>
          <a:stretch/>
        </p:blipFill>
        <p:spPr>
          <a:xfrm>
            <a:off x="2643120" y="371484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\Users\Dichok\Desktop\0_1f943_895677c0_L.jpg"/>
          <p:cNvPicPr/>
          <p:nvPr/>
        </p:nvPicPr>
        <p:blipFill>
          <a:blip r:embed="rId2"/>
          <a:stretch/>
        </p:blipFill>
        <p:spPr>
          <a:xfrm>
            <a:off x="214200" y="3714840"/>
            <a:ext cx="2357640" cy="3000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:\Users\Dichok\Desktop\cranberry.jpg"/>
          <p:cNvPicPr/>
          <p:nvPr/>
        </p:nvPicPr>
        <p:blipFill>
          <a:blip r:embed="rId3"/>
          <a:stretch/>
        </p:blipFill>
        <p:spPr>
          <a:xfrm>
            <a:off x="6000840" y="371484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2:02:14Z</dcterms:created>
  <dc:creator>starostina</dc:creator>
  <dc:description/>
  <cp:keywords/>
  <dc:language>en-US</dc:language>
  <cp:lastModifiedBy>Admin</cp:lastModifiedBy>
  <dcterms:modified xsi:type="dcterms:W3CDTF">2020-04-14T22:47:35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49</vt:lpwstr>
  </property>
</Properties>
</file>