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28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3.jpeg" ContentType="image/jpeg"/>
  <Override PartName="/ppt/media/image11.gif" ContentType="image/gif"/>
  <Override PartName="/ppt/media/image13.gif" ContentType="image/gif"/>
  <Override PartName="/ppt/media/image16.png" ContentType="image/png"/>
  <Override PartName="/ppt/media/image31.jpeg" ContentType="image/jpeg"/>
  <Override PartName="/ppt/media/image32.jpeg" ContentType="image/jpeg"/>
  <Override PartName="/ppt/media/image10.gif" ContentType="image/gif"/>
  <Override PartName="/ppt/media/image8.wmf" ContentType="image/x-wmf"/>
  <Override PartName="/ppt/media/image33.jpeg" ContentType="image/jpeg"/>
  <Override PartName="/ppt/media/image6.wmf" ContentType="image/x-wmf"/>
  <Override PartName="/ppt/media/image34.jpeg" ContentType="image/jpeg"/>
  <Override PartName="/ppt/media/image5.gif" ContentType="image/gif"/>
  <Override PartName="/ppt/media/image14.jpeg" ContentType="image/jpeg"/>
  <Override PartName="/ppt/media/image4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2.gif" ContentType="image/gif"/>
  <Override PartName="/ppt/media/image17.jpeg" ContentType="image/jpeg"/>
  <Override PartName="/ppt/media/image15.png" ContentType="image/png"/>
  <Override PartName="/ppt/media/image1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A2E3-6F6A-42DE-AB4D-3100DB5801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4BED-A8DA-47B2-BFBA-00BBE0B6A3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1C2-9669-482E-B7F9-6A06BD09A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815-1722-4041-8308-638E7C914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0BD19-F91E-4E77-8059-8C177483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AECF7-F8F0-4AF2-A4F0-5BC6F311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CC9A7-7639-417D-9021-E179D024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01AA5-A0BD-4A84-89BD-D8343CB1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3123C-5428-48FC-B895-6ECA8778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BEE29-6BCB-4FD9-9EA6-D5168DB8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46862-BB54-4B1E-A60E-15A10D0F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8BF3D8-7891-464C-8D42-839BD1E6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23B7E-0E17-43F3-9EF8-AC60A3DD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9093E-C07C-47E7-A4DC-971E9B77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6063-84CF-4754-9159-A56C86B0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AD1AD-096E-425C-AFA3-791E8C05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0854B-9487-48FA-8C35-C144B90D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8BF6B-AF52-4751-AB65-EF63248C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F3EF2-637A-4E50-B07E-F7E65C80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54BDA-98B4-46FF-8E26-2EEE37E5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5036A-C1BA-40A9-8F9E-861B3D14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1C057-3305-4A4A-8A92-2396F6E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FE642-FA2D-4AC4-B5F2-008ED14D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56EF6-B11A-49A9-BB3F-382AE321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04407-3A09-4D8F-8848-3F45A032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036-9FFD-4212-BD56-669EFE3E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F2E64-E56E-4CC7-A255-5D2484C7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AF6F5-DA18-4F57-8F1D-0E40FB7D9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D2808-88B7-4544-8794-EE45334F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F25B1-B9E5-46E2-B0D4-74C943FE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E8A3C-FE81-47E5-B9AF-BDD227CD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DF8B4-29F9-4271-B41F-D772B2BF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9F524-B638-4690-9A6A-7D0F7B00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2D754-5803-4FE8-8A16-5005A04E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C7FBC-98B4-423B-961B-AD54FCDB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9F705-B33D-4CB0-99D4-714F4D39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CD30-DC08-4327-B31B-941DA101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1915F-4491-4959-8CA7-B9FEA04F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9CA0F-CA9E-4DC1-8658-2AD6D15D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E45A9-3CEC-4360-AF2A-0E95D908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D1F56-C992-40C1-91B1-6D40A1361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8614D-547B-4572-B9F1-50C90DA6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1B80D-0771-46CF-8BBC-19D59FF2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CBEDD-3DC8-4FB2-8F84-CE964607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4B7FC-6EAD-404F-9D77-746A2232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B56C4-36A6-4329-9919-0B521EFF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27876-C33B-4E01-B820-0E386BF6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FF73-2C6F-4E9F-9BDE-BD43DFD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83D66E-3F81-4136-9642-C47C637C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6AE67-EDE9-4924-B795-00F36E71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B1913-A276-4254-AC27-1AE9526C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D5C29-615C-4DF1-8B63-E7B40B1C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E34B3-4856-4A6C-A353-BB0D2DCD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5CFD-F952-423B-936D-114FA21F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A66E-6DE3-41D6-8D2D-0EEFA495A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74B7-45C0-4765-9A91-08E43542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33CE-00CB-4B8D-9E07-A0E3B9F7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EE70-230A-425A-AA26-4772A07A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B267-D28F-43B6-B975-EEE5C5F6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460A-6C83-4B09-B380-081475C8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97A1-1AA7-4770-95D3-15F94D86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834F-AF8A-4C4B-8B28-DADE46A1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63B9-E428-4AEA-9B85-3080681A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3304-6C9A-4AA6-BA72-1E812968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B25F-1F90-4AC5-8D23-70802CD0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EA55-FD07-44C5-828A-04DB3486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F7A7-18BA-4D4F-B700-6666EA6A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1A07-4BD0-4362-9F24-7BF82841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B84F-1D68-49B5-9623-1D7014B8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E1C-8C44-437D-BF6A-B21FB060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BFD01-CC47-4662-805D-626911A9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A46A2-693E-4598-BBB0-00499FDE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A7F12-8EE6-4AF3-A321-273D86B1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5DC5-88B2-4F67-9072-F0E2D44E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E973-113C-4D1D-B55A-BEAC6E8B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60784-8B09-4C6E-B33E-5AC2555D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21B75-BE42-4ADE-81B6-0FACE8943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2BC1E-5028-45BF-8C6C-F26F6347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D479-C1D4-437A-8B8C-FDABCA19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6533C-7186-4066-8F96-4940D43E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835-A5F0-4AFD-95AC-88A7399B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DE12E-9A30-49E2-8438-520E23BD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61D57-0972-4709-A0E8-9B00CD58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DAB1D-2B84-4617-938E-84F6B8E9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08F68-8ADD-4377-974C-5501ACA9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0BD61-FE40-4DA9-9FE5-ADC59093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EA1DD-9E53-47CE-9D48-9FF7F9FB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F7449-0787-40DC-AE93-87E06732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69886-9104-49F9-99D8-0D02111E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717B-8B08-4F3E-8CE4-EB30A559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FF785-5934-4811-90F8-15CC3B9FD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7E2-C768-4C09-B1B0-13E90581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CBA08-F161-4FBA-BD5F-CB454C7E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62901-CD2F-4510-AF0C-9D478592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DF57B-2B48-4A91-896C-709F30FE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AE2F7-525C-48C7-A891-E2FADF47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EB87-87D0-46EB-9F9D-094C4A20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EEA51-3073-4DE1-92A7-B07B069A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E12C5-8B0A-415E-BBA2-4DB5ACDC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BA0E1-4A35-434A-9BE7-63481D1E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1CE78-92CA-4E54-B9EA-1CCEF216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7C1B2-4149-4DF9-B9D1-33768F9C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D66-3623-4A21-9978-E740E361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56960-6E68-46AB-B05C-282E0E70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FD1BB-A618-42DD-A6A1-54954DB9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24FB1-5B9F-4949-B170-0EFB9335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444EE-A8A7-4492-A295-4CB48174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E231C-1F87-4C75-9DA8-ABD96AA7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D8CC2-81ED-4188-8B25-61446347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F5FF1-FAD3-4D40-8138-94F8BAA2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7F68D-A5FB-42F2-A95A-C7A7F6E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80FCB-C8D8-43A1-A644-68E4939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376CB-D9D6-478D-BC66-F2EE1269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792-D1AA-4741-8A6C-42FC3770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A47FD-C7AF-4DC9-ACA1-5ACE8A07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DA8AF-973C-420F-8B60-D341B8FC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12BE8-17DF-40BC-8BCE-7D3C5666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A465A-0B9E-4401-A8F8-C34EA4E0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55465-88B0-4109-87C5-BAC15F81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23A2B-69FA-4F1B-9E64-564FA715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FD354-0BD2-48B2-8224-276E3F42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5F6EA-EA3D-4474-82C5-84DC96ED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8D9F7-7D73-48AE-8664-7C41A861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389BB-0022-49A9-84B8-33284377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2EE5-0644-45A8-A8F3-DD8B1625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3FEA7-8D49-442C-832D-6D13CE4F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797CA-C55C-476D-95FA-5B8CAC7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81C94-E86C-4BEA-ABDB-BAFC2187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8FBC8-FBCF-471C-BAC4-3A816E93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A5449-BC22-4917-A1AC-56C9AA52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5EFA3-4978-4AA1-9E55-A1B4C596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1F75D-512F-47BD-A7BB-E1C85F75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A2307-8FAE-4E16-B88C-412D5834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43C9F-4FF0-4AC1-A905-AEE93254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5FCE5-BC18-490D-B457-190E2AFD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5BF6-7AF4-49E8-B26A-35067C48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3717A-2E28-4B29-886F-AC6799E6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41501-D826-4AFB-B274-96CB35F1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C0C99-2C07-4CC0-8FE4-CA035FC3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EE218-1E7F-4135-B947-9117542B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A9AB20-53FC-4582-A2D9-5EC0E3EB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9C960-C8C6-419F-9261-4F974059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E847D-FA25-4D79-9B0C-E1EC788A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5B201-D967-4EC4-B0EF-6B55CCFE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8D2D2-3AD5-49BF-BFC7-ABEEB9CD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011C0-00FC-46B5-AB9F-64E79EC4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9321-A65C-4AC3-A09A-8F777CD17CEC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B47E-D866-4D72-AF07-1C5CAAA8FE65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DA77-988D-4488-8679-1D4B7FC7CA59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24DC-F5FF-454E-8A8E-098FC99184B4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D842-8622-4D29-80D9-CD693C596EC7}" type="slidenum">
              <a:rPr b="1" lang="ru-RU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D3E9-73A3-4A6A-9CAC-4F7B2E211724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EAB8-270F-4897-A8A7-148AFB3617EF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DC9E-2DAB-4F19-B996-0E395BDDD3C1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7C3D-363F-4278-A1EC-FBA330EEBB36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03A7-77A9-4AB9-8D7C-355BBEBC17EE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BF94-18F7-464A-B157-B74898359B71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78f4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750C-660F-4CAC-B115-39827F073B02}" type="slidenum">
              <a:rPr b="0" lang="ru-RU" sz="1200" spc="-1" strike="noStrike">
                <a:solidFill>
                  <a:srgbClr val="078f4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9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7358040" cy="2071800"/>
          </a:xfrm>
          <a:prstGeom prst="rect">
            <a:avLst/>
          </a:prstGeom>
          <a:blipFill rotWithShape="0">
            <a:blip r:embed="rId1"/>
            <a:stretch/>
          </a:blipFill>
          <a:ln w="25560">
            <a:solidFill>
              <a:srgbClr val="7bd16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44c1b"/>
                </a:solidFill>
                <a:latin typeface="Trebuchet MS"/>
              </a:rPr>
              <a:t>БИОСФЕРА</a:t>
            </a:r>
            <a:endParaRPr b="0" lang="en-US" sz="96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214200" y="4572000"/>
            <a:ext cx="807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– </a:t>
            </a:r>
            <a:r>
              <a:rPr b="1" lang="ru-RU" sz="6000" spc="-1" strike="noStrike">
                <a:solidFill>
                  <a:srgbClr val="476213"/>
                </a:solidFill>
                <a:latin typeface="Arial"/>
              </a:rPr>
              <a:t>оболочка      жиз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5" descr="D:\КАРТИНКИ\Коллекция картинок2\AG00142_.GIF"/>
          <p:cNvPicPr/>
          <p:nvPr/>
        </p:nvPicPr>
        <p:blipFill>
          <a:blip r:embed="rId2"/>
          <a:stretch/>
        </p:blipFill>
        <p:spPr>
          <a:xfrm>
            <a:off x="7358040" y="642960"/>
            <a:ext cx="2048040" cy="25588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6" descr="D:\КАРТИНКИ\Коллекция картинок1\j0423433.wmf"/>
          <p:cNvPicPr/>
          <p:nvPr/>
        </p:nvPicPr>
        <p:blipFill>
          <a:blip r:embed="rId3"/>
          <a:stretch/>
        </p:blipFill>
        <p:spPr>
          <a:xfrm>
            <a:off x="3214800" y="428760"/>
            <a:ext cx="3286080" cy="2089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7" descr="D:\КАРТИНКИ\Коллекция картинок1\j0426420.wmf"/>
          <p:cNvPicPr/>
          <p:nvPr/>
        </p:nvPicPr>
        <p:blipFill>
          <a:blip r:embed="rId4"/>
          <a:stretch/>
        </p:blipFill>
        <p:spPr>
          <a:xfrm>
            <a:off x="214200" y="285840"/>
            <a:ext cx="2071800" cy="21430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D:\КАРТИНКИ\Коллекция картинок1\j0428143.wmf"/>
          <p:cNvPicPr/>
          <p:nvPr/>
        </p:nvPicPr>
        <p:blipFill>
          <a:blip r:embed="rId5"/>
          <a:stretch/>
        </p:blipFill>
        <p:spPr>
          <a:xfrm>
            <a:off x="8286840" y="4714920"/>
            <a:ext cx="733320" cy="181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9" descr="D:\КАРТИНКИ\Коллекция картинок3\j0436378.png"/>
          <p:cNvPicPr/>
          <p:nvPr/>
        </p:nvPicPr>
        <p:blipFill>
          <a:blip r:embed="rId6"/>
          <a:stretch/>
        </p:blipFill>
        <p:spPr>
          <a:xfrm>
            <a:off x="3000240" y="57862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2" descr="D:\КАРТИНКИ\Коллекция картинок3\j0318096.gif"/>
          <p:cNvPicPr/>
          <p:nvPr/>
        </p:nvPicPr>
        <p:blipFill>
          <a:blip r:embed="rId7"/>
          <a:stretch/>
        </p:blipFill>
        <p:spPr>
          <a:xfrm>
            <a:off x="4286160" y="3706920"/>
            <a:ext cx="1928880" cy="29304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4" descr="D:\КАРТИНКИ\Коллекция картинок1\j0185571.gif"/>
          <p:cNvPicPr/>
          <p:nvPr/>
        </p:nvPicPr>
        <p:blipFill>
          <a:blip r:embed="rId8"/>
          <a:stretch/>
        </p:blipFill>
        <p:spPr>
          <a:xfrm>
            <a:off x="816120" y="4998960"/>
            <a:ext cx="2041560" cy="1716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5" descr="D:\КАРТИНКИ\Коллекция картинок1\j0236376.gif"/>
          <p:cNvPicPr/>
          <p:nvPr/>
        </p:nvPicPr>
        <p:blipFill>
          <a:blip r:embed="rId9"/>
          <a:stretch/>
        </p:blipFill>
        <p:spPr>
          <a:xfrm>
            <a:off x="6215040" y="5572080"/>
            <a:ext cx="1785960" cy="9968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6" descr="D:\КАРТИНКИ\Коллекция картинок1\j0236359.gif"/>
          <p:cNvPicPr/>
          <p:nvPr/>
        </p:nvPicPr>
        <p:blipFill>
          <a:blip r:embed="rId10"/>
          <a:stretch/>
        </p:blipFill>
        <p:spPr>
          <a:xfrm>
            <a:off x="214200" y="3006720"/>
            <a:ext cx="1143000" cy="1969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D:\КАРТИНКИ\Коллекция картинок1\j0433319.jpg"/>
          <p:cNvPicPr/>
          <p:nvPr/>
        </p:nvPicPr>
        <p:blipFill>
          <a:blip r:embed="rId11"/>
          <a:stretch/>
        </p:blipFill>
        <p:spPr>
          <a:xfrm>
            <a:off x="2214720" y="3786120"/>
            <a:ext cx="1500120" cy="99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82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rebuchet MS"/>
              </a:rPr>
              <a:t>Заполни таблицу:</a:t>
            </a:r>
            <a:endParaRPr b="0" lang="en-US" sz="5400" spc="-1" strike="noStrike">
              <a:solidFill>
                <a:srgbClr val="078f48"/>
              </a:solidFill>
              <a:latin typeface="Trebuchet MS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285840" y="1143000"/>
          <a:ext cx="8643960" cy="5500800"/>
        </p:xfrm>
        <a:graphic>
          <a:graphicData uri="http://schemas.openxmlformats.org/drawingml/2006/table">
            <a:tbl>
              <a:tblPr/>
              <a:tblGrid>
                <a:gridCol w="2158920"/>
                <a:gridCol w="2419200"/>
                <a:gridCol w="2119320"/>
                <a:gridCol w="1946520"/>
              </a:tblGrid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Царства прир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Главные особ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Количество ви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Calibri"/>
                          <a:ea typeface="Times New Roman"/>
                        </a:rPr>
                        <a:t>Значение 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10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Бакте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Раст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Жив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1108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d0d0d"/>
                          </a:solidFill>
                          <a:latin typeface="Calibri"/>
                          <a:ea typeface="Times New Roman"/>
                        </a:rPr>
                        <a:t>Гриб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929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     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ДЗ: </a:t>
            </a:r>
            <a:r>
              <a:rPr b="1" lang="ru-RU" sz="4400" spc="-1" strike="noStrike">
                <a:solidFill>
                  <a:srgbClr val="056b36"/>
                </a:solidFill>
                <a:latin typeface="Lucida Sans Unicode"/>
                <a:ea typeface="Lucida Sans Unicode"/>
              </a:rPr>
              <a:t>§29-30,</a:t>
            </a:r>
            <a:r>
              <a:rPr b="1" lang="ru-RU" sz="4400" spc="-1" strike="noStrike">
                <a:solidFill>
                  <a:srgbClr val="056b36"/>
                </a:solidFill>
                <a:latin typeface="Trebuchet MS"/>
              </a:rPr>
              <a:t> решить тест</a:t>
            </a:r>
            <a:endParaRPr b="0" lang="en-US" sz="44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28400" y="999720"/>
            <a:ext cx="87152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пособностью создавать органическое вещество из    неорганического обладают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микроорганизмы ;                   в)  грибы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животные ;                                г)  растения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ибольшее видовое разнообразие наблюдается в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арстве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животных ;                              в)  грибов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бактерий ;                               г)  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рибы занимают промежуточное положение между :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бактер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растениями и животны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 растениями и бактериями ;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)   нет правильного ответа. 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78f48"/>
                </a:solidFill>
                <a:latin typeface="Trebuchet MS"/>
              </a:rPr>
              <a:t>Царства живой природы</a:t>
            </a:r>
            <a:endParaRPr b="0" lang="en-US" sz="4800" spc="-1" strike="noStrike">
              <a:solidFill>
                <a:srgbClr val="078f48"/>
              </a:solidFill>
              <a:latin typeface="Trebuchet MS"/>
            </a:endParaRPr>
          </a:p>
        </p:txBody>
      </p:sp>
      <p:pic>
        <p:nvPicPr>
          <p:cNvPr id="514" name="Схема 2" descr=""/>
          <p:cNvPicPr/>
          <p:nvPr/>
        </p:nvPicPr>
        <p:blipFill>
          <a:blip r:embed="rId1"/>
          <a:stretch/>
        </p:blipFill>
        <p:spPr>
          <a:xfrm>
            <a:off x="847800" y="1311120"/>
            <a:ext cx="7954920" cy="519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43040" y="213840"/>
            <a:ext cx="6572160" cy="11430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Бактерии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400032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Бактерии – первые организмы, появившиеся на Земле (1 млрд. лет назад). Обитают повсеместно. Тело бактерий состоит из одной клетки. Способствуют разложению животных и превращению органических остатков в питательные вещества для растений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17" name="Picture 2" descr="C:\Documents and Settings\Admin\Рабочий стол\b5g0445i.bmp"/>
          <p:cNvPicPr/>
          <p:nvPr/>
        </p:nvPicPr>
        <p:blipFill>
          <a:blip r:embed="rId2"/>
          <a:stretch/>
        </p:blipFill>
        <p:spPr>
          <a:xfrm>
            <a:off x="4714920" y="1571760"/>
            <a:ext cx="4114800" cy="30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8" name="Picture 3" descr="C:\Documents and Settings\Admin\Рабочий стол\b5g0447i.bmp"/>
          <p:cNvPicPr/>
          <p:nvPr/>
        </p:nvPicPr>
        <p:blipFill>
          <a:blip r:embed="rId3"/>
          <a:stretch/>
        </p:blipFill>
        <p:spPr>
          <a:xfrm>
            <a:off x="678672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4" descr="C:\Documents and Settings\Admin\Рабочий стол\b5g0446i.bmp"/>
          <p:cNvPicPr/>
          <p:nvPr/>
        </p:nvPicPr>
        <p:blipFill>
          <a:blip r:embed="rId4"/>
          <a:stretch/>
        </p:blipFill>
        <p:spPr>
          <a:xfrm>
            <a:off x="4357800" y="4786200"/>
            <a:ext cx="2066760" cy="19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14680" y="214200"/>
            <a:ext cx="6008400" cy="9288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Растения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14200" y="1285920"/>
            <a:ext cx="8715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Растения составляют флору нашей планеты. Их около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500 тыс. видов. Растения приспособились к разным климатическим условиям. 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2" name="Picture 7" descr="C:\Users\Dichok\Desktop\F_splendens.jpg"/>
          <p:cNvPicPr/>
          <p:nvPr/>
        </p:nvPicPr>
        <p:blipFill>
          <a:blip r:embed="rId2"/>
          <a:stretch/>
        </p:blipFill>
        <p:spPr>
          <a:xfrm>
            <a:off x="6143760" y="2643120"/>
            <a:ext cx="2714400" cy="371484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 txBox="1"/>
          <p:nvPr/>
        </p:nvSpPr>
        <p:spPr>
          <a:xfrm>
            <a:off x="6500520" y="2785680"/>
            <a:ext cx="242892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8f4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24" name="Picture 8" descr="C:\Users\Dichok\Desktop\s8.jpg"/>
          <p:cNvPicPr/>
          <p:nvPr/>
        </p:nvPicPr>
        <p:blipFill>
          <a:blip r:embed="rId3"/>
          <a:stretch/>
        </p:blipFill>
        <p:spPr>
          <a:xfrm>
            <a:off x="3143160" y="2643120"/>
            <a:ext cx="2857680" cy="3729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C:\Users\Dichok\Desktop\0002-009-Tipy-lesov-Rossii.jpg"/>
          <p:cNvPicPr/>
          <p:nvPr/>
        </p:nvPicPr>
        <p:blipFill>
          <a:blip r:embed="rId4"/>
          <a:stretch/>
        </p:blipFill>
        <p:spPr>
          <a:xfrm>
            <a:off x="214200" y="2643120"/>
            <a:ext cx="2714760" cy="3714840"/>
          </a:xfrm>
          <a:prstGeom prst="rect">
            <a:avLst/>
          </a:prstGeom>
          <a:ln w="0">
            <a:noFill/>
          </a:ln>
        </p:spPr>
      </p:pic>
      <p:sp>
        <p:nvSpPr>
          <p:cNvPr id="526" name="TextBox 10"/>
          <p:cNvSpPr/>
          <p:nvPr/>
        </p:nvSpPr>
        <p:spPr>
          <a:xfrm>
            <a:off x="357120" y="635796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 л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1"/>
          <p:cNvSpPr/>
          <p:nvPr/>
        </p:nvSpPr>
        <p:spPr>
          <a:xfrm>
            <a:off x="3429000" y="63579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степей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3"/>
          <p:cNvSpPr/>
          <p:nvPr/>
        </p:nvSpPr>
        <p:spPr>
          <a:xfrm>
            <a:off x="6286680" y="635796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ения пусты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11" descr="Биологический круговорот на суше"/>
          <p:cNvPicPr/>
          <p:nvPr/>
        </p:nvPicPr>
        <p:blipFill>
          <a:blip r:embed="rId1"/>
          <a:stretch/>
        </p:blipFill>
        <p:spPr>
          <a:xfrm>
            <a:off x="928800" y="214200"/>
            <a:ext cx="8037360" cy="642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43040" y="-360"/>
            <a:ext cx="622296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Животные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9298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Животные составляют фауну нашей планеты. Их около 2,5 млн. видов. Питаются готовыми органическими веществами. В отличие от растений способны к активному передвижению. Роль в биосфере невелика: опыление растений, превращение растительных белков в животные в процессе питания, защита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2" name="Picture 4" descr="C:\Users\Dichok\Desktop\stiv-blum-2.jpg"/>
          <p:cNvPicPr/>
          <p:nvPr/>
        </p:nvPicPr>
        <p:blipFill>
          <a:blip r:embed="rId2"/>
          <a:stretch/>
        </p:blipFill>
        <p:spPr>
          <a:xfrm>
            <a:off x="142920" y="3857760"/>
            <a:ext cx="2714760" cy="28573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C:\Users\Dichok\Desktop\1251815791_anim161.jpg"/>
          <p:cNvPicPr/>
          <p:nvPr/>
        </p:nvPicPr>
        <p:blipFill>
          <a:blip r:embed="rId3"/>
          <a:stretch/>
        </p:blipFill>
        <p:spPr>
          <a:xfrm>
            <a:off x="2928960" y="385776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6" descr="C:\Users\Dichok\Desktop\0_14f6b_31fbb99f_L.jpeg"/>
          <p:cNvPicPr/>
          <p:nvPr/>
        </p:nvPicPr>
        <p:blipFill>
          <a:blip r:embed="rId4"/>
          <a:stretch/>
        </p:blipFill>
        <p:spPr>
          <a:xfrm>
            <a:off x="5929200" y="3857760"/>
            <a:ext cx="3071880" cy="2857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99800" y="-360"/>
            <a:ext cx="5357880" cy="1071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78f48"/>
                </a:solidFill>
                <a:latin typeface="Trebuchet MS"/>
              </a:rPr>
              <a:t>Грибы</a:t>
            </a:r>
            <a:endParaRPr b="0" lang="en-US" sz="72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13840" y="999720"/>
            <a:ext cx="86439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Грибы – особая группа живых организмов, занимающая промежуточное положение между растениями, и животными. Насчитывается более 100 тыс. видов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Ведут неподвижный образ жизни. Питаются готовыми органическими веществами, которые получают в процессе разложения остатков животных и растений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37" name="Picture 7" descr="C:\Users\Dichok\Desktop\79916948_3453311_2.jpg"/>
          <p:cNvPicPr/>
          <p:nvPr/>
        </p:nvPicPr>
        <p:blipFill>
          <a:blip r:embed="rId2"/>
          <a:stretch/>
        </p:blipFill>
        <p:spPr>
          <a:xfrm>
            <a:off x="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9" descr="C:\Users\Dichok\Desktop\012.jpg"/>
          <p:cNvPicPr/>
          <p:nvPr/>
        </p:nvPicPr>
        <p:blipFill>
          <a:blip r:embed="rId3"/>
          <a:stretch/>
        </p:blipFill>
        <p:spPr>
          <a:xfrm>
            <a:off x="3000240" y="3500280"/>
            <a:ext cx="2857680" cy="33577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0" descr="C:\Users\Dichok\Desktop\948673df5fa59e56f1eead1aca0732a0.jpg"/>
          <p:cNvPicPr/>
          <p:nvPr/>
        </p:nvPicPr>
        <p:blipFill>
          <a:blip r:embed="rId4"/>
          <a:stretch/>
        </p:blipFill>
        <p:spPr>
          <a:xfrm>
            <a:off x="6000840" y="3500280"/>
            <a:ext cx="314316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14" descr="Живые организмы и ГО"/>
          <p:cNvPicPr/>
          <p:nvPr/>
        </p:nvPicPr>
        <p:blipFill>
          <a:blip r:embed="rId1"/>
          <a:stretch/>
        </p:blipFill>
        <p:spPr>
          <a:xfrm>
            <a:off x="285840" y="714240"/>
            <a:ext cx="8715240" cy="6000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41" name="TextBox 2"/>
          <p:cNvSpPr/>
          <p:nvPr/>
        </p:nvSpPr>
        <p:spPr>
          <a:xfrm>
            <a:off x="928800" y="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57723"/>
                </a:solidFill>
                <a:latin typeface="Arial"/>
              </a:rPr>
              <a:t>Взаимосвязь живых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6213"/>
                </a:solidFill>
                <a:latin typeface="Trebuchet MS"/>
              </a:rPr>
              <a:t>         </a:t>
            </a:r>
            <a:r>
              <a:rPr b="1" lang="ru-RU" sz="4000" spc="-1" strike="noStrike">
                <a:solidFill>
                  <a:srgbClr val="476213"/>
                </a:solidFill>
                <a:latin typeface="Trebuchet MS"/>
              </a:rPr>
              <a:t>Повторим главное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785520" y="571680"/>
            <a:ext cx="79009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Совокупность всех живых организмов составляет особую живую оболочку планеты – биосферу.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</a:rPr>
              <a:t>Особенно важную роль играют растения. Только они способны, используя солнечную энергию, превращать неорганические вещества в органические. Органические вещества являются основой жизни всех остальных обитателей планеты. </a:t>
            </a: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d0d0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8f48"/>
              </a:solidFill>
              <a:latin typeface="Arial"/>
            </a:endParaRPr>
          </a:p>
        </p:txBody>
      </p:sp>
      <p:pic>
        <p:nvPicPr>
          <p:cNvPr id="544" name="Picture 2" descr="C:\Users\Dichok\Desktop\0_423_a2751233_XL.jpg"/>
          <p:cNvPicPr/>
          <p:nvPr/>
        </p:nvPicPr>
        <p:blipFill>
          <a:blip r:embed="rId1"/>
          <a:stretch/>
        </p:blipFill>
        <p:spPr>
          <a:xfrm>
            <a:off x="2643120" y="371484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C:\Users\Dichok\Desktop\0_1f943_895677c0_L.jpg"/>
          <p:cNvPicPr/>
          <p:nvPr/>
        </p:nvPicPr>
        <p:blipFill>
          <a:blip r:embed="rId2"/>
          <a:stretch/>
        </p:blipFill>
        <p:spPr>
          <a:xfrm>
            <a:off x="214200" y="3714840"/>
            <a:ext cx="2357640" cy="3000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C:\Users\Dichok\Desktop\cranberry.jpg"/>
          <p:cNvPicPr/>
          <p:nvPr/>
        </p:nvPicPr>
        <p:blipFill>
          <a:blip r:embed="rId3"/>
          <a:stretch/>
        </p:blipFill>
        <p:spPr>
          <a:xfrm>
            <a:off x="6000840" y="3714840"/>
            <a:ext cx="2928960" cy="3000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12:02:14Z</dcterms:created>
  <dc:creator>starostina</dc:creator>
  <dc:description/>
  <cp:keywords/>
  <dc:language>en-US</dc:language>
  <cp:lastModifiedBy>Admin</cp:lastModifiedBy>
  <dcterms:modified xsi:type="dcterms:W3CDTF">2020-04-14T22:47:35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49</vt:lpwstr>
  </property>
</Properties>
</file>