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0.png" ContentType="image/png"/>
  <Override PartName="/ppt/media/image13.png" ContentType="image/png"/>
  <Override PartName="/ppt/media/image4.png" ContentType="image/png"/>
  <Override PartName="/ppt/media/image12.jpeg" ContentType="image/jpeg"/>
  <Override PartName="/ppt/media/image46.jpeg" ContentType="image/jpeg"/>
  <Override PartName="/ppt/media/image51.jpeg" ContentType="image/jpeg"/>
  <Override PartName="/ppt/media/image31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757-8F12-4F6B-A3C6-41281275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708-679D-4020-9A63-9A7C330D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63E-E330-48C1-A5C4-2F7AB31F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697-C862-4097-91EA-68C74DEE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AF14-42DA-47FD-9049-8FCDD8E9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E7C3-77F1-4F7B-BC7E-FBB38534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C95E-AEDD-4321-86A1-E0598FFE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B0A5-95EF-4065-B7AD-77A8601E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0129-4CA3-4765-82FB-425F0BE9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EB54-DEF1-4396-A23E-2DCF1CC9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88F0-9B06-46E0-AC59-C1993E2A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5E1-E160-4D96-A8D2-01A284D9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1337-63F9-4124-AA40-1F16DEAF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2289-FABF-4AB5-9741-921C8C9D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CAD7-ADD0-4F58-B1D5-5575782F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2D04-5564-433B-B1EF-64AFE263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A1FE-DCFF-46E1-825A-6E791528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EA37B-E8F5-4DA2-BD4C-484C84B2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B092-3DBF-4331-9964-FA5E0BB1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014F-D938-4630-AE9F-A8A7179F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2A15-587D-4CB4-8C53-62233A69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697E-BBDC-4CB2-9D27-D8B2FB1F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1B2-01A4-437A-8979-AD7F3BBC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3B74-83B4-4FE1-964B-8B69B75B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981A-897D-43F5-8EE4-7DE72968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4BDDE-2281-4029-BC0F-032585B4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57509-73C9-4434-9085-A87B921D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B9AD9-BEF4-4609-97AD-B78F6DDC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0EC5-3812-4933-A884-55B6F30F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9ADC5-0466-430A-827F-02347C39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F81E9-B8AA-4694-9A02-3BC0DB6E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C1889-A882-4814-AA8C-B0D09446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E4843-6858-4F39-87F2-D789601D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95F-B6DD-43B0-BD8C-5C6619FD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CF56-4645-4A89-8614-997EA0FB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D7D16-0357-4352-8093-E2C1866C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C5A0-680E-4072-885A-8C417D10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500B5-FBBC-4C24-9E82-5B102D5C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7265-9BBC-4163-AAB6-6D048AE4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39223-B1DC-4DF1-BBA6-C65A8C7D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BB533-DD26-4E3C-A13D-0B5C55AE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14B4A-5EF0-4139-A414-256179F8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A72B9-1F3E-4C76-9385-DBD863BA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10566-83B8-4039-89E3-AAAD3444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8E1-96E4-47B4-B49D-096DB2C2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A3DCE-0E71-43D3-BB71-C5C36B88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AF621-43BA-4206-B4C7-64BFA0D4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EFBD3-8589-4470-ADCC-498D9BE1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BD780-48F3-4BC2-9F6D-4580E15A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25232-CA8D-48DB-A421-27C023F6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23D93-A6EF-43FE-99EC-B88B2939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CEA27-F712-4B9B-93E5-9132FE6B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FD598-F36C-4C1C-905B-A8F79710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03300-DFFB-4BE4-B543-8200B2C0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50D17-0CE9-40F5-9BBA-85FAD67F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DA1-C9C0-44E7-A9A8-B5F87071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31B58-4D39-4868-981E-A2453C07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5496E-8C77-4E00-90F7-517A5B9F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A6AB5-C12F-4C0E-809A-1A00EF42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7DF9C-24BD-425B-9CAD-E6A60656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DB10E-EF29-439C-94AE-C8D90269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E0E2E-3ED1-401E-AF3B-E4EC0F7D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3E2AD-D4A1-475A-B987-D14C9553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C4A98-20DD-426E-86A1-1D201E1A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EDB54-8796-47FE-9AEB-FBCBB598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6C1F1-8C4D-46A6-A5A5-F646441A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51E-A740-47A5-AA0D-332AE177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08105-172E-4D54-8C5A-2542094E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61CF3-A6F0-4E1F-8DCB-0D3F1B9D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61AB7-8480-4F81-803F-00593B71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D0BAA-9362-430E-B0F6-CA4AA849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7DF65-BDF2-4983-802F-39A52BE1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E97D4-E25C-495A-A364-993D35A6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84E1F-7C37-41F4-917A-3C223546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2B7B8-ABE2-4454-BA52-6DFF209C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26F4E-C546-45B6-A840-7FE486F9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6509C-755B-4988-8DCD-BAD486BD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1B4-774D-4081-BE94-7BAFFC69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1C3E0-C7B8-47E4-B147-897CE2F8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DE8F4-1357-44AE-B353-204FF81C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2C9A9-8ADA-4312-B1D5-39D2FD8C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EC342-5D1B-4034-B981-B12753E6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0892-24C5-4C26-A6E2-C4828437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7B4-71C9-4980-A9F3-0F6D239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5664-DA90-4C5F-80C8-3C6E2FA08B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1CA7-59E2-4563-A4A9-3B78811F420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3635-9BE6-4C3F-9A98-1607458576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ECEB-171D-4277-854B-2EE4AB4189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A2A6-B272-4F3D-B6D1-D8AE257BDA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B1E3-C4F2-4FAC-81E4-2EF0396645A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3DE1-58D4-4C08-8399-550D69CE4DE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 MT"/>
              </a:rPr>
              <a:t>1</a:t>
            </a: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.ИСТОРИЯ ОТКРЫТИЯ АВСТРАЛИИ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2. РЕЛЬЕФ  И ПОЛЕЗНЫЕ ИСКОПАЕМЫЕ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3. КЛИМАТ И ВНУТРЕННИЕ ВОДЫ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Picture 2" descr="K:\австра\austok_m.gif"/>
          <p:cNvPicPr/>
          <p:nvPr/>
        </p:nvPicPr>
        <p:blipFill>
          <a:blip r:embed="rId1"/>
          <a:srcRect l="0" t="11119" r="0" b="0"/>
          <a:stretch/>
        </p:blipFill>
        <p:spPr>
          <a:xfrm>
            <a:off x="4876920" y="0"/>
            <a:ext cx="3262320" cy="2340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5"/>
          <p:cNvSpPr/>
          <p:nvPr/>
        </p:nvSpPr>
        <p:spPr>
          <a:xfrm>
            <a:off x="1143000" y="685800"/>
            <a:ext cx="2743200" cy="5335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C:\Documents and Settings\User\Рабочий стол\африка\фосфориты.jpg"/>
          <p:cNvPicPr/>
          <p:nvPr/>
        </p:nvPicPr>
        <p:blipFill>
          <a:blip r:embed="rId2"/>
          <a:stretch/>
        </p:blipFill>
        <p:spPr>
          <a:xfrm>
            <a:off x="5410080" y="1981080"/>
            <a:ext cx="2133720" cy="1492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User\Рабочий стол\африка\1251280914.jpg"/>
          <p:cNvPicPr/>
          <p:nvPr/>
        </p:nvPicPr>
        <p:blipFill>
          <a:blip r:embed="rId3"/>
          <a:stretch/>
        </p:blipFill>
        <p:spPr>
          <a:xfrm>
            <a:off x="7410600" y="3429000"/>
            <a:ext cx="1733400" cy="142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C:\Documents and Settings\User\Рабочий стол\африка\9-4-2008-13-31-12-705.jpg"/>
          <p:cNvPicPr/>
          <p:nvPr/>
        </p:nvPicPr>
        <p:blipFill>
          <a:blip r:embed="rId4"/>
          <a:stretch/>
        </p:blipFill>
        <p:spPr>
          <a:xfrm>
            <a:off x="7391520" y="3049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:\7 кл гео. АВСТРАЛИЯ\австра\australia_big4.jpg"/>
          <p:cNvPicPr/>
          <p:nvPr/>
        </p:nvPicPr>
        <p:blipFill>
          <a:blip r:embed="rId5"/>
          <a:stretch/>
        </p:blipFill>
        <p:spPr>
          <a:xfrm>
            <a:off x="5105520" y="3809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J:\7 кл гео. АВСТРАЛИЯ\австра\351835_water world_interesting_photo_2.jpg"/>
          <p:cNvPicPr/>
          <p:nvPr/>
        </p:nvPicPr>
        <p:blipFill>
          <a:blip r:embed="rId6"/>
          <a:stretch/>
        </p:blipFill>
        <p:spPr>
          <a:xfrm>
            <a:off x="2743200" y="4114800"/>
            <a:ext cx="1873080" cy="1405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J:\7 кл гео. АВСТРАЛИЯ\австра\0_5717_7aede19d_XL.jpg"/>
          <p:cNvPicPr/>
          <p:nvPr/>
        </p:nvPicPr>
        <p:blipFill>
          <a:blip r:embed="rId7"/>
          <a:stretch/>
        </p:blipFill>
        <p:spPr>
          <a:xfrm>
            <a:off x="0" y="4114800"/>
            <a:ext cx="2146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В основе Австралии лежит древняя устойчивая платформа, занятая осадочными породами.               Лишь на востоке есть небольшие участки древней (420млн.л) складчатости. Территория не сейсмична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Picture 4" descr="aus"/>
          <p:cNvPicPr/>
          <p:nvPr/>
        </p:nvPicPr>
        <p:blipFill>
          <a:blip r:embed="rId1"/>
          <a:stretch/>
        </p:blipFill>
        <p:spPr>
          <a:xfrm>
            <a:off x="1752480" y="1733400"/>
            <a:ext cx="5639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Содержимое 2"/>
          <p:cNvSpPr/>
          <p:nvPr/>
        </p:nvSpPr>
        <p:spPr>
          <a:xfrm>
            <a:off x="142920" y="1600200"/>
            <a:ext cx="8786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3"/>
          <p:cNvSpPr/>
          <p:nvPr/>
        </p:nvSpPr>
        <p:spPr>
          <a:xfrm>
            <a:off x="1143000" y="3571920"/>
            <a:ext cx="2786040" cy="1071360"/>
          </a:xfrm>
          <a:prstGeom prst="ellipse">
            <a:avLst/>
          </a:prstGeom>
          <a:solidFill>
            <a:srgbClr val="2a6d7d">
              <a:alpha val="6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Запад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атер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Австралийская платформа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4"/>
          <p:cNvSpPr/>
          <p:nvPr/>
        </p:nvSpPr>
        <p:spPr>
          <a:xfrm>
            <a:off x="4429080" y="3500280"/>
            <a:ext cx="3071880" cy="1071720"/>
          </a:xfrm>
          <a:prstGeom prst="ellipse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Восточ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атер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складчато- глыбовые го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5"/>
          <p:cNvSpPr/>
          <p:nvPr/>
        </p:nvSpPr>
        <p:spPr>
          <a:xfrm>
            <a:off x="179280" y="5300640"/>
            <a:ext cx="2001960" cy="1000080"/>
          </a:xfrm>
          <a:prstGeom prst="roundRect">
            <a:avLst>
              <a:gd name="adj" fmla="val 16667"/>
            </a:avLst>
          </a:prstGeom>
          <a:solidFill>
            <a:srgbClr val="e17b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падно- Австралийс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лоскогор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6"/>
          <p:cNvSpPr/>
          <p:nvPr/>
        </p:nvSpPr>
        <p:spPr>
          <a:xfrm>
            <a:off x="2857680" y="5357880"/>
            <a:ext cx="1928520" cy="100008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нтральн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7"/>
          <p:cNvSpPr/>
          <p:nvPr/>
        </p:nvSpPr>
        <p:spPr>
          <a:xfrm>
            <a:off x="6000840" y="5214960"/>
            <a:ext cx="2357280" cy="1071720"/>
          </a:xfrm>
          <a:prstGeom prst="roundRect">
            <a:avLst>
              <a:gd name="adj" fmla="val 16667"/>
            </a:avLst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ой Водораздельный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8"/>
          <p:cNvSpPr/>
          <p:nvPr/>
        </p:nvSpPr>
        <p:spPr>
          <a:xfrm>
            <a:off x="2357280" y="2928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трелка вниз 9"/>
          <p:cNvSpPr/>
          <p:nvPr/>
        </p:nvSpPr>
        <p:spPr>
          <a:xfrm>
            <a:off x="5786280" y="2928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трелка вниз 10"/>
          <p:cNvSpPr/>
          <p:nvPr/>
        </p:nvSpPr>
        <p:spPr>
          <a:xfrm>
            <a:off x="1357200" y="4643280"/>
            <a:ext cx="214560" cy="6429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трелка вниз 11"/>
          <p:cNvSpPr/>
          <p:nvPr/>
        </p:nvSpPr>
        <p:spPr>
          <a:xfrm>
            <a:off x="3214800" y="464328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трелка вниз 12"/>
          <p:cNvSpPr/>
          <p:nvPr/>
        </p:nvSpPr>
        <p:spPr>
          <a:xfrm>
            <a:off x="6572160" y="4643280"/>
            <a:ext cx="214560" cy="5004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Двойная стрелка влево/вправо 13"/>
          <p:cNvSpPr/>
          <p:nvPr/>
        </p:nvSpPr>
        <p:spPr>
          <a:xfrm>
            <a:off x="1714680" y="6500880"/>
            <a:ext cx="1714320" cy="214200"/>
          </a:xfrm>
          <a:prstGeom prst="leftRightArrow">
            <a:avLst>
              <a:gd name="adj1" fmla="val 50000"/>
              <a:gd name="adj2" fmla="val 5002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трелка влево 14"/>
          <p:cNvSpPr/>
          <p:nvPr/>
        </p:nvSpPr>
        <p:spPr>
          <a:xfrm>
            <a:off x="5214960" y="6429240"/>
            <a:ext cx="1571760" cy="214560"/>
          </a:xfrm>
          <a:prstGeom prst="leftArrow">
            <a:avLst>
              <a:gd name="adj1" fmla="val 50000"/>
              <a:gd name="adj2" fmla="val 4995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1981080" y="762120"/>
            <a:ext cx="4732560" cy="2225520"/>
          </a:xfrm>
          <a:prstGeom prst="rect">
            <a:avLst/>
          </a:prstGeom>
          <a:solidFill>
            <a:srgbClr val="7ec3d4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льеф          Австр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низ 16"/>
          <p:cNvSpPr/>
          <p:nvPr/>
        </p:nvSpPr>
        <p:spPr>
          <a:xfrm>
            <a:off x="4929120" y="5572080"/>
            <a:ext cx="71640" cy="57168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Двойная стрелка вверх/вниз 17"/>
          <p:cNvSpPr/>
          <p:nvPr/>
        </p:nvSpPr>
        <p:spPr>
          <a:xfrm>
            <a:off x="2357280" y="5572080"/>
            <a:ext cx="71640" cy="571680"/>
          </a:xfrm>
          <a:prstGeom prst="upDownArrow">
            <a:avLst>
              <a:gd name="adj1" fmla="val 50000"/>
              <a:gd name="adj2" fmla="val 4987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2" descr="K:\австра\GA40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0" y="0"/>
            <a:ext cx="20574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а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ня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вн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0- 600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7010280" y="0"/>
            <a:ext cx="213372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ост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ну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уш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зд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9"/>
          <p:cNvSpPr/>
          <p:nvPr/>
        </p:nvSpPr>
        <p:spPr>
          <a:xfrm flipH="1" flipV="1">
            <a:off x="6552720" y="5333760"/>
            <a:ext cx="762120" cy="6094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амая высокая 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точка материка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г. КОСЦЮШКО 2228 м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7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1066680" y="1600200"/>
            <a:ext cx="718056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3809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Гора Улуру (Айерс-Рок) — возможно, самый известный символ Австралии. 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Это впечатляющий массив овальной формы из песчаника оранжевого цвета.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9" name="Picture 2" descr="C:\Documents and Settings\Admin\Рабочий стол\lgpp31173+uluru-ayres-rock-australian-outback-poster.jpg"/>
          <p:cNvPicPr/>
          <p:nvPr/>
        </p:nvPicPr>
        <p:blipFill>
          <a:blip r:embed="rId1"/>
          <a:stretch/>
        </p:blipFill>
        <p:spPr>
          <a:xfrm>
            <a:off x="0" y="3230640"/>
            <a:ext cx="5410080" cy="3627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C:\Documents and Settings\Admin\Рабочий стол\ayers_rock.jpg"/>
          <p:cNvPicPr/>
          <p:nvPr/>
        </p:nvPicPr>
        <p:blipFill>
          <a:blip r:embed="rId2"/>
          <a:stretch/>
        </p:blipFill>
        <p:spPr>
          <a:xfrm>
            <a:off x="4130640" y="0"/>
            <a:ext cx="5013360" cy="35812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5486400" y="365760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е высота достигает 348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длина составляет 3,6 км, а ширина — около 3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лоны Айерс-Рок почти от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360" y="380520"/>
            <a:ext cx="4876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встралия богата полезными ископаемыми, которые поставляет во многие страны мира: нефть, газ, железные руды, цветные металлы, марганец, никель,  олово, медь, вольфрам, алюминиевые руды, золото, урановые руды, титановые руды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Picture 5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4952880" y="380880"/>
            <a:ext cx="3784680" cy="3886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C:\Documents and Settings\Admin\Рабочий стол\Kalgoorlie_The_Big_Pit_DSC04498.jpg"/>
          <p:cNvPicPr/>
          <p:nvPr/>
        </p:nvPicPr>
        <p:blipFill>
          <a:blip r:embed="rId2"/>
          <a:stretch/>
        </p:blipFill>
        <p:spPr>
          <a:xfrm>
            <a:off x="5562720" y="4419720"/>
            <a:ext cx="2830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Большая часть Австралии находится               в тропическом поясе, север занят субэкваториальным, юг – субтропическим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Picture 2" descr="C:\Documents and Settings\Admin\Рабочий стол\6.gif"/>
          <p:cNvPicPr/>
          <p:nvPr/>
        </p:nvPicPr>
        <p:blipFill>
          <a:blip r:embed="rId1"/>
          <a:stretch/>
        </p:blipFill>
        <p:spPr>
          <a:xfrm>
            <a:off x="3699000" y="2519280"/>
            <a:ext cx="2971800" cy="2657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Documents and Settings\Admin\Рабочий стол\2.jpg"/>
          <p:cNvPicPr/>
          <p:nvPr/>
        </p:nvPicPr>
        <p:blipFill>
          <a:blip r:embed="rId2"/>
          <a:stretch/>
        </p:blipFill>
        <p:spPr>
          <a:xfrm>
            <a:off x="0" y="16765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3.jpg"/>
          <p:cNvPicPr/>
          <p:nvPr/>
        </p:nvPicPr>
        <p:blipFill>
          <a:blip r:embed="rId3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C:\Documents and Settings\Admin\Рабочий стол\5.jpg"/>
          <p:cNvPicPr/>
          <p:nvPr/>
        </p:nvPicPr>
        <p:blipFill>
          <a:blip r:embed="rId4"/>
          <a:stretch/>
        </p:blipFill>
        <p:spPr>
          <a:xfrm>
            <a:off x="6703920" y="1752480"/>
            <a:ext cx="2440080" cy="1828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C:\Documents and Settings\Admin\Рабочий стол\7.jpg"/>
          <p:cNvPicPr/>
          <p:nvPr/>
        </p:nvPicPr>
        <p:blipFill>
          <a:blip r:embed="rId5"/>
          <a:stretch/>
        </p:blipFill>
        <p:spPr>
          <a:xfrm>
            <a:off x="7416720" y="4267080"/>
            <a:ext cx="1727280" cy="25909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7"/>
          <p:cNvSpPr/>
          <p:nvPr/>
        </p:nvSpPr>
        <p:spPr>
          <a:xfrm>
            <a:off x="2895480" y="5638680"/>
            <a:ext cx="2438640" cy="947160"/>
          </a:xfrm>
          <a:prstGeom prst="rect">
            <a:avLst/>
          </a:prstGeom>
          <a:solidFill>
            <a:srgbClr val="f5f2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ЛИМАТ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733320" y="95400"/>
            <a:ext cx="7786800" cy="6762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Admin\Рабочий стол\8.jpg"/>
          <p:cNvPicPr/>
          <p:nvPr/>
        </p:nvPicPr>
        <p:blipFill>
          <a:blip r:embed="rId2"/>
          <a:stretch/>
        </p:blipFill>
        <p:spPr>
          <a:xfrm>
            <a:off x="6724800" y="0"/>
            <a:ext cx="2419200" cy="1600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C:\Documents and Settings\Admin\Рабочий стол\9.jpg"/>
          <p:cNvPicPr/>
          <p:nvPr/>
        </p:nvPicPr>
        <p:blipFill>
          <a:blip r:embed="rId3"/>
          <a:stretch/>
        </p:blipFill>
        <p:spPr>
          <a:xfrm>
            <a:off x="0" y="5181480"/>
            <a:ext cx="2235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C:\Documents and Settings\Admin\Рабочий стол\49705165_va_100908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28600" y="30492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ы в Австралии повышаются при движении             на север- к экватору, а не на ю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990720"/>
            <a:ext cx="5283360" cy="3962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Documents and Settings\Admin\Рабочий стол\эйр.jpg"/>
          <p:cNvPicPr/>
          <p:nvPr/>
        </p:nvPicPr>
        <p:blipFill>
          <a:blip r:embed="rId2"/>
          <a:stretch/>
        </p:blipFill>
        <p:spPr>
          <a:xfrm>
            <a:off x="2014560" y="4114800"/>
            <a:ext cx="7129440" cy="27432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Австралии внутренние воды представлены небольшими реками, маленькими озерами, подземными в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5486400" y="1066680"/>
            <a:ext cx="3200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пных полноводных рек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половины площади не имеет стока в океан, маленькие пересыхающие реки – крики заканчиваются             в пес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228600" y="5029200"/>
            <a:ext cx="175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крупное озеро – ЭЙР.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леное сердце Австрал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Мы должны узнать при изучении темы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 открывали и осваивали Австрал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м характеризуется рельеф матери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ими полезными ископаемыми богата Австрал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еречислить климатические пояса материка. Почему Австралия – самый сухой материк мир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Характеристику внутренним водам Австрал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2"/>
          <p:cNvSpPr/>
          <p:nvPr/>
        </p:nvSpPr>
        <p:spPr>
          <a:xfrm>
            <a:off x="4800600" y="5934240"/>
            <a:ext cx="4648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новодные, но некрупные реки есть только на  востоке в предгорных районах, где выпадает много 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-360" y="533520"/>
            <a:ext cx="8839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уррей (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Марри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; англ.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Murray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) — крупнейшая река в Австралии, вместе с притоком Дарлинг, образует крупнейшую речную систему страны площадью более 12 % всего континент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лина 2375 км.  Площадь бассейна 1 061 469 км² Расход воды 767 м³/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5" name="Picture 3" descr="C:\Documents and Settings\Admin\Рабочий стол\250px-Murray_river_australia.jpg"/>
          <p:cNvPicPr/>
          <p:nvPr/>
        </p:nvPicPr>
        <p:blipFill>
          <a:blip r:embed="rId1"/>
          <a:stretch/>
        </p:blipFill>
        <p:spPr>
          <a:xfrm>
            <a:off x="457200" y="3048120"/>
            <a:ext cx="4511520" cy="3429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Documents and Settings\Admin\Рабочий стол\Murray_darling_murrumbidgee_map.gif"/>
          <p:cNvPicPr/>
          <p:nvPr/>
        </p:nvPicPr>
        <p:blipFill>
          <a:blip r:embed="rId2"/>
          <a:stretch/>
        </p:blipFill>
        <p:spPr>
          <a:xfrm>
            <a:off x="5105520" y="3276720"/>
            <a:ext cx="3754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2"/>
          <p:cNvSpPr/>
          <p:nvPr/>
        </p:nvSpPr>
        <p:spPr>
          <a:xfrm>
            <a:off x="304920" y="30492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рей и Дарлинг берут начало на Большом Водораздельном хребте, в нижнем течении во время засухи сильно мелеют и даже пересыхают, распадаясь на рукава. Половодье бывает в сезон дож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Вопросы для пересказа темы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асскажите как открывали и осваивали Австрал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м характеризуется рельеф материк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ими полезными ископаемыми богата Австралия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еречислите климатические пояса материка. Почему Австралия – самый сухой материк мир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Дайте характеристику внутренним водам Австрал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520" y="2286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встралия была открыта европейцами позже других материков из-за своей удален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первой половине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в. были известны участки северного, западного и юго-западного побережь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australia_map"/>
          <p:cNvPicPr/>
          <p:nvPr/>
        </p:nvPicPr>
        <p:blipFill>
          <a:blip r:embed="rId1"/>
          <a:stretch/>
        </p:blipFill>
        <p:spPr>
          <a:xfrm>
            <a:off x="1981080" y="1981080"/>
            <a:ext cx="5257800" cy="4629240"/>
          </a:xfrm>
          <a:prstGeom prst="rect">
            <a:avLst/>
          </a:prstGeom>
          <a:ln w="0">
            <a:noFill/>
          </a:ln>
        </p:spPr>
      </p:pic>
      <p:sp>
        <p:nvSpPr>
          <p:cNvPr id="332" name="Line 5"/>
          <p:cNvSpPr/>
          <p:nvPr/>
        </p:nvSpPr>
        <p:spPr>
          <a:xfrm flipH="1">
            <a:off x="1905120" y="1981080"/>
            <a:ext cx="5333760" cy="4648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 rot="18544800">
            <a:off x="-247320" y="3448080"/>
            <a:ext cx="2666880" cy="495360"/>
          </a:xfrm>
          <a:prstGeom prst="wedgeRectCallout">
            <a:avLst>
              <a:gd name="adj1" fmla="val 43810"/>
              <a:gd name="adj2" fmla="val 13370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звестно к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 rot="18544800">
            <a:off x="6762960" y="3219480"/>
            <a:ext cx="2666880" cy="495360"/>
          </a:xfrm>
          <a:prstGeom prst="wedgeRectCallout">
            <a:avLst>
              <a:gd name="adj1" fmla="val -112453"/>
              <a:gd name="adj2" fmla="val -14939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е известно к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42670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ольшое значение для исследования Австралии имело путешествие  голландского мореплавателя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Абеля Тасман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1642-1643гг. на севере            и северо-западе материка и открытие           им о. Тасман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4" descr="k-australia"/>
          <p:cNvPicPr/>
          <p:nvPr/>
        </p:nvPicPr>
        <p:blipFill>
          <a:blip r:embed="rId1"/>
          <a:stretch/>
        </p:blipFill>
        <p:spPr>
          <a:xfrm>
            <a:off x="4419720" y="609480"/>
            <a:ext cx="3809880" cy="331488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337" name="Picture 5" descr="C:\Documents and Settings\Admin\Рабочий стол\abel-tasman-3-sized.jpg"/>
          <p:cNvPicPr/>
          <p:nvPr/>
        </p:nvPicPr>
        <p:blipFill>
          <a:blip r:embed="rId2"/>
          <a:stretch/>
        </p:blipFill>
        <p:spPr>
          <a:xfrm>
            <a:off x="838080" y="533520"/>
            <a:ext cx="2872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2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33520" y="43430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осточное побережье Австралии было открыто  и исследовано лишь во второй половине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в. английским мореплавателем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Джеймсом Куком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1768-1779гг), который доказал, что Австралия – самостоятельный материк, а не часть Южной Земл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5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5486400" y="304920"/>
            <a:ext cx="3086280" cy="3701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C:\Documents and Settings\Admin\Рабочий стол\3.jpg"/>
          <p:cNvPicPr/>
          <p:nvPr/>
        </p:nvPicPr>
        <p:blipFill>
          <a:blip r:embed="rId2"/>
          <a:stretch/>
        </p:blipFill>
        <p:spPr>
          <a:xfrm>
            <a:off x="457200" y="533520"/>
            <a:ext cx="47293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С конца 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XVIII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в. начинается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                             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освоение Австралии. </a:t>
            </a: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Вначале английское правительство 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                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ссылало туда каторжан. </a:t>
            </a:r>
            <a:br>
              <a:rPr sz="39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2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0" y="4344840"/>
            <a:ext cx="1771560" cy="2513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Documents and Settings\Admin\Рабочий стол\7"/>
          <p:cNvPicPr/>
          <p:nvPr/>
        </p:nvPicPr>
        <p:blipFill>
          <a:blip r:embed="rId2"/>
          <a:stretch/>
        </p:blipFill>
        <p:spPr>
          <a:xfrm>
            <a:off x="1905120" y="1905120"/>
            <a:ext cx="4762440" cy="3305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Admin\Рабочий стол\8.jpg"/>
          <p:cNvPicPr/>
          <p:nvPr/>
        </p:nvPicPr>
        <p:blipFill>
          <a:blip r:embed="rId3"/>
          <a:stretch/>
        </p:blipFill>
        <p:spPr>
          <a:xfrm>
            <a:off x="0" y="144792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C:\Documents and Settings\Admin\Рабочий стол\gertv.jpg"/>
          <p:cNvPicPr/>
          <p:nvPr/>
        </p:nvPicPr>
        <p:blipFill>
          <a:blip r:embed="rId4"/>
          <a:stretch/>
        </p:blipFill>
        <p:spPr>
          <a:xfrm>
            <a:off x="5029200" y="4487760"/>
            <a:ext cx="4114800" cy="2370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C:\Documents and Settings\Admin\Рабочий стол\orientation.jpg"/>
          <p:cNvPicPr/>
          <p:nvPr/>
        </p:nvPicPr>
        <p:blipFill>
          <a:blip r:embed="rId5"/>
          <a:stretch/>
        </p:blipFill>
        <p:spPr>
          <a:xfrm>
            <a:off x="6419880" y="2133720"/>
            <a:ext cx="2724120" cy="1814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C:\Documents and Settings\Admin\Рабочий стол\1633.gif"/>
          <p:cNvPicPr/>
          <p:nvPr/>
        </p:nvPicPr>
        <p:blipFill>
          <a:blip r:embed="rId6"/>
          <a:stretch/>
        </p:blipFill>
        <p:spPr>
          <a:xfrm>
            <a:off x="2514600" y="4768920"/>
            <a:ext cx="1400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28240" y="228600"/>
            <a:ext cx="3962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ород Сидней основан как колония каторжник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зже здесь открыли не только плодородные земли, пышные пастбища, но и золото, уголь, нефть, железные руды, марганец, цветные металлы…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4" descr="untitled"/>
          <p:cNvPicPr/>
          <p:nvPr/>
        </p:nvPicPr>
        <p:blipFill>
          <a:blip r:embed="rId1"/>
          <a:stretch/>
        </p:blipFill>
        <p:spPr>
          <a:xfrm>
            <a:off x="4343400" y="2362320"/>
            <a:ext cx="4495680" cy="4105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Admin\Рабочий стол\5.jpg"/>
          <p:cNvPicPr/>
          <p:nvPr/>
        </p:nvPicPr>
        <p:blipFill>
          <a:blip r:embed="rId2"/>
          <a:stretch/>
        </p:blipFill>
        <p:spPr>
          <a:xfrm>
            <a:off x="6477120" y="304920"/>
            <a:ext cx="2352600" cy="1981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C:\Documents and Settings\Admin\Рабочий стол\Tahiti.jpg"/>
          <p:cNvPicPr/>
          <p:nvPr/>
        </p:nvPicPr>
        <p:blipFill>
          <a:blip r:embed="rId3"/>
          <a:stretch/>
        </p:blipFill>
        <p:spPr>
          <a:xfrm>
            <a:off x="3429000" y="228600"/>
            <a:ext cx="28954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Содержимое 2"/>
          <p:cNvSpPr/>
          <p:nvPr/>
        </p:nvSpPr>
        <p:spPr>
          <a:xfrm>
            <a:off x="0" y="500040"/>
            <a:ext cx="3929040" cy="60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лощадь материка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7,6 млн км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амая высокая верши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г. Костюшко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2228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амая глубокая впадина – котлови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озера Эйр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-16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Это самый маленький по площади материк Земли, самый засушливый, самый безле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aus"/>
          <p:cNvPicPr/>
          <p:nvPr/>
        </p:nvPicPr>
        <p:blipFill>
          <a:blip r:embed="rId1"/>
          <a:stretch/>
        </p:blipFill>
        <p:spPr>
          <a:xfrm>
            <a:off x="3857760" y="676440"/>
            <a:ext cx="5143320" cy="4500360"/>
          </a:xfrm>
          <a:prstGeom prst="rect">
            <a:avLst/>
          </a:prstGeom>
          <a:ln w="0">
            <a:noFill/>
          </a:ln>
        </p:spPr>
      </p:pic>
      <p:pic>
        <p:nvPicPr>
          <p:cNvPr id="355" name="Блок-схема: узел 5" descr=""/>
          <p:cNvPicPr/>
          <p:nvPr/>
        </p:nvPicPr>
        <p:blipFill>
          <a:blip r:embed="rId2"/>
          <a:stretch/>
        </p:blipFill>
        <p:spPr>
          <a:xfrm>
            <a:off x="7705800" y="4157640"/>
            <a:ext cx="371520" cy="378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6"/>
          <p:cNvSpPr/>
          <p:nvPr/>
        </p:nvSpPr>
        <p:spPr>
          <a:xfrm>
            <a:off x="7643880" y="435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Косц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Блок-схема: узел 7" descr=""/>
          <p:cNvPicPr/>
          <p:nvPr/>
        </p:nvPicPr>
        <p:blipFill>
          <a:blip r:embed="rId3"/>
          <a:stretch/>
        </p:blipFill>
        <p:spPr>
          <a:xfrm>
            <a:off x="6778800" y="3017880"/>
            <a:ext cx="365040" cy="3715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8"/>
          <p:cNvSpPr/>
          <p:nvPr/>
        </p:nvSpPr>
        <p:spPr>
          <a:xfrm>
            <a:off x="5862240" y="27147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а о. Эй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Прямая со стрелкой 9" descr=""/>
          <p:cNvPicPr/>
          <p:nvPr/>
        </p:nvPicPr>
        <p:blipFill>
          <a:blip r:embed="rId4"/>
          <a:stretch/>
        </p:blipFill>
        <p:spPr>
          <a:xfrm>
            <a:off x="7236000" y="755640"/>
            <a:ext cx="457200" cy="381636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ая со стрелкой 10" descr=""/>
          <p:cNvPicPr/>
          <p:nvPr/>
        </p:nvPicPr>
        <p:blipFill>
          <a:blip r:embed="rId5"/>
          <a:stretch/>
        </p:blipFill>
        <p:spPr>
          <a:xfrm>
            <a:off x="4017960" y="2541600"/>
            <a:ext cx="4529160" cy="384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4"/>
          <p:cNvSpPr/>
          <p:nvPr/>
        </p:nvSpPr>
        <p:spPr>
          <a:xfrm>
            <a:off x="4786200" y="2357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0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5"/>
          <p:cNvSpPr/>
          <p:nvPr/>
        </p:nvSpPr>
        <p:spPr>
          <a:xfrm rot="16200000">
            <a:off x="7016400" y="1555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20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4-09T12:32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