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27.png" ContentType="image/png"/>
  <Override PartName="/ppt/media/image33.jpeg" ContentType="image/jpeg"/>
  <Override PartName="/ppt/media/image34.jpeg" ContentType="image/jpeg"/>
  <Override PartName="/ppt/media/image36.jpeg" ContentType="image/jpeg"/>
  <Override PartName="/ppt/media/image9.jpeg" ContentType="image/jpeg"/>
  <Override PartName="/ppt/media/image40.jpeg" ContentType="image/jpeg"/>
  <Override PartName="/ppt/media/image44.jpeg" ContentType="image/jpeg"/>
  <Override PartName="/ppt/media/image42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50.png" ContentType="image/png"/>
  <Override PartName="/ppt/media/image13.png" ContentType="image/png"/>
  <Override PartName="/ppt/media/image4.png" ContentType="image/png"/>
  <Override PartName="/ppt/media/image12.jpeg" ContentType="image/jpeg"/>
  <Override PartName="/ppt/media/image46.jpeg" ContentType="image/jpeg"/>
  <Override PartName="/ppt/media/image51.jpeg" ContentType="image/jpeg"/>
  <Override PartName="/ppt/media/image31.png" ContentType="image/png"/>
  <Override PartName="/ppt/media/image37.jpeg" ContentType="image/jpeg"/>
  <Override PartName="/ppt/media/image30.png" ContentType="image/png"/>
  <Override PartName="/ppt/media/image10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5.png" ContentType="image/png"/>
  <Override PartName="/ppt/media/image43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9F9B-B96F-4C25-ACC9-80C9C3C6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2E42-A01A-4F60-93A9-20C181CB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70D7-60D4-4DAD-8437-6F42D64B8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D05E-A827-49E1-819E-842747FCA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72A8-FDF0-40E0-9EE5-F337B02D6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F151-03EE-4D63-A787-8118FB97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3476-D392-4023-8ACD-0A2CFEC6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AF11-38D1-49CC-AFD9-0426FA5C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10BC-19A4-446D-AD84-BAD6CFB6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99DC-9962-4F81-ADDC-AF56E5F9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1BDD-6E48-43A5-A502-CF714572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C459-3DE9-43F4-9AD8-5F1AD04D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083D-0F12-4A5B-830E-71DC8B51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417F-5932-424D-832B-9801D4D1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A917-8AB8-4824-B336-43F1251C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2FEA-2FAC-4BE5-BF5E-468A7B39E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F89E-CA80-46C5-A0B1-C8B96911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06140-1A34-45EF-996D-C002E8DB4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47671-23C4-4F04-B740-D98E5E5D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764E4-746B-43E1-9AB0-943768AA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25450-D8E3-4DC2-8D29-96765BDF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C0097-34DE-49F5-82CF-8F0FE4E4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7101-E5D6-4109-B89D-99203856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9C8D9-E643-467C-9462-A2B2817A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8F52F-41D0-4D0A-8679-BE60A884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336D0-1DB1-4BCF-B9E4-1C1D2A13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F98AE-3A0F-419C-BD10-6F2C6901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3C395-4ADA-428E-9B90-538028D4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5FD4C-2B85-45DE-B8A3-83579E2B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97D8C-5B36-40D5-801A-E36933798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97629-6E02-4D04-AC3C-D207E31AE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5344C-0D3D-4D1A-B30F-B2EDAA22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D261E-353C-400A-82B5-811E73DC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011D-7412-4EFD-B22B-0B16E770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39041-00C6-4B50-B703-D8C21A8E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4ABD4-A368-49FE-A79B-E0C9ADD7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9D422-9DDE-495D-95CE-2AF6D29A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FFE69-42D3-4104-9F00-34B82E32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B64DE-93CE-47A5-AC9C-07E0C881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35EDA-3595-4D99-A3A1-0A951F70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9DE43-4D62-4F1C-B778-64F048DF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96447-D5BE-4E8B-9588-7E3296A83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638E3-00F8-4780-9C72-6E263D83F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8BE4C-A48C-488F-995B-AAC09A58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97AD-8B91-47C4-8385-C414CC6E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CDB2F-3FDA-4D4F-9DDE-12D3AAD1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BBA2D-ECAE-4181-B943-FC51D4E6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58EAD-D96F-4367-88DA-08F51FC6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15DF7-3B19-4288-9BBD-EF93A4E6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D17F4-56D1-45CC-9038-0530EBC3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A3C2F-1B46-46DF-AE03-9B520409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8B8E5-8231-40F9-B450-E5B13526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9A4FD-EA31-4B55-BEAA-FA48838E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4E851-01F1-4827-B9FF-7653EBF5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1BE81-126D-419F-B009-9A6EAF7F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B6ED-3F07-436C-BF21-390D743B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E9571-669E-4353-AEB3-0A4E335E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FE94F-7B4A-425F-B2E6-8C31E93B3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70A62-08A5-44FA-9BD4-55306303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BC114-51A0-430C-8433-2AB2F483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13EA5-87AB-4DF2-BE33-A34ABC61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8105A-82BA-4203-857D-731D12F2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92A3A-C359-4C0C-9140-8BD92049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828D4-E9DD-4F78-A35C-6030D76F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F747E-6D55-4861-B43F-CEB28D9E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EEF82-F9A8-47EE-B215-2B7C0CE1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6456-7EBC-4B51-9232-348E3C9C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7A7CB-3C8E-4DCA-8424-B75937AC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BF438-F490-460B-B1C1-F182F92D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AA103-3043-461B-9B73-60C6C808A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59531-18E7-42AE-BD68-D2081375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99C5E-DDF2-4EF1-B215-6B6813C5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FA2A0-E936-4458-9711-698530B7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7014A-EE91-49D5-84EC-C9C68AF2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EA3FE-3AED-4606-9BF7-23168D18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ADC62-048B-4404-9FE7-9C079AA3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D5E15-D071-499C-977D-4C8553F4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4D2B-43C7-4C38-B8F6-01B03E49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5A3A1-A282-4362-AEDE-C059E640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E41C1-CDC7-41DD-AB7D-113290D3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E38E3-DC2C-4A8B-8715-16FDCBC4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0C800-6E25-49C8-B43C-FB39ED9F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61D01-3420-4ECE-9CC4-D879E0C6B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41B6-7A53-4E29-9FD7-AA40A2A7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9D1C-BE5E-412B-9CE3-49BBF95E8D1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448D-BEB8-44BD-888B-5B27B98118F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AFF3-C4A5-400B-89F2-1CCF05E0739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8DD5-3E22-4B10-AE6A-FDCBEA1A66C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0407-AAB3-4181-B392-9380E568B1B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A43B-0E5A-4FF3-8E5B-BD807E189F4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455B-F5DE-4CDF-84FE-4588A30722D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5410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ill Sans MT"/>
              </a:rPr>
              <a:t>1</a:t>
            </a:r>
            <a:r>
              <a:rPr b="1" lang="ru-RU" sz="2800" spc="-1" strike="noStrike">
                <a:solidFill>
                  <a:srgbClr val="0000ff"/>
                </a:solidFill>
                <a:latin typeface="Corbel"/>
              </a:rPr>
              <a:t>.ИСТОРИЯ ОТКРЫТИЯ АВСТРАЛИИ.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Corbel"/>
              </a:rPr>
              <a:t>2. РЕЛЬЕФ  И ПОЛЕЗНЫЕ ИСКОПАЕМЫЕ.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Corbel"/>
              </a:rPr>
              <a:t>3. КЛИМАТ И ВНУТРЕННИЕ ВОДЫ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320" name="Picture 2" descr="K:\австра\austok_m.gif"/>
          <p:cNvPicPr/>
          <p:nvPr/>
        </p:nvPicPr>
        <p:blipFill>
          <a:blip r:embed="rId1"/>
          <a:srcRect l="0" t="11119" r="0" b="0"/>
          <a:stretch/>
        </p:blipFill>
        <p:spPr>
          <a:xfrm>
            <a:off x="4876920" y="0"/>
            <a:ext cx="3262320" cy="234000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5"/>
          <p:cNvSpPr/>
          <p:nvPr/>
        </p:nvSpPr>
        <p:spPr>
          <a:xfrm>
            <a:off x="1143000" y="685800"/>
            <a:ext cx="2743200" cy="5335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" descr="C:\Documents and Settings\User\Рабочий стол\африка\фосфориты.jpg"/>
          <p:cNvPicPr/>
          <p:nvPr/>
        </p:nvPicPr>
        <p:blipFill>
          <a:blip r:embed="rId2"/>
          <a:stretch/>
        </p:blipFill>
        <p:spPr>
          <a:xfrm>
            <a:off x="5410080" y="1981080"/>
            <a:ext cx="2133720" cy="14922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C:\Documents and Settings\User\Рабочий стол\африка\1251280914.jpg"/>
          <p:cNvPicPr/>
          <p:nvPr/>
        </p:nvPicPr>
        <p:blipFill>
          <a:blip r:embed="rId3"/>
          <a:stretch/>
        </p:blipFill>
        <p:spPr>
          <a:xfrm>
            <a:off x="7410600" y="3429000"/>
            <a:ext cx="1733400" cy="14223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C:\Documents and Settings\User\Рабочий стол\африка\9-4-2008-13-31-12-705.jpg"/>
          <p:cNvPicPr/>
          <p:nvPr/>
        </p:nvPicPr>
        <p:blipFill>
          <a:blip r:embed="rId4"/>
          <a:stretch/>
        </p:blipFill>
        <p:spPr>
          <a:xfrm>
            <a:off x="7391520" y="304920"/>
            <a:ext cx="1752480" cy="1314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J:\7 кл гео. АВСТРАЛИЯ\австра\australia_big4.jpg"/>
          <p:cNvPicPr/>
          <p:nvPr/>
        </p:nvPicPr>
        <p:blipFill>
          <a:blip r:embed="rId5"/>
          <a:stretch/>
        </p:blipFill>
        <p:spPr>
          <a:xfrm>
            <a:off x="5105520" y="3809880"/>
            <a:ext cx="2361960" cy="17719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J:\7 кл гео. АВСТРАЛИЯ\австра\351835_water world_interesting_photo_2.jpg"/>
          <p:cNvPicPr/>
          <p:nvPr/>
        </p:nvPicPr>
        <p:blipFill>
          <a:blip r:embed="rId6"/>
          <a:stretch/>
        </p:blipFill>
        <p:spPr>
          <a:xfrm>
            <a:off x="2743200" y="4114800"/>
            <a:ext cx="1873080" cy="14050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J:\7 кл гео. АВСТРАЛИЯ\австра\0_5717_7aede19d_XL.jpg"/>
          <p:cNvPicPr/>
          <p:nvPr/>
        </p:nvPicPr>
        <p:blipFill>
          <a:blip r:embed="rId7"/>
          <a:stretch/>
        </p:blipFill>
        <p:spPr>
          <a:xfrm>
            <a:off x="0" y="4114800"/>
            <a:ext cx="21463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72314"/>
                </a:solidFill>
                <a:latin typeface="Corbel"/>
              </a:rPr>
              <a:t>В основе Австралии лежит древняя устойчивая платформа, занятая осадочными породами.               Лишь на востоке есть небольшие участки древней (420млн.л) складчатости. Территория не сейсмична.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4" name="Picture 4" descr="aus"/>
          <p:cNvPicPr/>
          <p:nvPr/>
        </p:nvPicPr>
        <p:blipFill>
          <a:blip r:embed="rId1"/>
          <a:stretch/>
        </p:blipFill>
        <p:spPr>
          <a:xfrm>
            <a:off x="1752480" y="1733400"/>
            <a:ext cx="563904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Содержимое 2"/>
          <p:cNvSpPr/>
          <p:nvPr/>
        </p:nvSpPr>
        <p:spPr>
          <a:xfrm>
            <a:off x="142920" y="1600200"/>
            <a:ext cx="8786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  <a:ea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Овал 3"/>
          <p:cNvSpPr/>
          <p:nvPr/>
        </p:nvSpPr>
        <p:spPr>
          <a:xfrm>
            <a:off x="1143000" y="3571920"/>
            <a:ext cx="2786040" cy="1071360"/>
          </a:xfrm>
          <a:prstGeom prst="ellipse">
            <a:avLst/>
          </a:prstGeom>
          <a:solidFill>
            <a:srgbClr val="2a6d7d">
              <a:alpha val="65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Западная ч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матери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(Австралийская платформа</a:t>
            </a: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4"/>
          <p:cNvSpPr/>
          <p:nvPr/>
        </p:nvSpPr>
        <p:spPr>
          <a:xfrm>
            <a:off x="4429080" y="3500280"/>
            <a:ext cx="3071880" cy="1071720"/>
          </a:xfrm>
          <a:prstGeom prst="ellipse">
            <a:avLst/>
          </a:prstGeom>
          <a:solidFill>
            <a:srgbClr val="eba7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Восточная ч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Матер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(складчато- глыбовые гор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Скругленный прямоугольник 5"/>
          <p:cNvSpPr/>
          <p:nvPr/>
        </p:nvSpPr>
        <p:spPr>
          <a:xfrm>
            <a:off x="179280" y="5300640"/>
            <a:ext cx="2001960" cy="1000080"/>
          </a:xfrm>
          <a:prstGeom prst="roundRect">
            <a:avLst>
              <a:gd name="adj" fmla="val 16667"/>
            </a:avLst>
          </a:prstGeom>
          <a:solidFill>
            <a:srgbClr val="e17b7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Западно- Австралийск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лоскогор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Скругленный прямоугольник 6"/>
          <p:cNvSpPr/>
          <p:nvPr/>
        </p:nvSpPr>
        <p:spPr>
          <a:xfrm>
            <a:off x="2857680" y="5357880"/>
            <a:ext cx="1928520" cy="1000080"/>
          </a:xfrm>
          <a:prstGeom prst="roundRect">
            <a:avLst>
              <a:gd name="adj" fmla="val 16667"/>
            </a:avLst>
          </a:prstGeom>
          <a:solidFill>
            <a:srgbClr val="7ec3d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Центральная рав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Скругленный прямоугольник 7"/>
          <p:cNvSpPr/>
          <p:nvPr/>
        </p:nvSpPr>
        <p:spPr>
          <a:xfrm>
            <a:off x="6000840" y="5214960"/>
            <a:ext cx="2357280" cy="1071720"/>
          </a:xfrm>
          <a:prstGeom prst="roundRect">
            <a:avLst>
              <a:gd name="adj" fmla="val 16667"/>
            </a:avLst>
          </a:prstGeom>
          <a:solidFill>
            <a:srgbClr val="eba7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ольшой Водораздельный хреб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Стрелка вниз 8"/>
          <p:cNvSpPr/>
          <p:nvPr/>
        </p:nvSpPr>
        <p:spPr>
          <a:xfrm>
            <a:off x="2357280" y="2928960"/>
            <a:ext cx="428760" cy="5000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Стрелка вниз 9"/>
          <p:cNvSpPr/>
          <p:nvPr/>
        </p:nvSpPr>
        <p:spPr>
          <a:xfrm>
            <a:off x="5786280" y="2928960"/>
            <a:ext cx="428760" cy="5000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Стрелка вниз 10"/>
          <p:cNvSpPr/>
          <p:nvPr/>
        </p:nvSpPr>
        <p:spPr>
          <a:xfrm>
            <a:off x="1357200" y="4643280"/>
            <a:ext cx="214560" cy="642960"/>
          </a:xfrm>
          <a:prstGeom prst="downArrow">
            <a:avLst>
              <a:gd name="adj1" fmla="val 50000"/>
              <a:gd name="adj2" fmla="val 49944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Стрелка вниз 11"/>
          <p:cNvSpPr/>
          <p:nvPr/>
        </p:nvSpPr>
        <p:spPr>
          <a:xfrm>
            <a:off x="3214800" y="4643280"/>
            <a:ext cx="214200" cy="64296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Стрелка вниз 12"/>
          <p:cNvSpPr/>
          <p:nvPr/>
        </p:nvSpPr>
        <p:spPr>
          <a:xfrm>
            <a:off x="6572160" y="4643280"/>
            <a:ext cx="214560" cy="50040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Двойная стрелка влево/вправо 13"/>
          <p:cNvSpPr/>
          <p:nvPr/>
        </p:nvSpPr>
        <p:spPr>
          <a:xfrm>
            <a:off x="1714680" y="6500880"/>
            <a:ext cx="1714320" cy="214200"/>
          </a:xfrm>
          <a:prstGeom prst="leftRightArrow">
            <a:avLst>
              <a:gd name="adj1" fmla="val 50000"/>
              <a:gd name="adj2" fmla="val 50021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Стрелка влево 14"/>
          <p:cNvSpPr/>
          <p:nvPr/>
        </p:nvSpPr>
        <p:spPr>
          <a:xfrm>
            <a:off x="5214960" y="6429240"/>
            <a:ext cx="1571760" cy="214560"/>
          </a:xfrm>
          <a:prstGeom prst="leftArrow">
            <a:avLst>
              <a:gd name="adj1" fmla="val 50000"/>
              <a:gd name="adj2" fmla="val 49956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15"/>
          <p:cNvSpPr/>
          <p:nvPr/>
        </p:nvSpPr>
        <p:spPr>
          <a:xfrm>
            <a:off x="1981080" y="762120"/>
            <a:ext cx="4732560" cy="2225520"/>
          </a:xfrm>
          <a:prstGeom prst="rect">
            <a:avLst/>
          </a:prstGeom>
          <a:solidFill>
            <a:srgbClr val="7ec3d4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ельеф          Австра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Стрелка вниз 16"/>
          <p:cNvSpPr/>
          <p:nvPr/>
        </p:nvSpPr>
        <p:spPr>
          <a:xfrm>
            <a:off x="4929120" y="5572080"/>
            <a:ext cx="71640" cy="571680"/>
          </a:xfrm>
          <a:prstGeom prst="downArrow">
            <a:avLst>
              <a:gd name="adj1" fmla="val 50000"/>
              <a:gd name="adj2" fmla="val 49874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Двойная стрелка вверх/вниз 17"/>
          <p:cNvSpPr/>
          <p:nvPr/>
        </p:nvSpPr>
        <p:spPr>
          <a:xfrm>
            <a:off x="2357280" y="5572080"/>
            <a:ext cx="71640" cy="571680"/>
          </a:xfrm>
          <a:prstGeom prst="upDownArrow">
            <a:avLst>
              <a:gd name="adj1" fmla="val 50000"/>
              <a:gd name="adj2" fmla="val 49874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2" name="Picture 2" descr="K:\австра\GA407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6"/>
          <p:cNvSpPr/>
          <p:nvPr/>
        </p:nvSpPr>
        <p:spPr>
          <a:xfrm>
            <a:off x="0" y="0"/>
            <a:ext cx="205740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ад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в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р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ня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вни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0- 600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7010280" y="0"/>
            <a:ext cx="213372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восто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яну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уш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оразд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реб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9"/>
          <p:cNvSpPr/>
          <p:nvPr/>
        </p:nvSpPr>
        <p:spPr>
          <a:xfrm flipH="1" flipV="1">
            <a:off x="6552720" y="5333760"/>
            <a:ext cx="762120" cy="60948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Самая высокая </a:t>
            </a: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точка материка </a:t>
            </a:r>
            <a:br>
              <a:rPr sz="3200"/>
            </a:b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г. КОСЦЮШКО 2228 м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7" name="Picture 2" descr="C:\Documents and Settings\Admin\Рабочий стол\1.jpg"/>
          <p:cNvPicPr/>
          <p:nvPr/>
        </p:nvPicPr>
        <p:blipFill>
          <a:blip r:embed="rId1"/>
          <a:stretch/>
        </p:blipFill>
        <p:spPr>
          <a:xfrm>
            <a:off x="1066680" y="1600200"/>
            <a:ext cx="718056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38098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72314"/>
                </a:solidFill>
                <a:latin typeface="Corbel"/>
              </a:rPr>
              <a:t>Гора Улуру (Айерс-Рок) — возможно, самый известный символ Австралии. </a:t>
            </a:r>
            <a:br>
              <a:rPr sz="2200"/>
            </a:br>
            <a:r>
              <a:rPr b="1" lang="ru-RU" sz="2200" spc="-1" strike="noStrike">
                <a:solidFill>
                  <a:srgbClr val="572314"/>
                </a:solidFill>
                <a:latin typeface="Corbel"/>
              </a:rPr>
              <a:t>Это впечатляющий массив овальной формы из песчаника оранжевого цвета. 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9" name="Picture 2" descr="C:\Documents and Settings\Admin\Рабочий стол\lgpp31173+uluru-ayres-rock-australian-outback-poster.jpg"/>
          <p:cNvPicPr/>
          <p:nvPr/>
        </p:nvPicPr>
        <p:blipFill>
          <a:blip r:embed="rId1"/>
          <a:stretch/>
        </p:blipFill>
        <p:spPr>
          <a:xfrm>
            <a:off x="0" y="3230640"/>
            <a:ext cx="5410080" cy="36273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C:\Documents and Settings\Admin\Рабочий стол\ayers_rock.jpg"/>
          <p:cNvPicPr/>
          <p:nvPr/>
        </p:nvPicPr>
        <p:blipFill>
          <a:blip r:embed="rId2"/>
          <a:stretch/>
        </p:blipFill>
        <p:spPr>
          <a:xfrm>
            <a:off x="4130640" y="0"/>
            <a:ext cx="5013360" cy="358128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4"/>
          <p:cNvSpPr/>
          <p:nvPr/>
        </p:nvSpPr>
        <p:spPr>
          <a:xfrm>
            <a:off x="5486400" y="3657600"/>
            <a:ext cx="342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е высота достигает 348 мет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ё длина составляет 3,6 км, а ширина — около 3 к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лоны Айерс-Рок почти отвес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-360" y="380520"/>
            <a:ext cx="48769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Австралия богата полезными ископаемыми, которые поставляет во многие страны мира: нефть, газ, железные руды, цветные металлы, марганец, никель,  олово, медь, вольфрам, алюминиевые руды, золото, урановые руды, титановые руды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3" name="Picture 5" descr="C:\Documents and Settings\Admin\Рабочий стол\6.jpg"/>
          <p:cNvPicPr/>
          <p:nvPr/>
        </p:nvPicPr>
        <p:blipFill>
          <a:blip r:embed="rId1"/>
          <a:stretch/>
        </p:blipFill>
        <p:spPr>
          <a:xfrm>
            <a:off x="4952880" y="380880"/>
            <a:ext cx="3784680" cy="3886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C:\Documents and Settings\Admin\Рабочий стол\Kalgoorlie_The_Big_Pit_DSC04498.jpg"/>
          <p:cNvPicPr/>
          <p:nvPr/>
        </p:nvPicPr>
        <p:blipFill>
          <a:blip r:embed="rId2"/>
          <a:stretch/>
        </p:blipFill>
        <p:spPr>
          <a:xfrm>
            <a:off x="5562720" y="4419720"/>
            <a:ext cx="28303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Большая часть Австралии находится               в тропическом поясе, север занят субэкваториальным, юг – субтропическим.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6" name="Picture 2" descr="C:\Documents and Settings\Admin\Рабочий стол\6.gif"/>
          <p:cNvPicPr/>
          <p:nvPr/>
        </p:nvPicPr>
        <p:blipFill>
          <a:blip r:embed="rId1"/>
          <a:stretch/>
        </p:blipFill>
        <p:spPr>
          <a:xfrm>
            <a:off x="3699000" y="2519280"/>
            <a:ext cx="2971800" cy="26575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C:\Documents and Settings\Admin\Рабочий стол\2.jpg"/>
          <p:cNvPicPr/>
          <p:nvPr/>
        </p:nvPicPr>
        <p:blipFill>
          <a:blip r:embed="rId2"/>
          <a:stretch/>
        </p:blipFill>
        <p:spPr>
          <a:xfrm>
            <a:off x="0" y="167652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C:\Documents and Settings\Admin\Рабочий стол\3.jpg"/>
          <p:cNvPicPr/>
          <p:nvPr/>
        </p:nvPicPr>
        <p:blipFill>
          <a:blip r:embed="rId3"/>
          <a:stretch/>
        </p:blipFill>
        <p:spPr>
          <a:xfrm>
            <a:off x="0" y="50292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6" descr="C:\Documents and Settings\Admin\Рабочий стол\5.jpg"/>
          <p:cNvPicPr/>
          <p:nvPr/>
        </p:nvPicPr>
        <p:blipFill>
          <a:blip r:embed="rId4"/>
          <a:stretch/>
        </p:blipFill>
        <p:spPr>
          <a:xfrm>
            <a:off x="6703920" y="1752480"/>
            <a:ext cx="2440080" cy="18288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" descr="C:\Documents and Settings\Admin\Рабочий стол\7.jpg"/>
          <p:cNvPicPr/>
          <p:nvPr/>
        </p:nvPicPr>
        <p:blipFill>
          <a:blip r:embed="rId5"/>
          <a:stretch/>
        </p:blipFill>
        <p:spPr>
          <a:xfrm>
            <a:off x="7416720" y="4267080"/>
            <a:ext cx="1727280" cy="2590920"/>
          </a:xfrm>
          <a:prstGeom prst="rect">
            <a:avLst/>
          </a:prstGeom>
          <a:ln w="0">
            <a:noFill/>
          </a:ln>
        </p:spPr>
      </p:pic>
      <p:sp>
        <p:nvSpPr>
          <p:cNvPr id="401" name="TextBox 7"/>
          <p:cNvSpPr/>
          <p:nvPr/>
        </p:nvSpPr>
        <p:spPr>
          <a:xfrm>
            <a:off x="2895480" y="5638680"/>
            <a:ext cx="2438640" cy="947160"/>
          </a:xfrm>
          <a:prstGeom prst="rect">
            <a:avLst/>
          </a:prstGeom>
          <a:solidFill>
            <a:srgbClr val="f5f2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ЛИМАТ АВСТРА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5" descr="C:\Documents and Settings\Admin\Рабочий стол\4.jpg"/>
          <p:cNvPicPr/>
          <p:nvPr/>
        </p:nvPicPr>
        <p:blipFill>
          <a:blip r:embed="rId1"/>
          <a:stretch/>
        </p:blipFill>
        <p:spPr>
          <a:xfrm>
            <a:off x="733320" y="95400"/>
            <a:ext cx="7786800" cy="67626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C:\Documents and Settings\Admin\Рабочий стол\8.jpg"/>
          <p:cNvPicPr/>
          <p:nvPr/>
        </p:nvPicPr>
        <p:blipFill>
          <a:blip r:embed="rId2"/>
          <a:stretch/>
        </p:blipFill>
        <p:spPr>
          <a:xfrm>
            <a:off x="6724800" y="0"/>
            <a:ext cx="2419200" cy="16002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C:\Documents and Settings\Admin\Рабочий стол\9.jpg"/>
          <p:cNvPicPr/>
          <p:nvPr/>
        </p:nvPicPr>
        <p:blipFill>
          <a:blip r:embed="rId3"/>
          <a:stretch/>
        </p:blipFill>
        <p:spPr>
          <a:xfrm>
            <a:off x="0" y="5181480"/>
            <a:ext cx="22352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C:\Documents and Settings\Admin\Рабочий стол\49705165_va_100908_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6" name="TextBox 2"/>
          <p:cNvSpPr/>
          <p:nvPr/>
        </p:nvSpPr>
        <p:spPr>
          <a:xfrm>
            <a:off x="228600" y="304920"/>
            <a:ext cx="434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пературы в Австралии повышаются при движении             на север- к экватору, а не на ю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3" descr="C:\Documents and Settings\Admin\Рабочий стол\9.jpg"/>
          <p:cNvPicPr/>
          <p:nvPr/>
        </p:nvPicPr>
        <p:blipFill>
          <a:blip r:embed="rId1"/>
          <a:stretch/>
        </p:blipFill>
        <p:spPr>
          <a:xfrm>
            <a:off x="0" y="990720"/>
            <a:ext cx="5283360" cy="39621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C:\Documents and Settings\Admin\Рабочий стол\эйр.jpg"/>
          <p:cNvPicPr/>
          <p:nvPr/>
        </p:nvPicPr>
        <p:blipFill>
          <a:blip r:embed="rId2"/>
          <a:stretch/>
        </p:blipFill>
        <p:spPr>
          <a:xfrm>
            <a:off x="2014560" y="4114800"/>
            <a:ext cx="7129440" cy="2743200"/>
          </a:xfrm>
          <a:prstGeom prst="rect">
            <a:avLst/>
          </a:prstGeom>
          <a:ln w="0">
            <a:noFill/>
          </a:ln>
        </p:spPr>
      </p:pic>
      <p:sp>
        <p:nvSpPr>
          <p:cNvPr id="409" name="TextBox 3"/>
          <p:cNvSpPr/>
          <p:nvPr/>
        </p:nvSpPr>
        <p:spPr>
          <a:xfrm>
            <a:off x="380880" y="3049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 Австралии внутренние воды представлены небольшими реками, маленькими озерами, подземными вод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4"/>
          <p:cNvSpPr/>
          <p:nvPr/>
        </p:nvSpPr>
        <p:spPr>
          <a:xfrm>
            <a:off x="5486400" y="1066680"/>
            <a:ext cx="3200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упных полноводных рек н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лее половины площади не имеет стока в океан, маленькие пересыхающие реки – крики заканчиваются             в пес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5"/>
          <p:cNvSpPr/>
          <p:nvPr/>
        </p:nvSpPr>
        <p:spPr>
          <a:xfrm>
            <a:off x="228600" y="5029200"/>
            <a:ext cx="1752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е крупное озеро – ЭЙР.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соленое сердце Австрал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Мы должны узнать при изучении темы</a:t>
            </a: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: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0880" y="1371240"/>
            <a:ext cx="8305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Как открывали и осваивали Австралию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Чем характеризуется рельеф материк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Какими полезными ископаемыми богата Австрал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еречислить климатические пояса материка. Почему Австралия – самый сухой материк мира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Характеристику внутренним водам Австрали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C:\Documents and Settings\Admin\Рабочий стол\1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3" name="TextBox 2"/>
          <p:cNvSpPr/>
          <p:nvPr/>
        </p:nvSpPr>
        <p:spPr>
          <a:xfrm>
            <a:off x="4800600" y="5934240"/>
            <a:ext cx="4648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новодные, но некрупные реки есть только на  востоке в предгорных районах, где выпадает много осад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-360" y="533520"/>
            <a:ext cx="8839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Муррей (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Марри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; англ.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Murray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) — крупнейшая река в Австралии, вместе с притоком Дарлинг, образует крупнейшую речную систему страны площадью более 12 % всего континента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Длина 2375 км.  Площадь бассейна 1 061 469 км² Расход воды 767 м³/с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5" name="Picture 3" descr="C:\Documents and Settings\Admin\Рабочий стол\250px-Murray_river_australia.jpg"/>
          <p:cNvPicPr/>
          <p:nvPr/>
        </p:nvPicPr>
        <p:blipFill>
          <a:blip r:embed="rId1"/>
          <a:stretch/>
        </p:blipFill>
        <p:spPr>
          <a:xfrm>
            <a:off x="457200" y="3048120"/>
            <a:ext cx="4511520" cy="3429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C:\Documents and Settings\Admin\Рабочий стол\Murray_darling_murrumbidgee_map.gif"/>
          <p:cNvPicPr/>
          <p:nvPr/>
        </p:nvPicPr>
        <p:blipFill>
          <a:blip r:embed="rId2"/>
          <a:stretch/>
        </p:blipFill>
        <p:spPr>
          <a:xfrm>
            <a:off x="5105520" y="3276720"/>
            <a:ext cx="375444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3" descr="C:\Documents and Settings\Admin\Рабочий стол\2.jpg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18" name="TextBox 2"/>
          <p:cNvSpPr/>
          <p:nvPr/>
        </p:nvSpPr>
        <p:spPr>
          <a:xfrm>
            <a:off x="304920" y="30492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ррей и Дарлинг берут начало на Большом Водораздельном хребте, в нижнем течении во время засухи сильно мелеют и даже пересыхают, распадаясь на рукава. Половодье бывает в сезон дож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Вопросы для пересказа темы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0880" y="1371240"/>
            <a:ext cx="8305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Расскажите как открывали и осваивали Австралию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Чем характеризуется рельеф материка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Какими полезными ископаемыми богата Австралия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еречислите климатические пояса материка. Почему Австралия – самый сухой материк мира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Дайте характеристику внутренним водам Австрали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80520" y="2286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Австралия была открыта европейцами позже других материков из-за своей удаленност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К первой половине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XVII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в. были известны участки северного, западного и юго-западного побережь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Picture 4" descr="australia_map"/>
          <p:cNvPicPr/>
          <p:nvPr/>
        </p:nvPicPr>
        <p:blipFill>
          <a:blip r:embed="rId1"/>
          <a:stretch/>
        </p:blipFill>
        <p:spPr>
          <a:xfrm>
            <a:off x="1981080" y="1981080"/>
            <a:ext cx="5257800" cy="4629240"/>
          </a:xfrm>
          <a:prstGeom prst="rect">
            <a:avLst/>
          </a:prstGeom>
          <a:ln w="0">
            <a:noFill/>
          </a:ln>
        </p:spPr>
      </p:pic>
      <p:sp>
        <p:nvSpPr>
          <p:cNvPr id="332" name="Line 5"/>
          <p:cNvSpPr/>
          <p:nvPr/>
        </p:nvSpPr>
        <p:spPr>
          <a:xfrm flipH="1">
            <a:off x="1905120" y="1981080"/>
            <a:ext cx="5333760" cy="46483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6"/>
          <p:cNvSpPr/>
          <p:nvPr/>
        </p:nvSpPr>
        <p:spPr>
          <a:xfrm rot="18544800">
            <a:off x="-247320" y="3448080"/>
            <a:ext cx="2666880" cy="495360"/>
          </a:xfrm>
          <a:prstGeom prst="wedgeRectCallout">
            <a:avLst>
              <a:gd name="adj1" fmla="val 43810"/>
              <a:gd name="adj2" fmla="val 133708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Известно к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XVII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 rot="18544800">
            <a:off x="6762960" y="3219480"/>
            <a:ext cx="2666880" cy="495360"/>
          </a:xfrm>
          <a:prstGeom prst="wedgeRectCallout">
            <a:avLst>
              <a:gd name="adj1" fmla="val -112453"/>
              <a:gd name="adj2" fmla="val -149398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Не известно к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XVII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4267080"/>
            <a:ext cx="815328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Большое значение для исследования Австралии имело путешествие  голландского мореплавателя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Абеля Тасмана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в 1642-1643гг. на севере            и северо-западе материка и открытие           им о. Тасмани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Picture 4" descr="k-australia"/>
          <p:cNvPicPr/>
          <p:nvPr/>
        </p:nvPicPr>
        <p:blipFill>
          <a:blip r:embed="rId1"/>
          <a:stretch/>
        </p:blipFill>
        <p:spPr>
          <a:xfrm>
            <a:off x="4419720" y="609480"/>
            <a:ext cx="3809880" cy="331488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337" name="Picture 5" descr="C:\Documents and Settings\Admin\Рабочий стол\abel-tasman-3-sized.jpg"/>
          <p:cNvPicPr/>
          <p:nvPr/>
        </p:nvPicPr>
        <p:blipFill>
          <a:blip r:embed="rId2"/>
          <a:stretch/>
        </p:blipFill>
        <p:spPr>
          <a:xfrm>
            <a:off x="838080" y="533520"/>
            <a:ext cx="2872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C:\Documents and Settings\Admin\Рабочий стол\4.jpg"/>
          <p:cNvPicPr/>
          <p:nvPr/>
        </p:nvPicPr>
        <p:blipFill>
          <a:blip r:embed="rId1"/>
          <a:stretch/>
        </p:blipFill>
        <p:spPr>
          <a:xfrm>
            <a:off x="533520" y="304920"/>
            <a:ext cx="8229600" cy="62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533520" y="43430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Восточное побережье Австралии было открыто  и исследовано лишь во второй половине 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XVIII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в. английским мореплавателем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Джеймсом Куком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1768-1779гг), который доказал, что Австралия – самостоятельный материк, а не часть Южной Земл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0" name="Picture 5" descr="C:\Documents and Settings\Admin\Рабочий стол\2.jpg"/>
          <p:cNvPicPr/>
          <p:nvPr/>
        </p:nvPicPr>
        <p:blipFill>
          <a:blip r:embed="rId1"/>
          <a:stretch/>
        </p:blipFill>
        <p:spPr>
          <a:xfrm>
            <a:off x="5486400" y="304920"/>
            <a:ext cx="3086280" cy="37018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C:\Documents and Settings\Admin\Рабочий стол\3.jpg"/>
          <p:cNvPicPr/>
          <p:nvPr/>
        </p:nvPicPr>
        <p:blipFill>
          <a:blip r:embed="rId2"/>
          <a:stretch/>
        </p:blipFill>
        <p:spPr>
          <a:xfrm>
            <a:off x="457200" y="533520"/>
            <a:ext cx="472932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С конца </a:t>
            </a:r>
            <a:r>
              <a:rPr b="1" lang="en-US" sz="2500" spc="-1" strike="noStrike">
                <a:solidFill>
                  <a:srgbClr val="572314"/>
                </a:solidFill>
                <a:latin typeface="Gill Sans MT"/>
              </a:rPr>
              <a:t>XVIII</a:t>
            </a: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 в. начинается</a:t>
            </a:r>
            <a:r>
              <a:rPr b="1" lang="en-US" sz="2500" spc="-1" strike="noStrike">
                <a:solidFill>
                  <a:srgbClr val="572314"/>
                </a:solidFill>
                <a:latin typeface="Gill Sans MT"/>
              </a:rPr>
              <a:t>                              </a:t>
            </a: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 освоение Австралии. </a:t>
            </a:r>
            <a:br>
              <a:rPr sz="2500"/>
            </a:b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Вначале английское правительство </a:t>
            </a:r>
            <a:r>
              <a:rPr b="1" lang="en-US" sz="2500" spc="-1" strike="noStrike">
                <a:solidFill>
                  <a:srgbClr val="572314"/>
                </a:solidFill>
                <a:latin typeface="Gill Sans MT"/>
              </a:rPr>
              <a:t>                 </a:t>
            </a: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ссылало туда каторжан. </a:t>
            </a:r>
            <a:br>
              <a:rPr sz="3900"/>
            </a:b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3" name="Picture 2" descr="C:\Documents and Settings\Admin\Рабочий стол\6.jpg"/>
          <p:cNvPicPr/>
          <p:nvPr/>
        </p:nvPicPr>
        <p:blipFill>
          <a:blip r:embed="rId1"/>
          <a:stretch/>
        </p:blipFill>
        <p:spPr>
          <a:xfrm>
            <a:off x="0" y="4344840"/>
            <a:ext cx="1771560" cy="2513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C:\Documents and Settings\Admin\Рабочий стол\7"/>
          <p:cNvPicPr/>
          <p:nvPr/>
        </p:nvPicPr>
        <p:blipFill>
          <a:blip r:embed="rId2"/>
          <a:stretch/>
        </p:blipFill>
        <p:spPr>
          <a:xfrm>
            <a:off x="1905120" y="1905120"/>
            <a:ext cx="4762440" cy="33051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C:\Documents and Settings\Admin\Рабочий стол\8.jpg"/>
          <p:cNvPicPr/>
          <p:nvPr/>
        </p:nvPicPr>
        <p:blipFill>
          <a:blip r:embed="rId3"/>
          <a:stretch/>
        </p:blipFill>
        <p:spPr>
          <a:xfrm>
            <a:off x="0" y="1447920"/>
            <a:ext cx="1676520" cy="25146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C:\Documents and Settings\Admin\Рабочий стол\gertv.jpg"/>
          <p:cNvPicPr/>
          <p:nvPr/>
        </p:nvPicPr>
        <p:blipFill>
          <a:blip r:embed="rId4"/>
          <a:stretch/>
        </p:blipFill>
        <p:spPr>
          <a:xfrm>
            <a:off x="5029200" y="4487760"/>
            <a:ext cx="4114800" cy="23702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C:\Documents and Settings\Admin\Рабочий стол\orientation.jpg"/>
          <p:cNvPicPr/>
          <p:nvPr/>
        </p:nvPicPr>
        <p:blipFill>
          <a:blip r:embed="rId5"/>
          <a:stretch/>
        </p:blipFill>
        <p:spPr>
          <a:xfrm>
            <a:off x="6419880" y="2133720"/>
            <a:ext cx="2724120" cy="18144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8" descr="C:\Documents and Settings\Admin\Рабочий стол\1633.gif"/>
          <p:cNvPicPr/>
          <p:nvPr/>
        </p:nvPicPr>
        <p:blipFill>
          <a:blip r:embed="rId6"/>
          <a:stretch/>
        </p:blipFill>
        <p:spPr>
          <a:xfrm>
            <a:off x="2514600" y="4768920"/>
            <a:ext cx="14000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228240" y="228600"/>
            <a:ext cx="39625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Город Сидней основан как колония каторжнико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озже здесь открыли не только плодородные земли, пышные пастбища, но и золото, уголь, нефть, железные руды, марганец, цветные металлы…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0" name="Picture 4" descr="untitled"/>
          <p:cNvPicPr/>
          <p:nvPr/>
        </p:nvPicPr>
        <p:blipFill>
          <a:blip r:embed="rId1"/>
          <a:stretch/>
        </p:blipFill>
        <p:spPr>
          <a:xfrm>
            <a:off x="4343400" y="2362320"/>
            <a:ext cx="4495680" cy="41050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C:\Documents and Settings\Admin\Рабочий стол\5.jpg"/>
          <p:cNvPicPr/>
          <p:nvPr/>
        </p:nvPicPr>
        <p:blipFill>
          <a:blip r:embed="rId2"/>
          <a:stretch/>
        </p:blipFill>
        <p:spPr>
          <a:xfrm>
            <a:off x="6477120" y="304920"/>
            <a:ext cx="2352600" cy="1981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C:\Documents and Settings\Admin\Рабочий стол\Tahiti.jpg"/>
          <p:cNvPicPr/>
          <p:nvPr/>
        </p:nvPicPr>
        <p:blipFill>
          <a:blip r:embed="rId3"/>
          <a:stretch/>
        </p:blipFill>
        <p:spPr>
          <a:xfrm>
            <a:off x="3429000" y="228600"/>
            <a:ext cx="289548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Содержимое 2"/>
          <p:cNvSpPr/>
          <p:nvPr/>
        </p:nvSpPr>
        <p:spPr>
          <a:xfrm>
            <a:off x="0" y="500040"/>
            <a:ext cx="3929040" cy="60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лощадь материка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7,6 млн км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амая высокая вершина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г. Костюшко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2228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амая глубокая впадина – котловина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озера Эйр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-16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Это самый маленький по площади материк Земли, самый засушливый, самый безлес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4" descr="aus"/>
          <p:cNvPicPr/>
          <p:nvPr/>
        </p:nvPicPr>
        <p:blipFill>
          <a:blip r:embed="rId1"/>
          <a:stretch/>
        </p:blipFill>
        <p:spPr>
          <a:xfrm>
            <a:off x="3857760" y="676440"/>
            <a:ext cx="5143320" cy="4500360"/>
          </a:xfrm>
          <a:prstGeom prst="rect">
            <a:avLst/>
          </a:prstGeom>
          <a:ln w="0">
            <a:noFill/>
          </a:ln>
        </p:spPr>
      </p:pic>
      <p:pic>
        <p:nvPicPr>
          <p:cNvPr id="355" name="Блок-схема: узел 5" descr=""/>
          <p:cNvPicPr/>
          <p:nvPr/>
        </p:nvPicPr>
        <p:blipFill>
          <a:blip r:embed="rId2"/>
          <a:stretch/>
        </p:blipFill>
        <p:spPr>
          <a:xfrm>
            <a:off x="7705800" y="4157640"/>
            <a:ext cx="371520" cy="378000"/>
          </a:xfrm>
          <a:prstGeom prst="rect">
            <a:avLst/>
          </a:prstGeom>
          <a:ln w="0">
            <a:noFill/>
          </a:ln>
        </p:spPr>
      </p:pic>
      <p:sp>
        <p:nvSpPr>
          <p:cNvPr id="356" name="TextBox 6"/>
          <p:cNvSpPr/>
          <p:nvPr/>
        </p:nvSpPr>
        <p:spPr>
          <a:xfrm>
            <a:off x="7643880" y="4357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Косц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Блок-схема: узел 7" descr=""/>
          <p:cNvPicPr/>
          <p:nvPr/>
        </p:nvPicPr>
        <p:blipFill>
          <a:blip r:embed="rId3"/>
          <a:stretch/>
        </p:blipFill>
        <p:spPr>
          <a:xfrm>
            <a:off x="6778800" y="3017880"/>
            <a:ext cx="365040" cy="37152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8"/>
          <p:cNvSpPr/>
          <p:nvPr/>
        </p:nvSpPr>
        <p:spPr>
          <a:xfrm>
            <a:off x="5862240" y="2714760"/>
            <a:ext cx="22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ловина о. Эй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Прямая со стрелкой 9" descr=""/>
          <p:cNvPicPr/>
          <p:nvPr/>
        </p:nvPicPr>
        <p:blipFill>
          <a:blip r:embed="rId4"/>
          <a:stretch/>
        </p:blipFill>
        <p:spPr>
          <a:xfrm>
            <a:off x="7236000" y="755640"/>
            <a:ext cx="457200" cy="3816360"/>
          </a:xfrm>
          <a:prstGeom prst="rect">
            <a:avLst/>
          </a:prstGeom>
          <a:ln w="0">
            <a:noFill/>
          </a:ln>
        </p:spPr>
      </p:pic>
      <p:pic>
        <p:nvPicPr>
          <p:cNvPr id="360" name="Прямая со стрелкой 10" descr=""/>
          <p:cNvPicPr/>
          <p:nvPr/>
        </p:nvPicPr>
        <p:blipFill>
          <a:blip r:embed="rId5"/>
          <a:stretch/>
        </p:blipFill>
        <p:spPr>
          <a:xfrm>
            <a:off x="4017960" y="2541600"/>
            <a:ext cx="4529160" cy="384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14"/>
          <p:cNvSpPr/>
          <p:nvPr/>
        </p:nvSpPr>
        <p:spPr>
          <a:xfrm>
            <a:off x="4786200" y="235728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000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5"/>
          <p:cNvSpPr/>
          <p:nvPr/>
        </p:nvSpPr>
        <p:spPr>
          <a:xfrm rot="16200000">
            <a:off x="7016400" y="155592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200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0-04-09T12:32:1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